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08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25.png" ContentType="image/png"/>
  <Override PartName="/ppt/media/image93.png" ContentType="image/png"/>
  <Override PartName="/ppt/media/image139.jpeg" ContentType="image/jpeg"/>
  <Override PartName="/ppt/media/image43.jpeg" ContentType="image/jpeg"/>
  <Override PartName="/ppt/media/image50.wmf" ContentType="image/x-wmf"/>
  <Override PartName="/ppt/media/image114.png" ContentType="image/png"/>
  <Override PartName="/ppt/media/image8.wmf" ContentType="image/x-wmf"/>
  <Override PartName="/ppt/media/image4.jpeg" ContentType="image/jpeg"/>
  <Override PartName="/ppt/media/image40.png" ContentType="image/png"/>
  <Override PartName="/ppt/media/image10.wmf" ContentType="image/x-wmf"/>
  <Override PartName="/ppt/media/image53.png" ContentType="image/png"/>
  <Override PartName="/ppt/media/image112.png" ContentType="image/png"/>
  <Override PartName="/ppt/media/image6.wmf" ContentType="image/x-wmf"/>
  <Override PartName="/ppt/media/image47.jpeg" ContentType="image/jpeg"/>
  <Override PartName="/ppt/media/image68.png" ContentType="image/png"/>
  <Override PartName="/ppt/media/image3.png" ContentType="image/png"/>
  <Override PartName="/ppt/media/image113.png" ContentType="image/png"/>
  <Override PartName="/ppt/media/image7.wmf" ContentType="image/x-wmf"/>
  <Override PartName="/ppt/media/image115.png" ContentType="image/png"/>
  <Override PartName="/ppt/media/image9.wmf" ContentType="image/x-wmf"/>
  <Override PartName="/ppt/media/image127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128.png" ContentType="image/png"/>
  <Override PartName="/ppt/media/image34.png" ContentType="image/png"/>
  <Override PartName="/ppt/media/image37.png" ContentType="image/png"/>
  <Override PartName="/ppt/media/image82.png" ContentType="image/png"/>
  <Override PartName="/ppt/media/image39.jpeg" ContentType="image/jpeg"/>
  <Override PartName="/ppt/media/image66.png" ContentType="image/png"/>
  <Override PartName="/ppt/media/image41.jpeg" ContentType="image/jpeg"/>
  <Override PartName="/ppt/media/image11.wmf" ContentType="image/x-wmf"/>
  <Override PartName="/ppt/media/image54.png" ContentType="image/png"/>
  <Override PartName="/ppt/media/image130.png" ContentType="image/png"/>
  <Override PartName="/ppt/media/image79.png" ContentType="image/png"/>
  <Override PartName="/ppt/media/image132.png" ContentType="image/png"/>
  <Override PartName="/ppt/media/image32.jpeg" ContentType="image/jpeg"/>
  <Override PartName="/ppt/media/image38.png" ContentType="image/png"/>
  <Override PartName="/ppt/media/image44.jpeg" ContentType="image/jpeg"/>
  <Override PartName="/ppt/media/image134.png" ContentType="image/png"/>
  <Override PartName="/ppt/media/image42.png" ContentType="image/png"/>
  <Override PartName="/ppt/media/image91.png" ContentType="image/png"/>
  <Override PartName="/ppt/media/image135.png" ContentType="image/png"/>
  <Override PartName="/ppt/media/image78.png" ContentType="image/png"/>
  <Override PartName="/ppt/media/image48.jpeg" ContentType="image/jpeg"/>
  <Override PartName="/ppt/media/image52.png" ContentType="image/png"/>
  <Override PartName="/ppt/media/image137.wmf" ContentType="image/x-wmf"/>
  <Override PartName="/ppt/media/image15.png" ContentType="image/png"/>
  <Override PartName="/ppt/media/image83.png" ContentType="image/png"/>
  <Override PartName="/ppt/media/image136.png" ContentType="image/png"/>
  <Override PartName="/ppt/media/image129.png" ContentType="image/png"/>
  <Override PartName="/ppt/media/image56.png" ContentType="image/png"/>
  <Override PartName="/ppt/media/image51.jpeg" ContentType="image/jpeg"/>
  <Override PartName="/ppt/media/image58.png" ContentType="image/png"/>
  <Override PartName="/ppt/media/image46.jpeg" ContentType="image/jpeg"/>
  <Override PartName="/ppt/media/image49.jpeg" ContentType="image/jpeg"/>
  <Override PartName="/ppt/media/image88.png" ContentType="image/png"/>
  <Override PartName="/ppt/media/image138.wmf" ContentType="image/x-wmf"/>
  <Override PartName="/ppt/media/image84.png" ContentType="image/png"/>
  <Override PartName="/ppt/media/image45.jpeg" ContentType="image/jpeg"/>
  <Override PartName="/ppt/media/image55.png" ContentType="image/png"/>
  <Override PartName="/ppt/media/image131.png" ContentType="image/png"/>
  <Override PartName="/ppt/media/image133.png" ContentType="image/png"/>
  <Override PartName="/ppt/media/image80.png" ContentType="image/png"/>
  <Override PartName="/ppt/media/image12.png" ContentType="image/png"/>
  <Override PartName="/ppt/media/image23.jpeg" ContentType="image/jpeg"/>
  <Override PartName="/ppt/media/image17.png" ContentType="image/png"/>
  <Override PartName="/ppt/media/image85.png" ContentType="image/png"/>
  <Override PartName="/ppt/media/image109.png" ContentType="image/png"/>
  <Override PartName="/ppt/media/image35.jpeg" ContentType="image/jpeg"/>
  <Override PartName="/ppt/media/image21.png" ContentType="image/png"/>
  <Override PartName="/ppt/media/image118.png" ContentType="image/png"/>
  <Override PartName="/ppt/media/image14.wmf" ContentType="image/x-wmf"/>
  <Override PartName="/ppt/media/image57.png" ContentType="image/png"/>
  <Override PartName="/ppt/media/image26.png" ContentType="image/png"/>
  <Override PartName="/ppt/media/image94.png" ContentType="image/png"/>
  <Override PartName="/ppt/media/image5.wmf" ContentType="image/x-wmf"/>
  <Override PartName="/ppt/media/image111.png" ContentType="image/png"/>
  <Override PartName="/ppt/media/image16.jpeg" ContentType="image/jpeg"/>
  <Override PartName="/ppt/media/image106.png" ContentType="image/png"/>
  <Override PartName="/ppt/media/image107.png" ContentType="image/png"/>
  <Override PartName="/ppt/media/image20.png" ContentType="image/png"/>
  <Override PartName="/ppt/media/image117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36.jpeg" ContentType="image/jpeg"/>
  <Override PartName="/ppt/media/image119.png" ContentType="image/png"/>
  <Override PartName="/ppt/media/image33.jpeg" ContentType="image/jpe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7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3.png" ContentType="image/png"/>
  <Override PartName="/ppt/media/image81.png" ContentType="image/png"/>
  <Override PartName="/ppt/media/image18.png" ContentType="image/png"/>
  <Override PartName="/ppt/media/image86.png" ContentType="image/png"/>
  <Override PartName="/ppt/media/image19.png" ContentType="image/png"/>
  <Override PartName="/ppt/media/image87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0.png" ContentType="image/png"/>
  <Override PartName="/ppt/media/image10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A8C3-FE4E-4123-845A-7285D3ED17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решения Фирмы «1С»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T –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уровне архитектуры 1С:Управление производственным предприятием состоит из двух частей: платформа и конфигур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латформа предоставляет технические средства для разработки и выполнения кода конфигурации, взаимодействие с СУБД. Платформа является основанием для разработки и выполнения функционала конфигур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фигурация отвечает за функциональные возможности, доступные пользов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траслевые конфигурации создаются на основании типовых конфигураций и наиболее гибко учитывают уникальные особенности бизнеса в конкретных отрасл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специализированные конфигурации разрабатываются как оригинальные конфигурации и учитывают особенности определенного направления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функциональные возможности в порядке развития платфо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вер 1С:Предприятие 8 позволяет организовать вычислительный кластер состоящий из нескольких узлов организованных на разных серверах для обеспечения необходимого уровня быстродействия с возможностью масштаб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ализована работа кластера в операционных система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еализована поддержка нескольких СУБ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файловая (свой формат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cle Databa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SQ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IBM DB2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greSQ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лиентской часть 1С:Предприятие 8 работает под управлением О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Windo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сервера 1С:Предприятие 8, начиная с версии 8.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ализована динамическая балансировка нагрузки позволяющая оптимизировать быстродейств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еспечивается отказоустойчивость за счет механизма резервирования класте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еализована работа клиентской части 1С:Предприятие по технологии «тонкого клиента» под управлением О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Windo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ализована работа клиентской части 1С:Предприятие через веб браузер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Explore, Mozilla Firefox, Google chrome, Safa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работа в интернет браузерах поддерживается в О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Windows, Linux, Mac O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реализована работа в разных часовых пояс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в состав платформа 1С:Предприятие 8.2 входит новый прогрессивный инструментарий и средства отладки для разработки современных при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развития платформы 1С:Предприятие 8 до версии 8.2 предоставляются нов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зд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высокой слож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перативное развертыв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птимизация затрат на ИТ-инфраструктур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игурация - это функциональная составляющая, отвечающая за характеристик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ы. Конфигурации Управление производственным предприятием представлены в двух варианта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типовая конфигурация поставляется с открытым кодом, что дает возможность создания оригинального функционала необходимого для работы конкретного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траслевые конфигурации разрабатываются на основании типовой конфигурации Управление производственным предприятием, некоторые участки кода отраслевого функционала защищены и не доступны для модификации. В открытые участки кода можно вносить изменения, сохраняется возможность доработки и создания оригинального функциона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Times New Roman"/>
              </a:rPr>
              <a:t>Локализация под национальные законода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использования функционал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 с учетом законодательства различных стран предназначены локализованные версии для Украины, Казахстана и Беларус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англоязычных сотрудников разработана версия с интерфейсом на английском язы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Специализированные программные проду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Функциональные возможност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    могут быть расширены за счет интеграции с другими программными продуктами а единой платформе «1С:Предприятие 8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Консолид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Документооб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корпоративными финан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PDM Управление инженерными да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DM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Управление нормативно-справочн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ТОИР Управление ремонтами и обслуживанием оборуд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ТО Материально-техническое обеспе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оектным офис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Инвентаризация и управление имуще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Аренда и управление недвижим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CRM ПРО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-Логистика:Управление складом (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-Логистика:Управление перевозками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 (T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Автотранспор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Центр спутникового мониторинга ГЛОНАСС/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С: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TIL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Управление информационными технологиями пред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ущественное сокращение сроков внедрения и снижение совокупной стоимости владения возможно при использовании отраслевых решений, созданных на баз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ашиностроение программно–методический комплек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оектной организаци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строительной организаци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ремонт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транспорт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роцессное производство. Химия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С:Горно-добывающая промыш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Фарм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сельскохозяйственным предприят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тицефабри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Спиртовое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Ликероводочный и винный зав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иво-безалкогольный комб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С:Рыбопере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Лесозав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олокозав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ясокомб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мукомольно-крупя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Хлебобулочное и кондитерское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оли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Девелопмент и управление недвижим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Риэлтор. Управление продажами недвиж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Энергетика. Управление распределительной сетевой компан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теплосе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водокана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едприятием ЖК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ереработкой отходов и вторсыр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Комбинат ЖБ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9ABC-29C1-496B-B2CF-E8345F6379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пример построения Единого  информационного пространства, построенного на базе 1С:Управление производственным предприятием и других решениях системы «1С:Предприятие 8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уровне дирекции возможно использовать специальный инструментарий «Монитор эффективности» для контроля важных финансовых и количественных показателей бизнеса, а так же совместное решение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Система сбалансированных показат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Финансовой службы и Планового отдела в конфигурации предусмотрены инструменты управления денежными средствами (казначейство) и бюджетир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 1С:Консолидация позволяет консолидировать ключевые показатели деятельности, бюджеты и потоки денежных средств, данные отчетности по РСБУ и МСФО. Совместное использование 1С:Консолидации с 1С:Управление производственным предприятием позволяет реализовывать эффективную систему контроллинга и управлять группами компаний на современном уров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Документооборот обеспечит поддержку системы документооборота предприя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приятий, занимающихся проектной деятельностью, подойдет отраслевое решение 1С:Управление проектно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отчетности по международным стандартам может использовать функционал МСФО в 1С:Управление производственным предприятием или специализированное решение 1С:Управление корпоративными финансами с расширенными возможностями по МСФО и бюджетирова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хгалтерия получит весь необходимый инструментарий для регламентированного учета и расчета заработной платы и Информационно-технологическое сопровождение Фирмы «1С». Продукт 1С:Инвентаризация позволит существенно упростить процедуры контроля за сохранностью имущества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кадров может использовать подсистему Управления персоналом и совместное решение 1С:Оценка персонала.  Отдел труда и заработной платы получает расширенный функционал по нормированию трудовых расценок, для автоматизации данных работ есть возможность совместного использования специализированного решения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правление инженерными данн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й отдел имеет возможность работы с договорами в едином информационном пространстве с другими службами, используя функции учета договоров в 1С:Управление производственным предприятием и обмена данными по договорам между 1С:Управление производственным предприятием и 1С:Докуменооборо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эффективной работы ИТ службы рекомендуем использовать совместно с 1С:Управление производственным предприятием специализированное решение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правление информационными технологиями предприятия, разработанное полностью в среде управляемого приложения 1С:Предприятия 8.2 и позволяющее работать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иента из любой точки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отдела материально – технического снабжения предоставляются специальные инструменты для управления договорами, планирования и управления закупками, для крупных компаний предназначено решение 1С:МТО Материально-техническое обеспечение, поддерживающее управление закупочной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еятельность предприятия связана с лабораторной оценкой качества сырья, Лаборатория может отражать результаты замеров в подсистеме Сертификации продукции в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кладах можно использовать складской функционал 1С:Управление производственным предприятием, поддерживающий штрих-кодиро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I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тки, данные электронных весов и другие необходимые для современной организации учета технологии. Решение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Логистика:Управление складом позволяет максимально эффективно организовать адресное хранение материалов и управление складской логисти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ирование деятельности производства, осуществляемое в отделе главного технолога и главного конструктора, может осуществляться на должном уровне с использованием единого классификатора структуры изделий в 1С:Управление производственным предприятием и специализированного решения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правление инженерными данными, позволяющего реализовать систему управления жизненным циклом изделия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 Для предприятий, использующих множество информационных систем как на базе 1С:Предприятия так и на других платформах, будет полезно решение 1С:Управление нормативно-справочной информацией (1С:НС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Документооборот может использоваться как связующее звено управленческих процессов между всеми службам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Автоматизированного управления технологическими процессами и контрольно-измерительными приборами и отдел метрологии по достоинству оценят развитые средства интеграции, поддерживаемые 1С:Предприятием 8.2 и позволяющие получать данные в 1С:Управление производственным предприятием практически с любого оборудования, имеющего интерфейс передачи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роизводстве в цехах и в производственно-диспетчерском отделе можно использовать функции объемно-календарного и посменного планирования в 1С:Управление производственным предприятием, а также функции управления производством и его диспетчеризации, реализованные в режиме тонкого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иента, что позволяет использовать данно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шение даже на устаревшей технике, установленной в цехах и цеховых кладов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у хода выполнения производственных процессов в решении отведено ключевое место, от диспетчеризации до пооперационного контроля и отражения выполнения технологических операций, выпуска полуфабрикатов и готовых изделий в управленческом и регламентированном учете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технического контроля осуществляет проверку качества произведенной продукции и вносит соответствующую информацию в подсистему управления сертификацией продукции в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женерные службы, включая Отделы Главного механика и Главного энергетика, могут использовать возможности 1С:Управление производственным предприятием по управлению основными средствами и специализированное решение 1С:ТОИР Управление ремонтами и обслуживанием оборудования. Для многих служб предприятия будет полезным использование решения 1С:Инвентаризация и управление имуществ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отметить, что планирование продаж, производства и снабжения осуществляется в единой подсистеме планирования 1С:Управление производственным предприятием с использованием информации со всех подразделений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ое внимание уделяется установлению и поддержке информативных контактов с клиентами. Автоматизировать данную деятельность позволит подсисте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ходящая в состав решения, а при необходимости расширения ее функционала – специализированное решение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того, как продукция произведена, она поступает на склад и отдел сбыта может осуществлять ее продажи. Отдел сбыта использует возможности управления договорами в 1С:Управление производственным предприятием, а так же подсистему Управления продаж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местное использование 1С:Управление производственным предприятием и перечисленных ранее логистических и транспортных решений позволяет осуществлять управление цепочками постав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едприятие имеет свою розничную сеть, рекомендуется совместно с 1С:Управление производственным предприятием использовать фронт-офис решения 1С:Розница, при этом конфигурация будет выполнять роль хэд-офиса и бэк-оф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едприятие осуществляет сервисное обслуживание своих потребителей, оно может использовать решение 1С:Управление сервисным цент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частую предприятия используют удаленные склады, работу которых удобно автоматизировать в единой базе на основе 1С:Управление производственным предприятием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иен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жники предприятия могут работать с ограниченным доступом к системе, использу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иента 1С:Предприятия 8.2: это позволяет с одной стороны организовать эффективную систему электронной коммерции, с другой стороны избежать рисков доступа к конфиденциальной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едприятие использует автотранспорт, можно использовать решение 1С-Логистика: Управление перевозками. Для транспортного цеха рекомендуется использовать решение 1С:Управление автотранспортом, позволяющее оптимизировать расходы на ГСМ и решение 1С:Спутниковый мониторинг ГЛОНАСС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ее в оперативном режиме контролировать работу транспортного парк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тделе капитального строительства может использоваться решение 1С:Управление строительно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эксплуатации может использовать решение 1С:Аренда и управление недвижимостью, интегрирующееся в 1С:Управление производственным предприятием и автоматизирующее на современном уровне работу данной служ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ые предприятия, использующие продукты 1С, могут автоматизировать деятельность заводских гостиницы и столовой с помощью решений 1С:Отель, 1С:Общепит, 1С:Рестор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охраны может воспользоваться решением 1С:Пульт централизованного наблю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хеме приведены только основные решения для бизнеса, их спектр шире, учитывая десятки отраслевых и специализированных разработо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на практике можно подобрать решение практически для любого подразделения или службы предприятия и интегрировать его в единое информационно-управленческое пространство 1С:Предприятия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поставляется с открытым кодом и предоставляет возможности по внесению изменений в функционал типовой конфигурации и возможность создания оригинального функционала необходимого для работы конкретного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зарегистрированных пользователей, с действующей подпиской ИТС, доступна типовая конфигурация 1С:Библиотека стандартных подсистем, на основании которой можно оперативно разрабатывать отдельные модули или целые под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аждого предприятия существующие системы являются не только определенным активом, но и элементом обеспечивающим процессы жизнедеятельности предприятия в целом. Поэтому ввод в эксплуатац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ы тесно связан со следующими задач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еренос исторических данных из существующих сист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интеграция с существующими систем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возможность переноса или разработки ключевого функционала из существующих сист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Предприятие 8 является открытой системой и предоставляет возможность для интеграции практически с любыми внешними программами и оборудованием на основе общепризнанных открытых стандартов и протоколов передачи дан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133640" y="744480"/>
            <a:ext cx="4533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ая интеграция практически с любыми внешними программами (например, технологическая подготовка производства, система «клиент-банк») и оборудованием (например, контрольно-измерительные приборы или складские терминалы сбора данных, принтеры и сканеры штрих кодов) на основе общепризнанных открытых стандартов и протоколов передачи данных, поддерживаемых платформой «1С:Предприятие 8.2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а интегр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чтовые сообщения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ерви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м соеди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ive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ion Clie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механизм XD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работа с файлами (.dbf, 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x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внешнее соедин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теграция с существующими систем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для систем на платформе 1С:Предприятие ранних версий возможна интеграция на уровне обмена данны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для систем на платформе 1С:Предприятие 8 версий 8.0, 8.1 и 8.2 возможна интеграция на уровне ко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для систем, разработанных на других платформах, возможна интеграция на уровне обмена данн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зможность переноса или разработки функционала из существующих сист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возможен перенос функционала с разработанного на платформе 1С:Предприятие 8, версий 8.0 и 8.1 без поддержки режима управляемого прилож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для переноса функционала с других платформ необходима повторная разработка функционала при помощи инструментария платформы 8.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я разделена на две части: Обзорная информация и информация, рассказывающая 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Обзорная информа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Роль ИТ- директора на предприят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1С:Управление производственным предприятием на рынке ERP-сист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3. Присутствие программных решений 1С на рынк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4. Почему выбирают ERP-систему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ERP-система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Как 1С:Управление производственным предприятием отвечает ключевым требованиям предъявляемым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Переход с существующих систем, интеграция с существующими системами, перенос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3. Обучение персонала и повышение квал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4. Планирование расходов на внедрение и сопровожд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ы 1С:Управление производственным предприяти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5. Мониторинг состоя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6. Результаты от внедрения по статистике 1С и данны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внедрении ERP-системы повышаются требования к персоналу, возникает необходимость повышения квалификации и получения навыков работы с новой систем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повышения квалификации и получения навыков работы с 1С:Управление производственным предприятием существует ряд вариан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учение пользователей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бучение программистов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бучение технических специалис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самостоятельная подготовка всех специали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учение пользователей проводится на специализированных курсах в ЦСО (Центрах Сертифицированного Обучения) или на специальном курсе в рамках проекта внедрения ERP-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учение программистов проводится на специализированных курсах в ЦСО, так же доступны специальные комплекты для обучения программированию, которые можно приобрести в магазинах 1С:Интерес или через партн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учение технических специалистов проводится на специализированных курсах в ЦСО, курсы предназначены для системных администраторов. В процессе обучения специалисты получают необходимые навыки по развертыванию и сопровождению систем на платформе 1С:Предприятие 8. В процессе обучения каждый специалист самостоятельно выполняет все необходимые опер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амостоятельного обучения доступна документация и методическая литература. Документация поставляется в составе поставки 1С:Управление производственным предприятием. При необходимости, через партнеров, можно приобрести дополнительно необходимое количество кни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ая методическая литература доступна в магазинах 1С:Интерес, через партнеров и в различных книжных магазин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айте Фирмы «1С» размещены материалы с которыми будет полезно ознакомиться широкому кругу специалистов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упные источники информации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Информация на сайте http://v8.1c.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обзор возможностей решений на 1С:Предприятие 8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ответы на часто задаваемые вопро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3. информация по внедр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чебные курс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курсы по конфигурированию, внедрению платформы и прикладных решений, очные и Интернет-кур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ддержка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обновления платформы и конфигурации, тестовые релиз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ИТ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более 700 страниц информации, примеры разработ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ниги, статьи, букле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1. для начинающих, для профессионал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Учебные версии П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1. для разработчика, для бухгалт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а «1С» рекомендует пользователям осуществлять внедрение 1C:Управление производственным предприятием в тесном сотрудничестве с партнерами фирмы «1С», имеющими необходимые компетенции в области комплексной автоматизации предприятий на платформе «1С:Предприятие 8», штат сертифицированных специалистов. Партнеры, имеющие статус Центра компетенции по производству (ЦКП) представлены на сайте: http://www.1c.ru/rus/partners/ckp.js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ложных случаях, когда выбор затруднен (например, холдинговое внедрение в нескольких регионах, внедрение, требующее специализированных знаний, внедрение в регионе, где нет партнеров ЦКП), Фирма «1С» консультирует клиентов по вопросу выбора партнера при обращении на solutions@1c.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ность в финансировании при внедрении ERP-системы включают в себ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купку или модернизацию оборуд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иобретение СУБ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иобретение комплекта поставки ERP-сис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конфигурация, сервер, лицензии (1-5-10-50-100-300-500 пользователе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финансирование внедре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финансирование обуч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1. системных администраторов, пользователей, программистов, консульта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сопровождение и развитие ERP-сис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обновление (подписка на ИТС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становка регулярных обновл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доработка существующего функционала или разработка новог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вышение квалификации и обучение новых сотруд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модернизация и обслуживание оборуд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выполнение раб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1. своими силами: расходы на специалистов в штате компа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2. аутсорсинг: расходы на постоянных или разовых внешних специали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оянный рост роли информационных технологий в обеспечении конкурентных преимуществ бизнеса повышает требования к объективности оценок отдачи вложенных в ИТ-структуру предприятия  финансовых ресурсов. Рассмотрение проекта внедрения комплексной информационной системы в качестве инвестиционного проекта позволяет оценить эффективность инвестиций в соответствии с общепризнанными критериями и показателями. ИТ-департамент перестает быть просто «просителем» средств, а превращается в инициатора эффективного инвестиционного проек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ие методы оценки эффективности инвестиционных проектов предполагают необходимость оценки «доходной» и «затратной» части проектов с последующей их интеграцией при расчете обобщенного «денежного потока» проекта. Оценка «затратной» части не представляет существенной сложности. Основная сложность - в оценке эффектов от реализации проекта внедрения, т. е. оценки «доходной» ча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им ключевые факторы экономической эффективности: доход (обеспечение роста в обеспечиваемых бизнес-процессах), низкие эксплуатационные и административно-управленческие затраты, снижение налоговых и внереализационных выплат, оптимизация потребности и рост оборачиваемости оборотного капитала, снижение капитальных затрат. При условии выделения отдельных ИТ-эффектов в значимые факторы эффективности дальнейшее построение «денежного потока» является делом техники инвестиционных аналитик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атриваемый пример создан на основе опыта выполнения проектов по нескольким десяткам машиностроительных предприятий и предприятий по производству строительных материалов. В силу ограничений на раскрытие информации данные были усреднены и интерполированы на выделенные по размеру группы предприятий. В настоящее время отсутствуют единые методы оценки финансового результата внедрения информационных систем, поэтому и наше рассмотрение носит рекомендательный характер. В реальных условиях внедрения необходимо учитывать особенности конкретного производства и сложившуюся в компании практику инвести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ены пять групп предприятий по объему и сложности предполагаемого внедрения. Используются оценочные показат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масштаб предприятия – количество сотрудников на предприятии в количестве человек (100-500-1000-5000-1000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ичество активных (конкурентных) пользователей – соответствует числу приобретенных клиентских лицензий при их 100% использовании (10-50-100-500-1000 соответственно масштабу предприятия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автоматизированных рабочих мест пользователей – число рабочих мест, на которых установлено программное обеспечение и возможна работа с информационной базой (15-75-150-750-1500 соответственно масштабу предприят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финансирования, все данные приводятся в млн. руб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1С:Управление производственным предприятием + лицензия на сервер. Приобретается основная поставка и набор необходимого числа лицензий. Для небольшой по масштабу компании (100 сотрудников) в нашем примере предусмотрено приобретение программного продукта единой поставкой с клиентскими лицензия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1С:Предприятие 8. Клиентские лицензии. Для предприятий масштабом более 100 сотрудников данная статья выделяется отд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 MS SQL Server. По статистике в большинстве проектов в роли СУБД выступают решения фирм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оэтому их мы и выбрали для примера, используя данные прайса Фирмы «1С» за июль 2010 года. В настоящее время существует возможность приобретать и работать с СУБ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cle Databa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большинстве случаев выбор конкретной СУБД определяется доступностью квалифицированных кадров для ее поддержки и часто является исторически сложившимся на конкретном предприятии. В таком случае финансирование по данной статье может быть существенно минимизировано, так как все необходимые лицензии на предприятии уже присутствуют до начала выполнения про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асходы на покупку сервера. Как правило, имеющиеся на предприятии серверные ресурсы уже распределены между существующими задачами. Дополнительная нагрузка способна негативно сказаться на выполнении работ проекта внедрения и привести к сбою уже используемых механизмов. На этапе проектирования следует предусмотреть модернизацию или приобретение серверного и сетевого оборудования. В примере приведена ориентировочная стоимость моделей эконом-класса по состоянию на середину 2010 года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Расходы на внедрение (аутсорсинг в ЦКП). Схема распределения работ в каждом конкретном случае может быть разной. Но практика показывает, что грамотная помощь со стороны партнера, имеющего статус Центра компетенции по производству, способна существенно повысить результативность и качество исполнения при снижении общего объема финансирования и главное - сроков внедрения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Расходы на обучение. Обучение - задача, недостаточное внимание к которой способно существенно увеличить сроки внедрения и соответственно поставить под угрозу исполнение всего проекта. Это целая система разноцелевых по аудитории мероприятий, направленных на передачу знаний руководителям, пользователям и обслуживающим информационную базу специалистам из ИТ-подразделени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Приобретение ИТС является наименее затратной статьей на этапе эксплуат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Расходы на сопровождение системы на 3 года. Показатель, остающийся в тени обсуждения, но имеющий высокий потенциал применения для информационных систем, построенных на основании 1С:Управление производственным предприятием. Состав финансируемых статей по сопровождению и развитию ERP-сис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1. обновление (подписка на ИТС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2. установка регулярных обновл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3. доработка существующего функционала или разработка новог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4. повышение квалификации и обучение новых сотруд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5. модернизация и обслуживание оборуд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6. выполнение раб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6.1. своими силами: расходы на специалистов в штате компа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6.2. аутсорсинг: расходы на постоянных или разовых внешних специали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я всех показателей представлены в таблице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дельные финансовые параметры для выбранных групп предприятий составляю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реднемесячный объем оборотных средств, млн. руб. – 300-225-375-2250-3750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бъем краткосрочных кредитов (20% оборотных средств), млн. руб. – 6-45-75-450-750 соответственно масштабу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основе излагаемого подхода лежит разделение всех затрат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единовременные - собственно работы по запуску информационной системы в промышленную эксплуатаци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текущие - затраты на эксплуатацию и сопровож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общенные значения по статьям расходования представлены в табл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зультат автоматизации можем определить как сумму полученных экономических эффектов минус общая стоимость затрат. Оценка эффективности инвестиционных вложений строится либо путем отношения результата к затратам, либо определяется как разница между результатом и затрат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реходя к оценке результатов внедрения, следует отметить, что влияние на денежные потоки и показатели реальных бизнес-процессов, изменяющихся в процессе внедрения, не имеет однозначных количественных оценок. Большинство  показателей носит качественный характер: в частности, повышение устойчивости работы программного обеспечения, снижение количества ошибок в данных, увеличение объема задач, которые решаются в единицу времени, повышение скорости прохождения документации и так далее. Количество этих факторов достаточно велико. Объединить их в единую расчетную модель, которая проецировала бы их на денежные потоки компании, непросто. Одним из наглядных и измеримых результатов является оптимизация потребности в привлечении и рост оборачиваемости оборотного капитала, который можно оценить с использованием коэффициента рентабельности инвестиций (ROI) - финансового показателя, характеризующего доходность инвестиционных в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инансовые результа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нижение потребности в оборотных средствах (млн. руб. в месяц) – 3,3-26-42-249-415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экономия за счет снижения объема привлеченных денег (при ставке 14% годовых) за 3 года (млн. руб.) – 1,6-12-20-119-198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рок окупаемости инвестиций, лет – 1,8-1,7-1,7-1,0-1,0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ROI (отношение финансового выигрыша к сумме инвестиций) за 3 года – 1,94-1,98-1,97-3,52-3,42 соответственно масштабу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атистике Фирмы «1С» и данны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результаты внедрения (для предприятий с позаказным типом производства) могут быть отражены показателями, приведенными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ные показатели сгруппированы в четыре групп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Запас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снижение объемов материальных запасов на 30-4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сокращение затрат на приобретение и хранение сырья и материал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3. снижение доли несвоевременных поставок на 80-9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4. снижение объема незавершенного производства на 20-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оротные сред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снижение объема привлечения краткосрочных финансовых ресурс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увеличение оборачиваемости денежных средств на 3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казатели, характеризующие оперативность и эффектив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сокращение времени подготовки документов до 6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2. сокращение времени подготовки регламентированной отчетности до 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казатели, влияющие на рыночную стоимость компан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сокращение налоговых рисков до 5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2. снижение стоимости привлечения капитала до 1% став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акторы, обеспечивающие инвестиционную привлекатель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тратегия компании, бизнес-планы, понятные для инвесторов и кредит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эффективная структура корпоративного управления, использующая достоверную и своевременную управленческую информаци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налоговая политика и юридическая структура, не создающие повышенные рис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ачественная финансовая отчетность, в том числе по международным стандарт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опытный топ-менеджмен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важно правильно позиционировать роль ИТ-директора на предприят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временных предприятиях ИТ-директор является одной из ключевых фигур в команде топ-менеджмента. Он выполняет важные стратегические и тактические функции, направленные на решение важных задач бизнес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втоматизация и поддержка бизнес-процессов компа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еспечение непрерывности бизнес-процес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беспечение внешних и внутренних коммуникаций компа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обеспечение информационной безопасности бизнеса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о или поздно практически перед каждым ИТ-директором встает задача выбора ERP-системы для компании или группы комп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проекта создания информационно-управленческой системы на базе 1С:Управление производственным предприятием повышает инвестиционную привлекательность и капитализацию компании за сч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строения качественной системы управления бизнес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еспечения прозрачности для инвест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беспечения сохранности конфиденциальных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ддержки стратегии развития бизне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низкой совокупной стоимости влад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высоких финансовых и экономических результа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нижение объема привлечения краткосрочных финансовых ресурсов до 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увеличение оборачиваемости денежных средств до 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 сокращение затрат на приобретение и хранение сырья и материалов до 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 снижение объема незавершенного производства до 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ая окупаемость инвестиций в постро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ы на основании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рок окупаемости проекта от 1 года до 2 лет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еличи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вложенные в проект средства составляет значение от 2 до 3,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обеспечения эффективной работы ERP-систем на основе 1С:Управление производственным предприятием рекомендуется использовать 1С:Корпоративный инструментальный пакет (является самостоятельным программным продуктом, поставляется отдельно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ый инструментальный пакет позволяет провести анализ узких мест, выработать необходимые меры, и повысить производительность и масштабируемость внедряемой или уже внедрен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ый инструментальный пакет наиболее полезен при внедрении средних и крупных корпоративных информационных систем, характеризующихся большой нагрузкой на систему и большим количеством рабочих мес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ентр контроля качества - предназначен для обеспечения эффективной и надежной работы 1С:Предприятия 8 за счет обеспечения своевременного и правильного технического обслуживания системы. Центр контроля качества содержит полный перечень и подробные описания всех технологических требований, регламентов и процедур, необходимых для эффективной работы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ентр управления производительностью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инструмент мониторинга и анализа производительности клиент-серверных информационных систем на платформе 1С:Предприятие 8. Центр управления производительностью предназначен для оценки производительности системы, сбора подробной технической информации об имеющихся узких местах и анализа этой информации с целью дальнейшей оптим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-центр – инструмент автоматизации многопользовательских нагрузочных испытаний информационных систем на платформе 1С:Предприятие 8. С его помощью можно моделировать работу предприятия без участия реальных пользователей, что позволяет оценивать применимость, производительность и масштабируемость информационной системы в реаль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ное тестирование - в состав Корпоративного инструментального пакета включен инструмент «Сценарное тестирование», предназначенный для автоматизации функционального тестирования конфигураций на платформе 1С:Предприятие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4AD7-9E38-4965-BD52-A86418E5E4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Ни месяца без результата!» - основная идея ТБ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БР - это сокращение сроков выполнения проектов и разумная стоимос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хнология предназначена для внедрения любых тиражных (типовых или отраслевых) решений в рамках комплексных проектов на малом рынке, для автоматизации предприятий среднего рынка, а в ряде случаев и для корпоративного сегмента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БР - это технология внедрения программных продуктов на базе 1С:Предприятие, направленная на получения быстрых, качественных, регулярных (в идеале - ежемесячных) результатов, имеющих ценность для Заказчика и обеспечивающая Исполнителю получение регулярного финанс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хнологии снижения транзакционных издержек за счет устранения всех неэффективных действии за счет примен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технология облегченного проектного документирования – шабло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технологии определения требований в ходе презентационного семинара или ролевого тренинг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технология подготовки руководства пользователя в ходе обучения совместно с пользовател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организация непрерывной, быстрой и эффективной обратной связи от заказчика с использованием реглам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информационная система поддержки ТБ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труктурировать и излагать задачи и проблемы ИТ-подразделения на языке, понятном менеджменту компа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 понятном виде показать руководству компании эффективность работы ИТ-подразделение в понятном ему виде, обосновать необходимые ресур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продук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управление ИТ-активами и конфигурациями – единое хранилище информации об ИТ-инфраструктуре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сбор и предоставление информации для всех других процесс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правление инцидентами – регистрация, устранение и быстрое возобновление предоставления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управление проблемами – установление корневой причины повторяющихся инцидентов, предотвращение будущих сбое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связка с типовыми конфигурациями 1С на уровне измеримых критериев качества работы ИТ-подразделения и разделения затр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поддержка процессов согласно методоло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IL v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решений фирмы «1С» на рынке систем управления предприятием в России в денежном выражении по итогам 2010 года составляет 26 %. Фиксируется устойчивый рос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новых экономических условиях особенно важ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выбирать систему не по рекламе, а по отзывам реальных пользов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спешность внедрения 1С:Предприятие 8 подтверждена более чем 10 000 отзывами и рекомендательными письмами, подписанными представителями руководства предприятий и размещенными на сайте Фирмы «1С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при самостоятельном ознакомлении с отзывами и рекомендательными письмами пользователей можно настроить поиск по нужным фильтрам, 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1. отрасль и сфера дея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2. автоматизированные фун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3. программный продукт, внедренный в ходе про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4. количество автоматизированных рабочих мес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данном слайде представлен список организаций, использующих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артнеру рекомендуется вставить путем замещения части представленных вариантов своими внедрениями (главное, чтобы был соблюден масштаб представляемых предприятий и сохранена отраслевая специфика, ориентированная на конкретного потенциального заказчик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укт успешно используется у крупных корпоративных заказчиков с большим количество автоматизированных рабочих мес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е масштабные проекты по числу автоматизированных рабочих мест, подтвержденные письмами клиентов (ТОП 1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01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ТРАНСМАШХОЛДИНГ (в группе компа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212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1200" spc="-1" strike="noStrike">
                <a:solidFill>
                  <a:srgbClr val="1c1c1c"/>
                </a:solidFill>
                <a:latin typeface="Times New Roman"/>
              </a:rPr>
              <a:t>ГАЗПРОМ (внедрение в группе компа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76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ОАО «ЮниМилк» (в группе компа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35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ОАО «РусГидро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ОАО «ОГК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5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7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УК ООО «ТМС групп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ЗАО «ЭНЕРГОПРОМ МЕНЕДЖМЕН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ОАО «Амурметалл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1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—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ГРУППА ЛСР (в группе компа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51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  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— КАМАЗ (внедрение в группе компа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отзывами клиентов можно ознакомиться на сайте www.1с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правочнике внедренных ре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 второй части презентац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ак 1С:Управление производственным предприятием отвечает ключевым требованиям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акие возможности для современных предприятий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а на основании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ак учитываются уникальные особенности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ереход с существующих систем, интеграция с существующими системами, перенос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Обучение персонала и повышение квалифик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Планирование расходов на внедрение и сопровожд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ы 1С:Управление производственным предприяти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Мониторинг состоя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гаемые результаты от внедрения информационной системы по статистике Фирмы «1С» и данны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требования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ам оцениваются по следующим критер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функциональность, соответствие уникальным особенностям бизнеса (отраслевая специфика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быстродействие, отказоустойчивость, масштабиру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возможность и инструментарий доработки функционал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интеграция с существующими систем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требования к персоналу, обучение персонала, повышение квал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стоим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мониторинг системы, сбор статистики для анализа факторов, влияющих на быстродейств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наличие проверенной методика технологии быстрого внедрения (ТБР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8720" y="1196640"/>
            <a:ext cx="8746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4" marL="747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5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6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3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8256600" y="6499080"/>
            <a:ext cx="7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57E4-FA90-45F2-872E-F9E466C16DA6}" type="slidenum">
              <a:rPr b="1" lang="ru-RU" sz="2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-360" y="6622920"/>
            <a:ext cx="81723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44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440" indent="0" algn="ctr"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lvl="2" marL="138240" algn="ctr">
              <a:spcBef>
                <a:spcPts val="300"/>
              </a:spcBef>
              <a:spcAft>
                <a:spcPts val="3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lvl="3" marL="5684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b0917"/>
              </a:solidFill>
              <a:latin typeface="Arial"/>
            </a:endParaRPr>
          </a:p>
          <a:p>
            <a:pPr lvl="4" marL="747720" algn="ctr">
              <a:spcBef>
                <a:spcPts val="3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5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6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1.png"/><Relationship Id="rId34" Type="http://schemas.openxmlformats.org/officeDocument/2006/relationships/image" Target="../media/image82.png"/><Relationship Id="rId35" Type="http://schemas.openxmlformats.org/officeDocument/2006/relationships/image" Target="../media/image83.png"/><Relationship Id="rId36" Type="http://schemas.openxmlformats.org/officeDocument/2006/relationships/image" Target="../media/image84.png"/><Relationship Id="rId37" Type="http://schemas.openxmlformats.org/officeDocument/2006/relationships/image" Target="../media/image85.png"/><Relationship Id="rId38" Type="http://schemas.openxmlformats.org/officeDocument/2006/relationships/image" Target="../media/image86.png"/><Relationship Id="rId39" Type="http://schemas.openxmlformats.org/officeDocument/2006/relationships/image" Target="../media/image87.png"/><Relationship Id="rId40" Type="http://schemas.openxmlformats.org/officeDocument/2006/relationships/image" Target="../media/image88.png"/><Relationship Id="rId41" Type="http://schemas.openxmlformats.org/officeDocument/2006/relationships/image" Target="../media/image89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87.png"/><Relationship Id="rId49" Type="http://schemas.openxmlformats.org/officeDocument/2006/relationships/image" Target="../media/image96.png"/><Relationship Id="rId50" Type="http://schemas.openxmlformats.org/officeDocument/2006/relationships/image" Target="../media/image97.png"/><Relationship Id="rId51" Type="http://schemas.openxmlformats.org/officeDocument/2006/relationships/image" Target="../media/image98.png"/><Relationship Id="rId52" Type="http://schemas.openxmlformats.org/officeDocument/2006/relationships/image" Target="../media/image99.png"/><Relationship Id="rId53" Type="http://schemas.openxmlformats.org/officeDocument/2006/relationships/image" Target="../media/image100.png"/><Relationship Id="rId54" Type="http://schemas.openxmlformats.org/officeDocument/2006/relationships/image" Target="../media/image101.png"/><Relationship Id="rId55" Type="http://schemas.openxmlformats.org/officeDocument/2006/relationships/image" Target="../media/image102.png"/><Relationship Id="rId56" Type="http://schemas.openxmlformats.org/officeDocument/2006/relationships/image" Target="../media/image103.png"/><Relationship Id="rId57" Type="http://schemas.openxmlformats.org/officeDocument/2006/relationships/image" Target="../media/image104.png"/><Relationship Id="rId58" Type="http://schemas.openxmlformats.org/officeDocument/2006/relationships/image" Target="../media/image105.png"/><Relationship Id="rId59" Type="http://schemas.openxmlformats.org/officeDocument/2006/relationships/image" Target="../media/image106.png"/><Relationship Id="rId60" Type="http://schemas.openxmlformats.org/officeDocument/2006/relationships/image" Target="../media/image107.png"/><Relationship Id="rId61" Type="http://schemas.openxmlformats.org/officeDocument/2006/relationships/image" Target="../media/image108.png"/><Relationship Id="rId62" Type="http://schemas.openxmlformats.org/officeDocument/2006/relationships/image" Target="../media/image109.png"/><Relationship Id="rId63" Type="http://schemas.openxmlformats.org/officeDocument/2006/relationships/image" Target="../media/image110.png"/><Relationship Id="rId64" Type="http://schemas.openxmlformats.org/officeDocument/2006/relationships/image" Target="../media/image111.png"/><Relationship Id="rId65" Type="http://schemas.openxmlformats.org/officeDocument/2006/relationships/image" Target="../media/image112.png"/><Relationship Id="rId66" Type="http://schemas.openxmlformats.org/officeDocument/2006/relationships/image" Target="../media/image113.png"/><Relationship Id="rId67" Type="http://schemas.openxmlformats.org/officeDocument/2006/relationships/image" Target="../media/image114.png"/><Relationship Id="rId68" Type="http://schemas.openxmlformats.org/officeDocument/2006/relationships/image" Target="../media/image115.png"/><Relationship Id="rId69" Type="http://schemas.openxmlformats.org/officeDocument/2006/relationships/image" Target="../media/image116.png"/><Relationship Id="rId70" Type="http://schemas.openxmlformats.org/officeDocument/2006/relationships/image" Target="../media/image117.png"/><Relationship Id="rId71" Type="http://schemas.openxmlformats.org/officeDocument/2006/relationships/image" Target="../media/image118.png"/><Relationship Id="rId72" Type="http://schemas.openxmlformats.org/officeDocument/2006/relationships/image" Target="../media/image119.png"/><Relationship Id="rId73" Type="http://schemas.openxmlformats.org/officeDocument/2006/relationships/image" Target="../media/image120.png"/><Relationship Id="rId74" Type="http://schemas.openxmlformats.org/officeDocument/2006/relationships/image" Target="../media/image121.png"/><Relationship Id="rId75" Type="http://schemas.openxmlformats.org/officeDocument/2006/relationships/image" Target="../media/image122.png"/><Relationship Id="rId76" Type="http://schemas.openxmlformats.org/officeDocument/2006/relationships/image" Target="../media/image123.png"/><Relationship Id="rId77" Type="http://schemas.openxmlformats.org/officeDocument/2006/relationships/image" Target="../media/image124.png"/><Relationship Id="rId78" Type="http://schemas.openxmlformats.org/officeDocument/2006/relationships/image" Target="../media/image125.png"/><Relationship Id="rId79" Type="http://schemas.openxmlformats.org/officeDocument/2006/relationships/image" Target="../media/image126.png"/><Relationship Id="rId80" Type="http://schemas.openxmlformats.org/officeDocument/2006/relationships/image" Target="../media/image127.png"/><Relationship Id="rId81" Type="http://schemas.openxmlformats.org/officeDocument/2006/relationships/image" Target="../media/image128.png"/><Relationship Id="rId82" Type="http://schemas.openxmlformats.org/officeDocument/2006/relationships/image" Target="../media/image129.png"/><Relationship Id="rId83" Type="http://schemas.openxmlformats.org/officeDocument/2006/relationships/image" Target="../media/image130.png"/><Relationship Id="rId84" Type="http://schemas.openxmlformats.org/officeDocument/2006/relationships/image" Target="../media/image131.png"/><Relationship Id="rId85" Type="http://schemas.openxmlformats.org/officeDocument/2006/relationships/image" Target="../media/image132.png"/><Relationship Id="rId86" Type="http://schemas.openxmlformats.org/officeDocument/2006/relationships/image" Target="../media/image133.png"/><Relationship Id="rId87" Type="http://schemas.openxmlformats.org/officeDocument/2006/relationships/image" Target="../media/image134.png"/><Relationship Id="rId88" Type="http://schemas.openxmlformats.org/officeDocument/2006/relationships/slideLayout" Target="../slideLayouts/slideLayout3.xml"/><Relationship Id="rId8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5.png"/><Relationship Id="rId3" Type="http://schemas.openxmlformats.org/officeDocument/2006/relationships/image" Target="../media/image136.png"/><Relationship Id="rId4" Type="http://schemas.openxmlformats.org/officeDocument/2006/relationships/image" Target="../media/image136.png"/><Relationship Id="rId5" Type="http://schemas.openxmlformats.org/officeDocument/2006/relationships/image" Target="../media/image136.png"/><Relationship Id="rId6" Type="http://schemas.openxmlformats.org/officeDocument/2006/relationships/image" Target="../media/image136.png"/><Relationship Id="rId7" Type="http://schemas.openxmlformats.org/officeDocument/2006/relationships/image" Target="../media/image136.png"/><Relationship Id="rId8" Type="http://schemas.openxmlformats.org/officeDocument/2006/relationships/image" Target="../media/image136.png"/><Relationship Id="rId9" Type="http://schemas.openxmlformats.org/officeDocument/2006/relationships/image" Target="../media/image136.png"/><Relationship Id="rId10" Type="http://schemas.openxmlformats.org/officeDocument/2006/relationships/image" Target="../media/image136.png"/><Relationship Id="rId11" Type="http://schemas.openxmlformats.org/officeDocument/2006/relationships/image" Target="../media/image136.png"/><Relationship Id="rId12" Type="http://schemas.openxmlformats.org/officeDocument/2006/relationships/image" Target="../media/image136.png"/><Relationship Id="rId13" Type="http://schemas.openxmlformats.org/officeDocument/2006/relationships/image" Target="../media/image136.png"/><Relationship Id="rId14" Type="http://schemas.openxmlformats.org/officeDocument/2006/relationships/image" Target="../media/image136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rus/partners/ckp.jsp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hyperlink" Target="http://www.idc.com/home.jhtml;jsessionid=YVSITK5CPRVFWCQJAFDCFFAKBEAVAIWD" TargetMode="External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4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jpe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jpeg"/><Relationship Id="rId20" Type="http://schemas.openxmlformats.org/officeDocument/2006/relationships/image" Target="../media/image33.jpeg"/><Relationship Id="rId21" Type="http://schemas.openxmlformats.org/officeDocument/2006/relationships/image" Target="../media/image34.png"/><Relationship Id="rId22" Type="http://schemas.openxmlformats.org/officeDocument/2006/relationships/image" Target="../media/image35.jpeg"/><Relationship Id="rId23" Type="http://schemas.openxmlformats.org/officeDocument/2006/relationships/image" Target="../media/image36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image" Target="../media/image39.jpeg"/><Relationship Id="rId27" Type="http://schemas.openxmlformats.org/officeDocument/2006/relationships/image" Target="../media/image40.png"/><Relationship Id="rId28" Type="http://schemas.openxmlformats.org/officeDocument/2006/relationships/image" Target="../media/image41.jpeg"/><Relationship Id="rId29" Type="http://schemas.openxmlformats.org/officeDocument/2006/relationships/image" Target="../media/image42.png"/><Relationship Id="rId30" Type="http://schemas.openxmlformats.org/officeDocument/2006/relationships/image" Target="../media/image43.jpe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" TargetMode="External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ERP</a:t>
            </a: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 решения Фирмы «1С»</a:t>
            </a:r>
            <a:br>
              <a:rPr sz="2400"/>
            </a:b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для </a:t>
            </a: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IT – </a:t>
            </a: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иректора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3097440" cy="2292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821200" y="638172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Редакция 1.3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0501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рхитектура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RP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– системы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С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правление производственным предприятие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85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уровне архитектуры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а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ие                           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состоит из двух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сновных частей, это Платформа и Конфигурац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латформа предоставляет технические средства для разработки и выполнения кода конфигурации, взаимодействие с СУБД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нфигурация представляет собой функциональное наполнение и отвечает за функциональные возможности доступные пользователя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26920" y="3429000"/>
          <a:ext cx="7417080" cy="26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3429000"/>
                    <a:ext cx="741708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5761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зможности и преимущества платформы 1С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приятие 8, версия 8.2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1680" y="1082520"/>
            <a:ext cx="2987640" cy="46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лючевые характеристики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Поддержка нескольких СУБД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Работа кластера в операционных системах </a:t>
            </a:r>
            <a:r>
              <a:rPr b="1" lang="ru-RU" sz="1500" spc="-1" strike="noStrike">
                <a:solidFill>
                  <a:srgbClr val="1c1c1c"/>
                </a:solidFill>
                <a:latin typeface="Arial"/>
              </a:rPr>
              <a:t>Windows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 и </a:t>
            </a:r>
            <a:r>
              <a:rPr b="1" lang="ru-RU" sz="1500" spc="-1" strike="noStrike">
                <a:solidFill>
                  <a:srgbClr val="1c1c1c"/>
                </a:solidFill>
                <a:latin typeface="Arial"/>
              </a:rPr>
              <a:t>Linux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Отказоустойчивость за счет резервирования кластера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Оптимизация быстродействия за счет динамической балансировки нагрузк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Тонкий клиен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Веб–клиен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Работа в разных часовых поясах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Прогрессивный инструментарий </a:t>
            </a:r>
            <a:br>
              <a:rPr sz="1500"/>
            </a:b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и средства отладк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5516640"/>
            <a:ext cx="38163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В результат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ru-RU" sz="1500" spc="-1" strike="noStrike">
                <a:solidFill>
                  <a:srgbClr val="1c1c1c"/>
                </a:solidFill>
                <a:latin typeface="Arial"/>
              </a:rPr>
              <a:t>Создание систем высокой сложност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ru-RU" sz="1500" spc="-1" strike="noStrike">
                <a:solidFill>
                  <a:srgbClr val="1c1c1c"/>
                </a:solidFill>
                <a:latin typeface="Arial"/>
              </a:rPr>
              <a:t>Оперативное развертывани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ru-RU" sz="1500" spc="-1" strike="noStrike">
                <a:solidFill>
                  <a:srgbClr val="1c1c1c"/>
                </a:solidFill>
                <a:latin typeface="Arial"/>
              </a:rPr>
              <a:t>Оптимизация затра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16000" y="1052640"/>
            <a:ext cx="583380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920" y="-124200"/>
            <a:ext cx="5834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Функциональные возможности 1С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правление производственным предприятие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нфигурация это функциональная составляющая, именно конфигурация отвечает за функциональные характеристики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ы. Конфигурации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ы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представлены в двух вариантах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28520" indent="-12708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Типовая конфигурация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ставляется с открытым кодом, и предоставляют возможность по внесению изменений в функционал и возможность создания оригинального функционала необходимого для работы конкретного предприят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28520" indent="-12708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траслевые конфигурации разрабатываются на основании типовой конфигурации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, некоторые участки кода отраслевого функционала защищены и не доступны для модификации. В открытые участки кода можно вносить изменения, сохраняется возможность доработки и создания оригинального функционал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63800" y="114480"/>
            <a:ext cx="547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ширение возможностей  специализированными решениями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4320" y="2720880"/>
            <a:ext cx="85294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Функциональные возможности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могут быть расширены за счет интеграции с другими программными продуктами              на единой платформе «1С:Предприятие 8»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2120" y="3681360"/>
            <a:ext cx="457704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Консолидация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Документооборо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корпоративными финансам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PDM Управление инженерными данным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MDM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Управление нормативно-справочной информацией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ТОИР Управление ремонтами и обслуживанием оборудования 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МТО Материально-техническое обеспечени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проектным офис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2240" y="2370240"/>
            <a:ext cx="5248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Специализированные программные продукт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5600" y="6573960"/>
            <a:ext cx="5194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Выпущенные и запланированные к выпуску до конца 2012 г. продук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72080" y="3701880"/>
            <a:ext cx="42609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Инвентаризация и управление имуществ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Аренда и управление недвижимостью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CRM ПРОФ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-Логистика:Управление складом (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WMS)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-Логистика:Управление перевозками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(TMS)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Автотранспорт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Центр спутникового мониторинга ГЛОНАСС/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GPS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С: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ITIL 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Управление информационными технологиями предприятия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440" y="1219320"/>
            <a:ext cx="882036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Для использования функционала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                           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с учетом законодательства различных стран предназначены локализованные версии для Украины, Казахстана и Беларуси.                                                                                              Для англоязычных сотрудников разработана версия с интерфейсом на английском языке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3680" y="930240"/>
            <a:ext cx="556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Локализация под национальные законодательств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63800" y="114480"/>
            <a:ext cx="547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ширение возможностей отраслевыми решениями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7920" y="1959120"/>
            <a:ext cx="436392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ашиностроение                  программно–методический комплекс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роектной организацие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строительной организацие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ремонт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транспорт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роцессное производство. Химия 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С:Горно-добывающая промышленность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Фарм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сельскохозяйственным предприятием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тицефабрико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Спиртовое 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Ликероводочный и винный завод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иво-безалкогольный комбин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С:Рыбопереработк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Лесозавод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7280" y="1001880"/>
            <a:ext cx="81774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Существенное сокращение сроков внедрения и снижение совокупной           стоимости владения возможно при использовании отраслевых решений, созданных на базе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5600" y="6573960"/>
            <a:ext cx="5194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Выпущенные и запланированные к выпуску до конца 2012 г. продук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35520" y="1957320"/>
            <a:ext cx="39574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олокозавод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ясокомбин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мукомольно-крупя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Хлебобулочное и кондитерское 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олиграф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Девелопмент и управление недвижимостью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Риэлтор. Управление продажами недвижим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Энергетика. Управление распределительной сетевой компани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теплосетью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водоканало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редприятием ЖК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ереработкой отходов и вторсырь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Комбинат ЖБ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65040" y="5354640"/>
            <a:ext cx="8655120" cy="1163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47760" y="2651040"/>
            <a:ext cx="8667720" cy="2630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66840" y="984240"/>
            <a:ext cx="8654760" cy="16398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68560" y="46080"/>
            <a:ext cx="563544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Единая информационно-управленческая система, построенная на 1С:Управление производственным предприятием и других решениях системы «1С:Предприятие 8»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76320" y="1276200"/>
            <a:ext cx="226800" cy="1192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38160" y="3121200"/>
            <a:ext cx="353880" cy="1195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66600" y="5272200"/>
            <a:ext cx="338040" cy="1428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638280" y="1038240"/>
            <a:ext cx="608040" cy="514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423720" y="1609560"/>
            <a:ext cx="1049400" cy="455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428760" y="2100240"/>
            <a:ext cx="733320" cy="216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1"/>
          <a:stretch/>
        </p:blipFill>
        <p:spPr>
          <a:xfrm>
            <a:off x="433440" y="2343240"/>
            <a:ext cx="2506680" cy="215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2"/>
          <a:stretch/>
        </p:blipFill>
        <p:spPr>
          <a:xfrm>
            <a:off x="1514520" y="1609560"/>
            <a:ext cx="1395360" cy="216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3"/>
          <a:stretch/>
        </p:blipFill>
        <p:spPr>
          <a:xfrm>
            <a:off x="2919240" y="1609560"/>
            <a:ext cx="857520" cy="223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3805200" y="1609560"/>
            <a:ext cx="1187640" cy="216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5"/>
          <a:stretch/>
        </p:blipFill>
        <p:spPr>
          <a:xfrm>
            <a:off x="5043600" y="1609560"/>
            <a:ext cx="1903320" cy="216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6"/>
          <a:stretch/>
        </p:blipFill>
        <p:spPr>
          <a:xfrm>
            <a:off x="7010280" y="1609560"/>
            <a:ext cx="1062000" cy="216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7"/>
          <a:stretch/>
        </p:blipFill>
        <p:spPr>
          <a:xfrm>
            <a:off x="8101080" y="1616040"/>
            <a:ext cx="860400" cy="216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8"/>
          <a:stretch/>
        </p:blipFill>
        <p:spPr>
          <a:xfrm>
            <a:off x="1514520" y="1852560"/>
            <a:ext cx="1400040" cy="216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9"/>
          <a:stretch/>
        </p:blipFill>
        <p:spPr>
          <a:xfrm>
            <a:off x="1195560" y="2100240"/>
            <a:ext cx="3315960" cy="216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0"/>
          <a:stretch/>
        </p:blipFill>
        <p:spPr>
          <a:xfrm>
            <a:off x="2928960" y="1852560"/>
            <a:ext cx="857160" cy="216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1"/>
          <a:stretch/>
        </p:blipFill>
        <p:spPr>
          <a:xfrm>
            <a:off x="3795840" y="1852560"/>
            <a:ext cx="1190520" cy="216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2"/>
          <a:stretch/>
        </p:blipFill>
        <p:spPr>
          <a:xfrm>
            <a:off x="5048280" y="1847880"/>
            <a:ext cx="1054080" cy="457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3"/>
          <a:stretch/>
        </p:blipFill>
        <p:spPr>
          <a:xfrm>
            <a:off x="6143760" y="1847880"/>
            <a:ext cx="798480" cy="455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4"/>
          <a:stretch/>
        </p:blipFill>
        <p:spPr>
          <a:xfrm>
            <a:off x="7015320" y="1857240"/>
            <a:ext cx="1952640" cy="457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5"/>
          <a:stretch/>
        </p:blipFill>
        <p:spPr>
          <a:xfrm>
            <a:off x="4557600" y="2090880"/>
            <a:ext cx="428760" cy="217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6"/>
          <a:stretch/>
        </p:blipFill>
        <p:spPr>
          <a:xfrm>
            <a:off x="3762360" y="2347920"/>
            <a:ext cx="1230480" cy="216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7"/>
          <a:stretch/>
        </p:blipFill>
        <p:spPr>
          <a:xfrm>
            <a:off x="1671480" y="1066680"/>
            <a:ext cx="1043280" cy="514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8"/>
          <a:stretch/>
        </p:blipFill>
        <p:spPr>
          <a:xfrm>
            <a:off x="3100320" y="1052640"/>
            <a:ext cx="503280" cy="512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9"/>
          <a:stretch/>
        </p:blipFill>
        <p:spPr>
          <a:xfrm>
            <a:off x="4010040" y="1076400"/>
            <a:ext cx="784080" cy="512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0"/>
          <a:stretch/>
        </p:blipFill>
        <p:spPr>
          <a:xfrm>
            <a:off x="5195880" y="1028880"/>
            <a:ext cx="846000" cy="514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1"/>
          <a:stretch/>
        </p:blipFill>
        <p:spPr>
          <a:xfrm>
            <a:off x="6286680" y="1028880"/>
            <a:ext cx="420480" cy="514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2"/>
          <a:stretch/>
        </p:blipFill>
        <p:spPr>
          <a:xfrm>
            <a:off x="7272360" y="1057320"/>
            <a:ext cx="528480" cy="514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3"/>
          <a:stretch/>
        </p:blipFill>
        <p:spPr>
          <a:xfrm>
            <a:off x="8105760" y="1066680"/>
            <a:ext cx="824040" cy="515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4"/>
          <a:stretch/>
        </p:blipFill>
        <p:spPr>
          <a:xfrm>
            <a:off x="442800" y="5743440"/>
            <a:ext cx="1249560" cy="216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5"/>
          <a:stretch/>
        </p:blipFill>
        <p:spPr>
          <a:xfrm>
            <a:off x="442800" y="5996160"/>
            <a:ext cx="2484720" cy="215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6"/>
          <a:stretch/>
        </p:blipFill>
        <p:spPr>
          <a:xfrm>
            <a:off x="433440" y="6243480"/>
            <a:ext cx="2495520" cy="21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7"/>
          <a:stretch/>
        </p:blipFill>
        <p:spPr>
          <a:xfrm>
            <a:off x="1719360" y="5415120"/>
            <a:ext cx="939600" cy="515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8"/>
          <a:stretch/>
        </p:blipFill>
        <p:spPr>
          <a:xfrm>
            <a:off x="733320" y="2671920"/>
            <a:ext cx="468360" cy="515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9"/>
          <a:stretch/>
        </p:blipFill>
        <p:spPr>
          <a:xfrm>
            <a:off x="409680" y="3200400"/>
            <a:ext cx="1073160" cy="216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0"/>
          <a:stretch/>
        </p:blipFill>
        <p:spPr>
          <a:xfrm>
            <a:off x="404640" y="3438360"/>
            <a:ext cx="1076400" cy="216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1"/>
          <a:stretch/>
        </p:blipFill>
        <p:spPr>
          <a:xfrm>
            <a:off x="390600" y="3681360"/>
            <a:ext cx="1093680" cy="216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2"/>
          <a:stretch/>
        </p:blipFill>
        <p:spPr>
          <a:xfrm>
            <a:off x="399960" y="391968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3"/>
          <a:stretch/>
        </p:blipFill>
        <p:spPr>
          <a:xfrm>
            <a:off x="585720" y="4448160"/>
            <a:ext cx="755640" cy="515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4"/>
          <a:stretch/>
        </p:blipFill>
        <p:spPr>
          <a:xfrm>
            <a:off x="1500120" y="3200400"/>
            <a:ext cx="1057320" cy="216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5"/>
          <a:stretch/>
        </p:blipFill>
        <p:spPr>
          <a:xfrm>
            <a:off x="2685960" y="3219480"/>
            <a:ext cx="2184480" cy="216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6"/>
          <a:stretch/>
        </p:blipFill>
        <p:spPr>
          <a:xfrm>
            <a:off x="2681280" y="3686040"/>
            <a:ext cx="4268880" cy="216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7"/>
          <a:stretch/>
        </p:blipFill>
        <p:spPr>
          <a:xfrm>
            <a:off x="4886280" y="3205080"/>
            <a:ext cx="2060640" cy="457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8"/>
          <a:stretch/>
        </p:blipFill>
        <p:spPr>
          <a:xfrm>
            <a:off x="7048440" y="3209760"/>
            <a:ext cx="1035000" cy="21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9"/>
          <a:stretch/>
        </p:blipFill>
        <p:spPr>
          <a:xfrm>
            <a:off x="8113680" y="3448080"/>
            <a:ext cx="858960" cy="216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0"/>
          <a:stretch/>
        </p:blipFill>
        <p:spPr>
          <a:xfrm>
            <a:off x="4886280" y="3924360"/>
            <a:ext cx="2070000" cy="216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1"/>
          <a:stretch/>
        </p:blipFill>
        <p:spPr>
          <a:xfrm>
            <a:off x="2685960" y="3457440"/>
            <a:ext cx="2184480" cy="216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2"/>
          <a:stretch/>
        </p:blipFill>
        <p:spPr>
          <a:xfrm>
            <a:off x="7058160" y="3448080"/>
            <a:ext cx="1030320" cy="216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3"/>
          <a:stretch/>
        </p:blipFill>
        <p:spPr>
          <a:xfrm>
            <a:off x="8118360" y="3209760"/>
            <a:ext cx="844560" cy="216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4"/>
          <a:stretch/>
        </p:blipFill>
        <p:spPr>
          <a:xfrm>
            <a:off x="7048440" y="3924360"/>
            <a:ext cx="1924200" cy="216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5"/>
          <a:stretch/>
        </p:blipFill>
        <p:spPr>
          <a:xfrm>
            <a:off x="2676600" y="3924360"/>
            <a:ext cx="2187360" cy="21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6"/>
          <a:stretch/>
        </p:blipFill>
        <p:spPr>
          <a:xfrm>
            <a:off x="1509840" y="3919680"/>
            <a:ext cx="1063440" cy="457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7"/>
          <a:stretch/>
        </p:blipFill>
        <p:spPr>
          <a:xfrm>
            <a:off x="1500120" y="3433680"/>
            <a:ext cx="1068480" cy="457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8"/>
          <a:stretch/>
        </p:blipFill>
        <p:spPr>
          <a:xfrm>
            <a:off x="7048440" y="4176720"/>
            <a:ext cx="1922400" cy="216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9"/>
          <a:stretch/>
        </p:blipFill>
        <p:spPr>
          <a:xfrm>
            <a:off x="7058160" y="3686040"/>
            <a:ext cx="1035000" cy="21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0"/>
          <a:stretch/>
        </p:blipFill>
        <p:spPr>
          <a:xfrm>
            <a:off x="7029360" y="4981680"/>
            <a:ext cx="1949400" cy="215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1"/>
          <a:stretch/>
        </p:blipFill>
        <p:spPr>
          <a:xfrm>
            <a:off x="4000680" y="2700360"/>
            <a:ext cx="752400" cy="515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2"/>
          <a:stretch/>
        </p:blipFill>
        <p:spPr>
          <a:xfrm>
            <a:off x="2814480" y="2705040"/>
            <a:ext cx="784440" cy="5158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3"/>
          <a:stretch/>
        </p:blipFill>
        <p:spPr>
          <a:xfrm>
            <a:off x="5562720" y="2690640"/>
            <a:ext cx="777600" cy="514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64"/>
          <a:stretch/>
        </p:blipFill>
        <p:spPr>
          <a:xfrm>
            <a:off x="8220240" y="2681280"/>
            <a:ext cx="610920" cy="514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5"/>
          <a:stretch/>
        </p:blipFill>
        <p:spPr>
          <a:xfrm>
            <a:off x="7362720" y="2671920"/>
            <a:ext cx="449280" cy="5140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6"/>
          <a:stretch/>
        </p:blipFill>
        <p:spPr>
          <a:xfrm>
            <a:off x="1838160" y="2681280"/>
            <a:ext cx="457200" cy="5126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7"/>
          <a:stretch/>
        </p:blipFill>
        <p:spPr>
          <a:xfrm>
            <a:off x="2876400" y="4157640"/>
            <a:ext cx="777960" cy="514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8"/>
          <a:stretch/>
        </p:blipFill>
        <p:spPr>
          <a:xfrm>
            <a:off x="3967200" y="4181400"/>
            <a:ext cx="741240" cy="513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9"/>
          <a:stretch/>
        </p:blipFill>
        <p:spPr>
          <a:xfrm>
            <a:off x="5257800" y="4176720"/>
            <a:ext cx="482760" cy="514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0"/>
          <a:stretch/>
        </p:blipFill>
        <p:spPr>
          <a:xfrm>
            <a:off x="6238800" y="4172040"/>
            <a:ext cx="425520" cy="5173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71"/>
          <a:stretch/>
        </p:blipFill>
        <p:spPr>
          <a:xfrm>
            <a:off x="1690560" y="4443480"/>
            <a:ext cx="719280" cy="512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2"/>
          <a:stretch/>
        </p:blipFill>
        <p:spPr>
          <a:xfrm>
            <a:off x="4390920" y="4772160"/>
            <a:ext cx="966960" cy="215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3"/>
          <a:stretch/>
        </p:blipFill>
        <p:spPr>
          <a:xfrm>
            <a:off x="4390920" y="5024520"/>
            <a:ext cx="984240" cy="215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4"/>
          <a:stretch/>
        </p:blipFill>
        <p:spPr>
          <a:xfrm>
            <a:off x="3514680" y="4729320"/>
            <a:ext cx="827280" cy="515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5"/>
          <a:stretch/>
        </p:blipFill>
        <p:spPr>
          <a:xfrm>
            <a:off x="5424480" y="4743360"/>
            <a:ext cx="766800" cy="513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76"/>
          <a:stretch/>
        </p:blipFill>
        <p:spPr>
          <a:xfrm>
            <a:off x="8244000" y="4424400"/>
            <a:ext cx="630000" cy="5173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77"/>
          <a:stretch/>
        </p:blipFill>
        <p:spPr>
          <a:xfrm>
            <a:off x="7048440" y="4414680"/>
            <a:ext cx="1170000" cy="5144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78"/>
          <a:stretch/>
        </p:blipFill>
        <p:spPr>
          <a:xfrm>
            <a:off x="3009960" y="5986440"/>
            <a:ext cx="1257120" cy="457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9"/>
          <a:stretch/>
        </p:blipFill>
        <p:spPr>
          <a:xfrm>
            <a:off x="4362480" y="5986440"/>
            <a:ext cx="1120680" cy="457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0"/>
          <a:stretch/>
        </p:blipFill>
        <p:spPr>
          <a:xfrm>
            <a:off x="5591160" y="5996160"/>
            <a:ext cx="1862280" cy="215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81"/>
          <a:stretch/>
        </p:blipFill>
        <p:spPr>
          <a:xfrm>
            <a:off x="7605720" y="5977080"/>
            <a:ext cx="1370160" cy="457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82"/>
          <a:stretch/>
        </p:blipFill>
        <p:spPr>
          <a:xfrm>
            <a:off x="5595840" y="6234120"/>
            <a:ext cx="900360" cy="216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3"/>
          <a:stretch/>
        </p:blipFill>
        <p:spPr>
          <a:xfrm>
            <a:off x="6696000" y="5400720"/>
            <a:ext cx="619200" cy="514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4"/>
          <a:stretch/>
        </p:blipFill>
        <p:spPr>
          <a:xfrm>
            <a:off x="8039160" y="5415120"/>
            <a:ext cx="463320" cy="5140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85"/>
          <a:stretch/>
        </p:blipFill>
        <p:spPr>
          <a:xfrm>
            <a:off x="5786280" y="5410080"/>
            <a:ext cx="625680" cy="514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86"/>
          <a:stretch/>
        </p:blipFill>
        <p:spPr>
          <a:xfrm>
            <a:off x="4300560" y="5410080"/>
            <a:ext cx="1320840" cy="5144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87"/>
          <a:stretch/>
        </p:blipFill>
        <p:spPr>
          <a:xfrm>
            <a:off x="2752560" y="5410080"/>
            <a:ext cx="1505160" cy="5144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78920" y="6581880"/>
            <a:ext cx="522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Схема охвата зон автоматизации с учетом выпущенных продуктов на начало 2012 г. </a:t>
            </a:r>
            <a:endParaRPr b="0" lang="en-US" sz="1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2920" y="-27000"/>
            <a:ext cx="6338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озможность доработки функционал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Конфигурация </a:t>
            </a: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 поставляется с открытым кодом и предоставляет возможности по внесению изменений в функционал типовой конфигурации и возможность создания оригинального функционала необходимого для работы конкретного предприятия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Для зарегистрированных пользователей, с действующей подпиской ИТС, доступна типовая конфигурация </a:t>
            </a: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Библиотека стандартных подсистем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, на основании которой можно оперативно разрабатывать отдельные модули или целые подсистемы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920" y="-171720"/>
            <a:ext cx="5905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ереход с существующих систем, интеграция с существующими системам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6624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каждого предприятия существующие системы являются не только определенным активом, но и элементом обеспечивающим процессы жизнедеятельности предприятия в целом. Поэтому ввод в эксплуатацию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ы тесно связан со следующими задачами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еренос исторических данных из существующих сист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нтеграция с существующими система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озможность переноса или разработки ключевого функционала из существующих сист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Предприятие 8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является открытой системой и предоставляет возможность для интеграции практически с любыми внешними программами и оборудованием на основе общепризнанных открытых стандартов и протоколов передачи данных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Развитие средств интеграци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1197000"/>
            <a:ext cx="65563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5000"/>
              </a:lnSpc>
              <a:spcAft>
                <a:spcPts val="10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c1c1c"/>
                </a:solidFill>
                <a:latin typeface="Arial"/>
              </a:rPr>
              <a:t>Широкая интеграция практически с любыми внешними программами (например, 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технологическая подготовка производства, система «клиент-банк»)</a:t>
            </a:r>
            <a:r>
              <a:rPr b="0" lang="en-US" sz="1700" spc="-1" strike="noStrike">
                <a:solidFill>
                  <a:srgbClr val="1c1c1c"/>
                </a:solidFill>
                <a:latin typeface="Arial"/>
              </a:rPr>
              <a:t> и оборудованием (например, 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контрольно-измерительные приборы или складские терминалы сбора данных, принтеры и сканеры штрих кодов</a:t>
            </a:r>
            <a:r>
              <a:rPr b="0" lang="en-US" sz="1700" spc="-1" strike="noStrike">
                <a:solidFill>
                  <a:srgbClr val="1c1c1c"/>
                </a:solidFill>
                <a:latin typeface="Arial"/>
              </a:rPr>
              <a:t>) на основе общепризнанных открытых стандартов и протоколов передачи данных, поддерживаемых платформой «1С:Предприятие 8.2»</a:t>
            </a:r>
            <a:endParaRPr b="0" lang="en-US" sz="17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304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80880" y="3726000"/>
            <a:ext cx="8429760" cy="2627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rcRect l="0" t="38434" r="65537" b="42779"/>
          <a:stretch/>
        </p:blipFill>
        <p:spPr>
          <a:xfrm>
            <a:off x="380880" y="4735440"/>
            <a:ext cx="2905200" cy="493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rcRect l="0" t="19576" r="65537" b="62001"/>
          <a:stretch/>
        </p:blipFill>
        <p:spPr>
          <a:xfrm>
            <a:off x="380880" y="4240080"/>
            <a:ext cx="2905200" cy="484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rcRect l="0" t="728" r="65537" b="80849"/>
          <a:stretch/>
        </p:blipFill>
        <p:spPr>
          <a:xfrm>
            <a:off x="380880" y="3745080"/>
            <a:ext cx="2905200" cy="484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rcRect l="0" t="57655" r="65537" b="23921"/>
          <a:stretch/>
        </p:blipFill>
        <p:spPr>
          <a:xfrm>
            <a:off x="380880" y="5240160"/>
            <a:ext cx="2905200" cy="484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7"/>
          <a:srcRect l="0" t="76150" r="65537" b="354"/>
          <a:stretch/>
        </p:blipFill>
        <p:spPr>
          <a:xfrm>
            <a:off x="380880" y="5726160"/>
            <a:ext cx="2905200" cy="6174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rcRect l="39096" t="718" r="39096" b="354"/>
          <a:stretch/>
        </p:blipFill>
        <p:spPr>
          <a:xfrm>
            <a:off x="3676680" y="3745080"/>
            <a:ext cx="1838160" cy="25984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rcRect l="34466" t="718" r="60680" b="354"/>
          <a:stretch/>
        </p:blipFill>
        <p:spPr>
          <a:xfrm>
            <a:off x="3286080" y="3745080"/>
            <a:ext cx="409680" cy="25984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0"/>
          <a:srcRect l="60904" t="718" r="34353" b="354"/>
          <a:stretch/>
        </p:blipFill>
        <p:spPr>
          <a:xfrm>
            <a:off x="5514840" y="3745080"/>
            <a:ext cx="400320" cy="2598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1"/>
          <a:srcRect l="65650" t="718" r="230" b="80859"/>
          <a:stretch/>
        </p:blipFill>
        <p:spPr>
          <a:xfrm>
            <a:off x="5915160" y="3745080"/>
            <a:ext cx="2876400" cy="4842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2"/>
          <a:srcRect l="65650" t="19939" r="230" b="61273"/>
          <a:stretch/>
        </p:blipFill>
        <p:spPr>
          <a:xfrm>
            <a:off x="5915160" y="4249800"/>
            <a:ext cx="2876400" cy="4935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3"/>
          <a:srcRect l="65650" t="38434" r="230" b="24295"/>
          <a:stretch/>
        </p:blipFill>
        <p:spPr>
          <a:xfrm>
            <a:off x="5915160" y="4735440"/>
            <a:ext cx="2876400" cy="9795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4"/>
          <a:srcRect l="65650" t="76139" r="230" b="728"/>
          <a:stretch/>
        </p:blipFill>
        <p:spPr>
          <a:xfrm>
            <a:off x="5915160" y="5726160"/>
            <a:ext cx="2876400" cy="60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633888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нтеграция с существующими системам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655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33200" indent="-13176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систем на платформе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едприятие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ранних версий возможна интеграция в единую информационную систему на уровне обмена данны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3200" indent="-13176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систем на платформе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едприятие 8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версий 8.0, 8.1 и 8.2 возможна интеграция на уровне код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3200" indent="-13176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систем разработанных на других платформах возможна интеграция в единую информационную систему на уровне обмена данным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озможность переноса или разработки функционала из существующих сист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3200" indent="-13176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озможен перенос функционала с разработанного на платформе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Предприятие 8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, версий 8.0 и 8.1 без поддержки режима управляемого приложен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3200" indent="-13176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переноса функционала с других платформ необходима повторная разработка функционала при помощи инструментария платформы 8.2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держание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204560"/>
            <a:ext cx="856908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бзорная информац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оль ИТ- директора на предприят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на рынке ERP-сист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рисутствие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П 1С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на рынке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чему выбирают ERP-систему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ERP-система 1С: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к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отвечает ключевым требованиям предъявляемым к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ереход с существующих систем, интеграция с существующими системами, перенос данны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учение персонала и повышение квалификац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ланирование расходов на внедрение и сопровождение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истем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Мониторинг состояния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истемы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55520" indent="-154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зультаты от внедрения по статистике 1С и данным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PICS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для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ист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920" y="-9576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бучение персонала и повышение квалификаци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662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ри внедрении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ы повышаются требования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 персоналу, возникает необходимость повышения квалификации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 получения навыков работы с новой системой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повышения квалификации и получения навыков работы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ой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существует ряд вариантов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19160" indent="-11772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учение пользователей предприят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19160" indent="-11772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учение программистов предприят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19160" indent="-11772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учение технических специалис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19160" indent="-11772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амостоятельная подготовка всех специалис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561816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бучение на специализированных курсах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626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Обучение пользователей проводится на специализированных курсах в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ЦСО (Центрах Сертифицированного Обучения)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или на специальном курсе в рамках проекта внедрения ERP-системы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Обучение программистов проводится на специализированных курсах в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ЦСО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, так же доступны специальные комплекты для обучения программированию, которые можно приобрести в магазинах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1С:Интерес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или через партнеров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Обучение технических специалистов проводится на специализированных курсах в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ЦСО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, курсы предназначены для системных администраторов. В процессе обучения специалисты получают необходимые навыки по развертыванию и сопровождению систем на платформе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1С:Предприятие 8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. В процессе обучения каждый специалист самостоятельно выполняет все необходимые операции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63640" y="-1717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амостоятельная подготовк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655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ля самостоятельного обучения доступна документация и методическая литература. Документация поставляется в составе поставки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. При необходимости, через партнеров, можно приобрести дополнительно необходимое количество книг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ополнительная методическая литература доступна в магазинах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Интерес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, через партнеров и в различных книжных магазина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сайте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размещены материалы с которыми будет полезно ознакомиться широкому кругу специалистов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//www.1c.ru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68480" y="0"/>
            <a:ext cx="80755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етодическая поддержка пользователей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343080" y="1106640"/>
            <a:ext cx="5676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Источники информации: 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422280" y="1803240"/>
            <a:ext cx="46656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бзор всего, что есть в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«1С:Предприятии 8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веты на часто задаваемые вопрос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нформация по внедрения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192240" y="1465200"/>
            <a:ext cx="1995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v8.1c.ru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5021280" y="1523880"/>
            <a:ext cx="1995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ИТС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305320" y="1835280"/>
            <a:ext cx="35067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более 700 страниц информац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имеры разработк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лезные инструмент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179280" y="3056040"/>
            <a:ext cx="2487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Учебные курсы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441360" y="3400560"/>
            <a:ext cx="42116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курсы по конфигурированию, внедрению и адаптации платформы и прикладных реше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чные и Интернет-курс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5013360" y="3157560"/>
            <a:ext cx="3225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Книги, статьи, буклеты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5354640" y="3481560"/>
            <a:ext cx="34034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начинающи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профессионал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Теоретические зна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5079960" y="4803840"/>
            <a:ext cx="3225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Учебные версии ПО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5369040" y="5192640"/>
            <a:ext cx="28670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разработчик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бухгалтер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9" name="Rectangle 14"/>
          <p:cNvSpPr/>
          <p:nvPr/>
        </p:nvSpPr>
        <p:spPr>
          <a:xfrm>
            <a:off x="195120" y="4797360"/>
            <a:ext cx="3867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Поддержка пользователей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436680" y="5205240"/>
            <a:ext cx="42116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бновления платформы и конфигурац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тестовые релизы    (предварительная публикация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561816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недрение 1С:Управление производственным предприятие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8960" y="3451320"/>
            <a:ext cx="835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Более 600 партнеров сети Центров компетенции по производству оказывают услуги по консалтингу и внедрению 1С:Управление производственным предприятием и отраслевых решений на его основе в 140 городах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4678200"/>
            <a:ext cx="8540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 (например, холдинговое внедрение в нескольких регионах, внедрение, требующее специализированных знаний, внедрение в регионе, где нет партнеров ЦКП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и др. нетипичные ситуации), фирма «1С» консультирует клиентов по вопросу выбора партнера. В таких случаях для получения рекомендаций можно обратиться по электронному адресу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solutions@1c.ru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341360"/>
            <a:ext cx="85770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Фирма «1С» рекомендует пользователям осуществлять 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недрение 1C:Управление производственным 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едприятием  в тесном сотрудничестве с партнерами фирмы «1С», имеющими необходимые компетенции в области комплексной автоматизации предприятий на платформе «1С:Предприятие 8», штат сертифицированных специалистов, — партнеры имеющие статус Центра компетенции по производству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8440" y="3003480"/>
            <a:ext cx="86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//www.1c.ru/rus/partners/ckp.jsp</a:t>
            </a:r>
            <a:r>
              <a:rPr b="1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—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633888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ланирование расходов на внедрение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 сопровождение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60280" y="1844280"/>
            <a:ext cx="417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асходы на внедрение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RP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-системы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сходы на покупку или модернизацию оборудован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сходы на СУБД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сходы на комплект поставки ERP-системы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нфигурация, сервер, лицензии (1-5-10-50-100-300-500 пользователей)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сходы на внедрени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сходы на обучение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истемных администратор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льзователе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рограммис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-128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нсультант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032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27640" y="1844640"/>
            <a:ext cx="4392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асходы на сопровождение и развитие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RP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-системы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6160" indent="-1447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новление (подписка на ИТС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6160" indent="-1447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становка регулярных обновле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6160" indent="-1447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доработка существующего функционала или разработка новог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6160" indent="-1447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повышение квалификации или обучение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6160" indent="-1447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модернизацию и обслуживание оборудова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сходы на сопровождение должны учитывать выполнение работ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6160" indent="-1447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воими силами: расходы на специалистов в штате компан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6160" indent="-1447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утсорсинг: расходы на постоянных или разовых внешних специалис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43920"/>
            <a:ext cx="8101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бразец расчета затрат на внедрение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 владение ИС за 3 год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324000" y="1773360"/>
          <a:ext cx="8456400" cy="4678200"/>
        </p:xfrm>
        <a:graphic>
          <a:graphicData uri="http://schemas.openxmlformats.org/drawingml/2006/table">
            <a:tbl>
              <a:tblPr/>
              <a:tblGrid>
                <a:gridCol w="5427360"/>
                <a:gridCol w="628920"/>
                <a:gridCol w="528480"/>
                <a:gridCol w="639720"/>
                <a:gridCol w="628560"/>
                <a:gridCol w="60336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Показатели (тыс. руб.)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Масштаб предприятия, сотрудник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Количество активных (конкурентных) пользователей автоматизированных рабочих мест пользователей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 1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 7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 1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 7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 1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Управление производственным предприятием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 Лицензия на сервер (x86-64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1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6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 Клиентская лицензия на 50/100/500 рабочих мест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48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96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Кол-во серверов в кластере 1С / Кол-во проц. для MS SQL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/</a:t>
                      </a:r>
                      <a:r>
                        <a:rPr b="0" lang="ru-RU" sz="7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неогр</a:t>
                      </a:r>
                      <a:endParaRPr b="0" lang="en-US" sz="7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 / 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 / 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 / 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 / 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2+MS SQL Server Standard 2008. Лицензия на сервер (x86-32)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Клиентская лицензия на 10 рабочих мест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7,5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2,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2. Лицензия на сервер(x86-64)+MS SQL Server Standard 2008. Лицензия на 1 процессор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Дополнительная лицензия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32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6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32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8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2. Лицензия на сервер(x86-64)+MS SQL Server Enterprise 2008. Лицензия на 1 процессор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+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Дополнительная лицензия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19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23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19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529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покупку сервер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внедрение и владение системы на 3 года (аутсорсинг в ЦКП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обучение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7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7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сопровождение ИТС на 3 год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сопровождение системы на 3 года (ЗП своих специалистов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88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32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2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64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ИТОГО</a:t>
                      </a: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тыс.руб</a:t>
                      </a: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2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02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7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3819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792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553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ет окупаемости инвестиций в информационную систему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Условный пример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24000" y="1773360"/>
          <a:ext cx="8496000" cy="4576680"/>
        </p:xfrm>
        <a:graphic>
          <a:graphicData uri="http://schemas.openxmlformats.org/drawingml/2006/table">
            <a:tbl>
              <a:tblPr/>
              <a:tblGrid>
                <a:gridCol w="5365440"/>
                <a:gridCol w="568440"/>
                <a:gridCol w="617760"/>
                <a:gridCol w="580680"/>
                <a:gridCol w="695520"/>
                <a:gridCol w="66816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Масштаб предприятия, сотрудник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Количество активных (конкурентных) пользователей автоматизированных рабочих мест пользователей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 1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 7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 1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 7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 1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реднемесячный объем оборотных средств, млн. руб.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2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7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2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7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ъем краткосрочных кредитов (20% оборотных средств) , млн. руб.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атраты на внедрение и владение ИС за 3 года (млн. руб.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89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,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,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4,1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8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Расходы на покупку сервер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1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7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2,1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ПО MS SQL Server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1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4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5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Управление произв. предприятием + лицензия на сервер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1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 Клиентские лицензи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1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внедрение (аутсорсинг в ЦКП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обучение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0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сопровождение системы на 3 год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0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Финансовый результат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потребности в оборотных средствах (млн. руб. в месяц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3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6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2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49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1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Экономия за счет снижения объема привлеченных денег (при ставке 14% годовых) за 3 года (млн. руб.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2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19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98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рок окупаемости инвестиций, лет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ROI (отношение финансового выигрыша к сумме инвестиций) за 3 год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5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4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920" y="77760"/>
            <a:ext cx="58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ост конкурентных преимуществ предприятия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 данным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PICS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для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RP-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истем и статистике проектов 1С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41200" y="1773360"/>
          <a:ext cx="8701200" cy="4633920"/>
        </p:xfrm>
        <a:graphic>
          <a:graphicData uri="http://schemas.openxmlformats.org/drawingml/2006/table">
            <a:tbl>
              <a:tblPr/>
              <a:tblGrid>
                <a:gridCol w="7112160"/>
                <a:gridCol w="1589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заказное производство)</a:t>
                      </a:r>
                      <a:endParaRPr b="0" lang="en-US" sz="16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начение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апасы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объемов материальных запас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-4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затрат на приобретение и хранение сырья и материал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-1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доли несвоевременных поставок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0-9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объема незавершенного производств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-3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оротные средств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нижение объема привлечения краткосрочных финансовых ресурс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-1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Увеличение оборачиваемости денежных средст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-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перативность и эффективность 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качества информации для принятия решений, сокращение рисков несвоевременных и неверных решений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2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времени подготовки документ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60 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времени подготовки регламентированной отчетност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3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ыночная стоимость компани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налоговых рисков 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5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лояльности клиентов (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CRM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-5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стоимости привлечения капитал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т 1% ставк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ост капитализации и инвестиционной привлекательности бизнес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885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Факторы, обеспечивающие инвестиционную привлекательность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50920" y="1267920"/>
            <a:ext cx="6626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28520" indent="-12708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тратегия компании, бизнес-планы, понятные для инвесторов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 кредитор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28520" indent="-12708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Эффективная структура корпоративного управления, использующая достоверную и своевременную управленческую информацию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28520" indent="-12708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логовая политика и юридическая структура, не создающие повышенные рис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28520" indent="-12708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чественная финансовая отчетность, в том числе по международным стандарт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28520" indent="-12708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пытный топ-менеджмен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28520" indent="-12708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265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оль ИТ директора на предприяти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066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современных предприятиях ИТ-директор является одной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з ключевых фигур в команде топ-менеджмента. Он выполняет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ажные стратегические и тактические функции, направленные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решение важных задач бизнеса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автоматизация и поддержка бизнес-процессов компан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еспечение непрерывности бизнес-процессов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еспечение внешних и внутренних коммуникаций компан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еспечение информационной безопасности бизнеса компан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ано или поздно практически перед каждым ИТ директором встает задача выбора ERP-системы для компании или группы компани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1042920" y="-106200"/>
            <a:ext cx="6107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Рост капитализации бизнес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и реализации проекта 1С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318960" y="1344600"/>
            <a:ext cx="7196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Реализация проекта создания информационно-управленческой </a:t>
            </a:r>
            <a:br>
              <a:rPr sz="1600"/>
            </a:b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системы на базе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повышает инвестиционную привлекательность и капитализацию компании за счет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301680" y="2530440"/>
            <a:ext cx="599436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строения качественной системы управления бизнесо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ия прозрачности для инвестор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ия сохранности конфиденциальных данны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ддержки стратегии развития бизнес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изкой совокупной стоимости владе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ысоких финансовых и экономических результа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нижение объема привлечения краткосрочных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финансовых ресурсо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величение оборачиваемости денежных средст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окращение затрат на приобретение и хранение сырья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 и материало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нижение объема незавершенного производства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270480" y="4064040"/>
            <a:ext cx="2460600" cy="2191320"/>
          </a:xfrm>
          <a:prstGeom prst="rect">
            <a:avLst/>
          </a:prstGeom>
          <a:solidFill>
            <a:srgbClr val="ffff00">
              <a:alpha val="50000"/>
            </a:srgbClr>
          </a:solidFill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Быстрая окупаемость инвестиций в 1С </a:t>
            </a:r>
            <a:r>
              <a:rPr b="1" lang="en-US" sz="1400" spc="-1" strike="noStrike">
                <a:solidFill>
                  <a:srgbClr val="140000"/>
                </a:solidFill>
                <a:latin typeface="Arial"/>
              </a:rPr>
              <a:t>ERP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10000"/>
              </a:lnSpc>
              <a:spcBef>
                <a:spcPts val="876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срок окупаемости проекта от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года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лет </a:t>
            </a:r>
            <a:r>
              <a:rPr b="0" lang="ru-RU" sz="14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10000"/>
              </a:lnSpc>
              <a:spcBef>
                <a:spcPts val="876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величина </a:t>
            </a:r>
            <a:r>
              <a:rPr b="1" lang="en-US" sz="1400" spc="-1" strike="noStrike">
                <a:solidFill>
                  <a:srgbClr val="140000"/>
                </a:solidFill>
                <a:latin typeface="Arial"/>
              </a:rPr>
              <a:t>ROI</a:t>
            </a: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на вложенные в проект средства составляет значение от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3,5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200" y="6573960"/>
            <a:ext cx="80888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По данным международных консалтинговых компаний и проектов партнеров 1С по состоянию на Июль 2011 г.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633888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ниторинг состояния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RP-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истемы, обеспечение эффективной работы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655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Для обеспечения эффективной работы 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ERP-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систем </a:t>
            </a: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 рекомендуется использовать </a:t>
            </a: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Корпоративный инструментальный пакет</a:t>
            </a:r>
            <a:r>
              <a:rPr b="0" lang="ru-RU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(является самостоятельным ПП, поставляется отдельно)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Корпоративный инструментальный пакет</a:t>
            </a:r>
            <a:r>
              <a:rPr b="0" lang="ru-RU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позволяет провести анализ </a:t>
            </a: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узких мест</a:t>
            </a:r>
            <a:r>
              <a:rPr b="0" lang="ru-RU" sz="1500" spc="-1" strike="noStrike">
                <a:solidFill>
                  <a:srgbClr val="5f0000"/>
                </a:solidFill>
                <a:latin typeface="Arial"/>
              </a:rPr>
              <a:t>, 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выработать необходимые меры,</a:t>
            </a:r>
            <a:r>
              <a:rPr b="0" lang="ru-RU" sz="15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и повысить производительность и масштабируемость внедряемой или уже внедренной системы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Корпоративный инструментальный пакет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 наиболее полезен при внедрении средних и крупных корпоративных информационных систем, характеризующихся большой нагрузкой на систему и большим количеством рабочих мест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633888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став КИП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626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Центр контроля качества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- предназначен для обеспечения эффективной и надежной работы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1С:Предприятия 8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за счет обеспечения своевременного и правильного технического обслуживания системы.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Центр контроля качества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содержит полный перечень и подробные описания всех технологических требований, регламентов и процедур, необходимых для эффективной работы системы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Центр управления производительностью</a:t>
            </a:r>
            <a:r>
              <a:rPr b="1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– инструмент мониторинга и анализа производительности клиент-серверных информационных систем на платформе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1С:Предприятие 8. Центр управления</a:t>
            </a:r>
            <a:r>
              <a:rPr b="0" lang="en-US" sz="15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производительностью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предназначен для оценки производительности системы, сбора подробной технической информации об имеющихся </a:t>
            </a: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узких местах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и анализа этой информации с целью дальнейшей оптимизации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576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став КИП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655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Тест-центр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— инструмент автоматизации многопользовательских нагрузочных испытаний информационных систем на платформе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С:Предприятие 8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. С его помощью можно моделировать работу предприятия без участия реальных пользователей, что позволяет оценивать применимость, производительность и масштабируемость информационной системы в реальных условия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ценарное тестирование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— в состав Корпоративного инструментального пакета включен инструмент «Сценарное тестирование», предназначенный для автоматизации функционального тестирования конфигураций на платформе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С:Предприятие 8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093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ехнология Быстрых Результатов (ТБР)</a:t>
            </a:r>
            <a:br>
              <a:rPr sz="2000"/>
            </a:b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«Ни месяца без результата!»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ТБР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— это сокращение сроков выполнения проектов и разумная </a:t>
            </a:r>
            <a:br>
              <a:rPr sz="1500"/>
            </a:b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стоимость. Технология предназначена для внедрения любых тиражных </a:t>
            </a:r>
            <a:br>
              <a:rPr sz="1500"/>
            </a:b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(типовых или отраслевых) решений в рамках комплексных проектов</a:t>
            </a:r>
            <a:br>
              <a:rPr sz="1500"/>
            </a:b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на малом рынке, для автоматизации предприятий среднего рынка, а в ряде случаев и для корпоративного сегмента рынка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ТБР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— это технология внедрения программных продуктов на базе 1С:Предприятие, направленная на получения быстрых, качественных, регулярных (в идеале — ежемесячных) результатов, имеющих ценность для Заказчика, и обеспечивающая Исполнителю получение регулярного финансирования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080" y="3357720"/>
            <a:ext cx="59929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4000" y="3357720"/>
            <a:ext cx="56880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Технологии снижения транзакционных издержек за счет устранения всех неэффективных действии за счет применения: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технология облегченного проектного</a:t>
            </a:r>
            <a:br>
              <a:rPr sz="1500"/>
            </a:b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документирования — шаблоны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технологии определения требований в ходе презентационного семинара или ролевого тренинга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технология подготовки руководства пользователя в ходе обучения совместно с пользователе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организация непрерывной, быстрой и эффективной обратной связи от заказчика с использованием регламентов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1c1c1c"/>
                </a:solidFill>
                <a:latin typeface="Arial"/>
              </a:rPr>
              <a:t>информационная система поддержки ТБР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796000" y="3284640"/>
          <a:ext cx="2906640" cy="252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3284640"/>
                    <a:ext cx="290664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24000" y="2349360"/>
            <a:ext cx="532908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Функции продукта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правление ИТ-активами и конфигурациями – единое хранилище информации об ИТ- инфраструктуре (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CMDB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),сбор и предоставление информации для всех других процессов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ITIL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правление инцидентами –регистрация, устранение и быстрое возобновление предоставления услуг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Управление проблемами – установление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орневой причины повторяющихся инцидентов, предотвращение будущих сбое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вязка с типовыми конфигурациями </a:t>
            </a: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«1С»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уровне измеримых критериев качества работы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Т-подразделения и разделения затр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оддержка процессов согласно методологии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ITIL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-44640"/>
            <a:ext cx="669780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С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TIL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Управление информационными технологиями предприятия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0920" y="1125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8520" indent="-1285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Вы сможете излагать задачи и проблемы ИТ—</a:t>
            </a:r>
            <a:br>
              <a:rPr sz="18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подразделения на языке, понятном менеджменту компании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Вы сможете показать руководству компании эффективность </a:t>
            </a:r>
            <a:br>
              <a:rPr sz="18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работы ИТ- подразделение в понятном ему виде 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5197320" y="2421000"/>
          <a:ext cx="3606840" cy="39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97320" y="2421000"/>
                    <a:ext cx="360684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487680" y="181764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381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887480" y="5724360"/>
            <a:ext cx="6964560" cy="749160"/>
            <a:chOff x="1887480" y="5724360"/>
            <a:chExt cx="6964560" cy="749160"/>
          </a:xfrm>
        </p:grpSpPr>
        <p:sp>
          <p:nvSpPr>
            <p:cNvPr id="384" name=""/>
            <p:cNvSpPr/>
            <p:nvPr/>
          </p:nvSpPr>
          <p:spPr>
            <a:xfrm>
              <a:off x="2139840" y="6105240"/>
              <a:ext cx="67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Фирма «1С», 2012 г.</a:t>
              </a:r>
              <a:endParaRPr b="0" lang="en-US" sz="20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87480" y="5724360"/>
              <a:ext cx="695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102200" y="3090960"/>
          <a:ext cx="3441600" cy="22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02200" y="3090960"/>
                    <a:ext cx="344160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068480" y="-27000"/>
            <a:ext cx="58086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С:Предприятие 8 на рынке систем управления предприятием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8280" y="5403960"/>
            <a:ext cx="8353440" cy="10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0000"/>
                </a:solidFill>
                <a:latin typeface="Arial"/>
              </a:rPr>
              <a:t>Доля решений фирмы «1С» на рынке систем управления предприятием в России в денежном выражении по итогам 2010 года составляет 26%. Фиксируется устойчивый рост.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IDC</a:t>
            </a:r>
            <a:r>
              <a:rPr b="0" lang="ru-RU" sz="1400" spc="-1" strike="noStrike">
                <a:solidFill>
                  <a:srgbClr val="cc3300"/>
                </a:solidFill>
                <a:latin typeface="Arial Black"/>
              </a:rPr>
              <a:t>*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—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работает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30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лет, более 700 аналитиков в 43 странах мира, в России с 1995г.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92929"/>
                </a:solidFill>
                <a:latin typeface="Arial"/>
              </a:rPr>
              <a:t>IDC — ведущий поставщик надежной информации, помогающей Клиентам понять тенденции развития технологий и электронного бизнеса и разрабатывать надежные стратегии ведения бизнеса.</a:t>
            </a:r>
            <a:r>
              <a:rPr b="0" i="1" lang="ru-RU" sz="12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-210960" y="912960"/>
          <a:ext cx="3305160" cy="216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10960" y="912960"/>
                    <a:ext cx="3305160" cy="21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990800" y="927000"/>
          <a:ext cx="3284640" cy="215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90800" y="927000"/>
                    <a:ext cx="32846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214880" y="892080"/>
          <a:ext cx="3324240" cy="218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4880" y="892080"/>
                    <a:ext cx="332424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-272880" y="3112920"/>
          <a:ext cx="3423960" cy="2246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-272880" y="3112920"/>
                    <a:ext cx="342396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832440" y="2814480"/>
          <a:ext cx="2040120" cy="2694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32440" y="2814480"/>
                    <a:ext cx="204012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812960" y="3159000"/>
          <a:ext cx="3594240" cy="2167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12960" y="3159000"/>
                    <a:ext cx="3594240" cy="21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262320" y="479736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85760" y="481320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53000" y="254160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46200" y="257004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01600" y="2563920"/>
            <a:ext cx="6447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19" name="Picture 13" descr="IDC - Home">
            <a:hlinkClick r:id="rId16"/>
          </p:cNvPr>
          <p:cNvPicPr/>
          <p:nvPr/>
        </p:nvPicPr>
        <p:blipFill>
          <a:blip r:embed="rId17"/>
          <a:srcRect l="5968" t="-1890" r="55425" b="0"/>
          <a:stretch/>
        </p:blipFill>
        <p:spPr>
          <a:xfrm>
            <a:off x="7684920" y="4552920"/>
            <a:ext cx="689040" cy="432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8"/>
          <a:srcRect l="0" t="1909" r="7130" b="0"/>
          <a:stretch/>
        </p:blipFill>
        <p:spPr>
          <a:xfrm>
            <a:off x="7377120" y="3129120"/>
            <a:ext cx="84456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421320" y="852480"/>
          <a:ext cx="3389400" cy="2224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21320" y="852480"/>
                    <a:ext cx="33894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511960" y="4795920"/>
            <a:ext cx="966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80320" y="255888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-124200"/>
            <a:ext cx="6338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чему выбирают ERP-систему 1С:Управление производственным предприятие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85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 новых экономических условиях особенно важно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25"/>
              </a:spcBef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c3300"/>
                </a:solidFill>
                <a:latin typeface="Arial"/>
              </a:rPr>
              <a:t>Выбирать систему не по рекламе, а по отзывам </a:t>
            </a:r>
            <a:br>
              <a:rPr sz="1700"/>
            </a:br>
            <a:r>
              <a:rPr b="1" i="1" lang="ru-RU" sz="1700" spc="-1" strike="noStrike">
                <a:solidFill>
                  <a:srgbClr val="cc3300"/>
                </a:solidFill>
                <a:latin typeface="Arial"/>
              </a:rPr>
              <a:t>реальных пользователей</a:t>
            </a:r>
            <a:r>
              <a:rPr b="1" i="1" lang="en-US" sz="1700" spc="-1" strike="noStrike">
                <a:solidFill>
                  <a:srgbClr val="cc3300"/>
                </a:solidFill>
                <a:latin typeface="Arial"/>
              </a:rPr>
              <a:t> — </a:t>
            </a:r>
            <a:r>
              <a:rPr b="1" i="1" lang="ru-RU" sz="1700" spc="-1" strike="noStrike">
                <a:solidFill>
                  <a:srgbClr val="cc3300"/>
                </a:solidFill>
                <a:latin typeface="Arial"/>
              </a:rPr>
              <a:t>успешность внедрения 1С:Предприятие 8 подтверждена:</a:t>
            </a:r>
            <a:endParaRPr b="0" lang="en-US" sz="1700" spc="-1" strike="noStrike">
              <a:solidFill>
                <a:srgbClr val="1c1c1c"/>
              </a:solidFill>
              <a:latin typeface="Arial"/>
            </a:endParaRPr>
          </a:p>
          <a:p>
            <a:pPr lvl="1" marL="104760" indent="-10332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Более, чем 10 000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отзывами и рекомендательными письмами, подписанными представителями руководства предприятий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04760" indent="-103320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ы можете самостоятельно ознакомиться с отзывами и рекомендательными письмами пользователей </a:t>
            </a: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1С:Предприятия 8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, настроив на сайте Фирмы "1С" (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www.1c.ru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) поиск по нужным фильтрам, например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08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— </a:t>
            </a: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Отрасль и сфера деятельност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08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— </a:t>
            </a: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Автоматизированные функц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08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— </a:t>
            </a: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Программный продукт, внедренный в ходе проекта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08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— </a:t>
            </a: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Количество автоматизированных рабочих мес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08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c1c1c"/>
                </a:solidFill>
                <a:latin typeface="Arial"/>
              </a:rPr>
              <a:t>и др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87280" y="1236600"/>
            <a:ext cx="8569440" cy="518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849400" y="1554120"/>
            <a:ext cx="781200" cy="517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337440" y="1616040"/>
            <a:ext cx="352440" cy="660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597800" y="2176560"/>
            <a:ext cx="1012680" cy="58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492960" y="2230560"/>
            <a:ext cx="1003320" cy="59508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423720" y="1731960"/>
            <a:ext cx="2225520" cy="304920"/>
            <a:chOff x="423720" y="1731960"/>
            <a:chExt cx="2225520" cy="304920"/>
          </a:xfrm>
        </p:grpSpPr>
        <p:pic>
          <p:nvPicPr>
            <p:cNvPr id="133" name="" descr=""/>
            <p:cNvPicPr/>
            <p:nvPr/>
          </p:nvPicPr>
          <p:blipFill>
            <a:blip r:embed="rId6"/>
            <a:stretch/>
          </p:blipFill>
          <p:spPr>
            <a:xfrm>
              <a:off x="423720" y="1731960"/>
              <a:ext cx="4910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7"/>
            <a:stretch/>
          </p:blipFill>
          <p:spPr>
            <a:xfrm>
              <a:off x="968040" y="1891080"/>
              <a:ext cx="1681200" cy="14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395280" y="2381400"/>
            <a:ext cx="1897200" cy="223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6172200" y="3654360"/>
            <a:ext cx="896760" cy="379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7904160" y="4789440"/>
            <a:ext cx="822240" cy="1200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363600" y="4884840"/>
            <a:ext cx="2546280" cy="34452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27160" y="5392800"/>
            <a:ext cx="3033720" cy="828720"/>
            <a:chOff x="227160" y="5392800"/>
            <a:chExt cx="3033720" cy="828720"/>
          </a:xfrm>
        </p:grpSpPr>
        <p:sp>
          <p:nvSpPr>
            <p:cNvPr id="140" name=""/>
            <p:cNvSpPr/>
            <p:nvPr/>
          </p:nvSpPr>
          <p:spPr>
            <a:xfrm>
              <a:off x="762120" y="5583240"/>
              <a:ext cx="2498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ОАО «Пантелеймоновский</a:t>
              </a:r>
              <a:br>
                <a:rPr sz="1200"/>
              </a:b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 огнеупорный завод»</a:t>
              </a:r>
              <a:r>
                <a:rPr b="0" lang="ru-RU" sz="12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2"/>
            <a:stretch/>
          </p:blipFill>
          <p:spPr>
            <a:xfrm>
              <a:off x="227160" y="5392800"/>
              <a:ext cx="795240" cy="8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236520" y="4245120"/>
            <a:ext cx="1614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краина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16560" y="4245120"/>
            <a:ext cx="258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азахстан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9240" y="1147680"/>
            <a:ext cx="149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оссия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3"/>
          <a:stretch/>
        </p:blipFill>
        <p:spPr>
          <a:xfrm>
            <a:off x="3187800" y="5551560"/>
            <a:ext cx="1700280" cy="450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064040" y="5979960"/>
            <a:ext cx="477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.. и еще более 12 000 других.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4537080" y="2978280"/>
            <a:ext cx="878040" cy="39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5"/>
          <a:stretch/>
        </p:blipFill>
        <p:spPr>
          <a:xfrm>
            <a:off x="5729400" y="2948040"/>
            <a:ext cx="2879640" cy="426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6"/>
          <a:stretch/>
        </p:blipFill>
        <p:spPr>
          <a:xfrm>
            <a:off x="1452600" y="2949480"/>
            <a:ext cx="1665360" cy="463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7"/>
          <a:stretch/>
        </p:blipFill>
        <p:spPr>
          <a:xfrm>
            <a:off x="7292880" y="3630600"/>
            <a:ext cx="1308240" cy="425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8"/>
          <a:stretch/>
        </p:blipFill>
        <p:spPr>
          <a:xfrm>
            <a:off x="3659040" y="3639960"/>
            <a:ext cx="2289240" cy="408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9"/>
          <a:stretch/>
        </p:blipFill>
        <p:spPr>
          <a:xfrm>
            <a:off x="3413160" y="2227320"/>
            <a:ext cx="884160" cy="47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0"/>
          <a:stretch/>
        </p:blipFill>
        <p:spPr>
          <a:xfrm>
            <a:off x="2467080" y="2193840"/>
            <a:ext cx="787320" cy="662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1"/>
          <a:stretch/>
        </p:blipFill>
        <p:spPr>
          <a:xfrm>
            <a:off x="4959360" y="1763640"/>
            <a:ext cx="1235160" cy="336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2"/>
          <a:stretch/>
        </p:blipFill>
        <p:spPr>
          <a:xfrm>
            <a:off x="3905280" y="1665360"/>
            <a:ext cx="798480" cy="434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3"/>
          <a:stretch/>
        </p:blipFill>
        <p:spPr>
          <a:xfrm>
            <a:off x="5649840" y="2233440"/>
            <a:ext cx="544680" cy="509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4"/>
          <a:stretch/>
        </p:blipFill>
        <p:spPr>
          <a:xfrm>
            <a:off x="3432240" y="2928960"/>
            <a:ext cx="792000" cy="48420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355680" y="3621240"/>
            <a:ext cx="1608120" cy="447480"/>
            <a:chOff x="355680" y="3621240"/>
            <a:chExt cx="1608120" cy="447480"/>
          </a:xfrm>
        </p:grpSpPr>
        <p:sp>
          <p:nvSpPr>
            <p:cNvPr id="159" name=""/>
            <p:cNvSpPr/>
            <p:nvPr/>
          </p:nvSpPr>
          <p:spPr>
            <a:xfrm>
              <a:off x="355680" y="3621240"/>
              <a:ext cx="1608120" cy="447480"/>
            </a:xfrm>
            <a:prstGeom prst="rect">
              <a:avLst/>
            </a:prstGeom>
            <a:gradFill rotWithShape="0">
              <a:gsLst>
                <a:gs pos="0">
                  <a:srgbClr val="4395af"/>
                </a:gs>
                <a:gs pos="100000">
                  <a:srgbClr val="479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25"/>
            <a:stretch/>
          </p:blipFill>
          <p:spPr>
            <a:xfrm>
              <a:off x="406440" y="3670200"/>
              <a:ext cx="1517760" cy="35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1" name="" descr=""/>
          <p:cNvPicPr/>
          <p:nvPr/>
        </p:nvPicPr>
        <p:blipFill>
          <a:blip r:embed="rId26"/>
          <a:stretch/>
        </p:blipFill>
        <p:spPr>
          <a:xfrm>
            <a:off x="2185920" y="3600360"/>
            <a:ext cx="1249560" cy="487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7"/>
          <a:stretch/>
        </p:blipFill>
        <p:spPr>
          <a:xfrm>
            <a:off x="387360" y="2862360"/>
            <a:ext cx="752400" cy="528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8"/>
          <a:stretch/>
        </p:blipFill>
        <p:spPr>
          <a:xfrm>
            <a:off x="2965320" y="4756320"/>
            <a:ext cx="1724040" cy="4968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4478400" y="2292480"/>
            <a:ext cx="985680" cy="466560"/>
            <a:chOff x="4478400" y="2292480"/>
            <a:chExt cx="985680" cy="466560"/>
          </a:xfrm>
        </p:grpSpPr>
        <p:sp>
          <p:nvSpPr>
            <p:cNvPr id="165" name=""/>
            <p:cNvSpPr/>
            <p:nvPr/>
          </p:nvSpPr>
          <p:spPr>
            <a:xfrm>
              <a:off x="4478400" y="2292480"/>
              <a:ext cx="985680" cy="466560"/>
            </a:xfrm>
            <a:prstGeom prst="rect">
              <a:avLst/>
            </a:prstGeom>
            <a:solidFill>
              <a:srgbClr val="1a5c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9"/>
            <a:stretch/>
          </p:blipFill>
          <p:spPr>
            <a:xfrm>
              <a:off x="4539600" y="2341080"/>
              <a:ext cx="862920" cy="36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5078520" y="5054760"/>
            <a:ext cx="3173400" cy="769680"/>
            <a:chOff x="5078520" y="5054760"/>
            <a:chExt cx="3173400" cy="769680"/>
          </a:xfrm>
        </p:grpSpPr>
        <p:pic>
          <p:nvPicPr>
            <p:cNvPr id="168" name="" descr=""/>
            <p:cNvPicPr/>
            <p:nvPr/>
          </p:nvPicPr>
          <p:blipFill>
            <a:blip r:embed="rId30"/>
            <a:stretch/>
          </p:blipFill>
          <p:spPr>
            <a:xfrm>
              <a:off x="5078520" y="5054760"/>
              <a:ext cx="907920" cy="7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757840" y="5189400"/>
              <a:ext cx="24940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АО «Казахстанский электролизный завод»</a:t>
              </a: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72960" y="4724280"/>
            <a:ext cx="44704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991040" y="4721040"/>
            <a:ext cx="3768840" cy="468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" y="1563840"/>
            <a:ext cx="63658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1068480" y="-106200"/>
            <a:ext cx="5448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рганизации, использующие 1С:Управление производственным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едприятием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асштабные проекты с применением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истемы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С:Управление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роизводственным предприятием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3760" y="1173240"/>
            <a:ext cx="8497800" cy="55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Самые масштабные проекты по числу автоматизированных </a:t>
            </a: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рабочих мест, подтвержденные письмами клиентов (ТОП 10)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5010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ТРАНСМАШХОЛДИНГ (в группе компаний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2120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—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ГАЗПРОМ (внедрение в группе компаний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760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ОАО «ЮниМилк» (в группе компаний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350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ОАО «РусГидро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200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ОАО «ОГК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5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870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УК ООО «ТМС групп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800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ЗАО «ЭНЕРГОПРОМ МЕНЕДЖМЕНТ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600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ОАО «Амурметалл»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519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ГРУППА ЛСР (в группе компаний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518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  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— КАМАЗ (внедрение в группе компаний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С отзывами клиентов можно ознакомиться на сайте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www.1c.ru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в справочнике внедренных реше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76" name="Рисунок 9" descr="img140.jpg"/>
          <p:cNvPicPr/>
          <p:nvPr/>
        </p:nvPicPr>
        <p:blipFill>
          <a:blip r:embed="rId3"/>
          <a:stretch/>
        </p:blipFill>
        <p:spPr>
          <a:xfrm>
            <a:off x="8013600" y="3105000"/>
            <a:ext cx="768600" cy="11052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77" name="Рисунок 38" descr="Responses_page1_img133.jpg"/>
          <p:cNvPicPr/>
          <p:nvPr/>
        </p:nvPicPr>
        <p:blipFill>
          <a:blip r:embed="rId4"/>
          <a:stretch/>
        </p:blipFill>
        <p:spPr>
          <a:xfrm>
            <a:off x="7113600" y="3103560"/>
            <a:ext cx="820800" cy="11160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78" name="Рисунок 92" descr="Vils.jpg"/>
          <p:cNvPicPr/>
          <p:nvPr/>
        </p:nvPicPr>
        <p:blipFill>
          <a:blip r:embed="rId5"/>
          <a:stretch/>
        </p:blipFill>
        <p:spPr>
          <a:xfrm>
            <a:off x="8020080" y="1886040"/>
            <a:ext cx="765000" cy="11350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79" name="Рисунок 52" descr="Responses_page1_otzyv_Etalon.jpg"/>
          <p:cNvPicPr/>
          <p:nvPr/>
        </p:nvPicPr>
        <p:blipFill>
          <a:blip r:embed="rId6"/>
          <a:stretch/>
        </p:blipFill>
        <p:spPr>
          <a:xfrm>
            <a:off x="7122960" y="1890720"/>
            <a:ext cx="808200" cy="11253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80" name="Рисунок 63" descr="Responses_page1_otzyv_x0UO.jpg"/>
          <p:cNvPicPr/>
          <p:nvPr/>
        </p:nvPicPr>
        <p:blipFill>
          <a:blip r:embed="rId7"/>
          <a:stretch/>
        </p:blipFill>
        <p:spPr>
          <a:xfrm>
            <a:off x="7121520" y="4307040"/>
            <a:ext cx="811080" cy="113004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81" name="Рисунок 76" descr="Responses_page1_Skanirovat_10002_Eq3K1_8Euz.jpg"/>
          <p:cNvPicPr/>
          <p:nvPr/>
        </p:nvPicPr>
        <p:blipFill>
          <a:blip r:embed="rId8"/>
          <a:stretch/>
        </p:blipFill>
        <p:spPr>
          <a:xfrm>
            <a:off x="8023320" y="4309920"/>
            <a:ext cx="766800" cy="1125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временная ERP-система 1С:Управление производственным предприятие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24000" y="1486080"/>
            <a:ext cx="8496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36440" indent="-136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к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–система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          отвечает ключевым требованиям предъявляемым к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–система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6440" indent="-136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кие возможности для современных предприятий предоставляет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–система</a:t>
            </a: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6440" indent="-136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Как учитываются уникальные особенности бизнеса (отраслевая специфика)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6440" indent="-136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ереход с существующих систем, интеграция с существующими системами, перенос данны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6440" indent="-136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Обучение персонала и повышение квалификац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6440" indent="-136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Планирование расходов на внедрение и сопровождение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истем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Управление производственным предприяти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6440" indent="-136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Мониторинг состояния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истемы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136440" indent="-136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зультаты от внедрения по статистике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</a:t>
            </a: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 данным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APICS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для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истем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-12600"/>
            <a:ext cx="576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лючевые требования предъявляемые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RP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– система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Ключевые требования к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RP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-системам оцениваются </a:t>
            </a:r>
            <a:br>
              <a:rPr sz="1600"/>
            </a:b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о следующим критериям: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Функциональность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оответствие уникальным особенностям бизнеса (отраслевая специфика)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Быстродействие, Отказоустойчивость, Масштабируемость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Возможность доработки функционала и инструментарий разработк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Интеграция с существующими системами, перенос исторических данных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Требования к персоналу, обучение персонала, повышение квалификации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тоимость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-системы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Мониторинг системы, сбор статистики для анализа факторов влияющих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  на быстродействие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личие методики быстрого внедрения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0</dc:creator>
  <dc:description/>
  <dc:language>en-US</dc:language>
  <cp:lastModifiedBy>Yakovlev_AV</cp:lastModifiedBy>
  <dcterms:modified xsi:type="dcterms:W3CDTF">2012-02-07T06:17:43Z</dcterms:modified>
  <cp:revision>934</cp:revision>
  <dc:subject/>
  <dc:title>Слайд 1</dc:title>
</cp:coreProperties>
</file>