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8.jpeg" ContentType="image/jpeg"/>
  <Override PartName="/ppt/media/image53.png" ContentType="image/png"/>
  <Override PartName="/ppt/media/image52.jpeg" ContentType="image/jpeg"/>
  <Override PartName="/ppt/media/image13.png" ContentType="image/png"/>
  <Override PartName="/ppt/media/image51.jpeg" ContentType="image/jpeg"/>
  <Override PartName="/ppt/media/image48.png" ContentType="image/png"/>
  <Override PartName="/ppt/media/image46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21.png" ContentType="image/png"/>
  <Override PartName="/ppt/media/image67.jpeg" ContentType="image/jpeg"/>
  <Override PartName="/ppt/media/image17.png" ContentType="image/png"/>
  <Override PartName="/ppt/media/image2.jpeg" ContentType="image/jpeg"/>
  <Override PartName="/ppt/media/image20.png" ContentType="image/png"/>
  <Override PartName="/ppt/media/image57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23.png" ContentType="image/png"/>
  <Override PartName="/ppt/media/image24.wmf" ContentType="image/x-wmf"/>
  <Override PartName="/ppt/media/image63.png" ContentType="image/png"/>
  <Override PartName="/ppt/media/image28.png" ContentType="image/png"/>
  <Override PartName="/ppt/media/image31.wmf" ContentType="image/x-wmf"/>
  <Override PartName="/ppt/media/image62.jpeg" ContentType="image/jpeg"/>
  <Override PartName="/ppt/media/image11.wmf" ContentType="image/x-wmf"/>
  <Override PartName="/ppt/media/image50.png" ContentType="image/png"/>
  <Override PartName="/ppt/media/image61.png" ContentType="image/png"/>
  <Override PartName="/ppt/media/image33.jpeg" ContentType="image/jpeg"/>
  <Override PartName="/ppt/media/image27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25.png" ContentType="image/png"/>
  <Override PartName="/ppt/media/image42.jpeg" ContentType="image/jpeg"/>
  <Override PartName="/ppt/media/image66.png" ContentType="image/png"/>
  <Override PartName="/ppt/media/image29.png" ContentType="image/png"/>
  <Override PartName="/ppt/media/image14.png" ContentType="image/png"/>
  <Override PartName="/ppt/media/image5.wmf" ContentType="image/x-wmf"/>
  <Override PartName="/ppt/media/image18.wmf" ContentType="image/x-wmf"/>
  <Override PartName="/ppt/media/image6.wmf" ContentType="image/x-wmf"/>
  <Override PartName="/ppt/media/image26.png" ContentType="image/png"/>
  <Override PartName="/ppt/media/image15.png" ContentType="image/png"/>
  <Override PartName="/ppt/media/image3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38.png" ContentType="image/png"/>
  <Override PartName="/ppt/media/image19.wmf" ContentType="image/x-wmf"/>
  <Override PartName="/ppt/media/image7.wmf" ContentType="image/x-wmf"/>
  <Override PartName="/ppt/media/image54.jpeg" ContentType="image/jpeg"/>
  <Override PartName="/ppt/media/image8.wmf" ContentType="image/x-wmf"/>
  <Override PartName="/ppt/media/image40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2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AE49-B872-4240-A224-795DDF3DDC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ERP–решения Фирмы «1С»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ля финансового 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нтеграция по вертикали с продуктом 1С:Консолидация делает решение 1С:Управление производственным предприятием звеном комплексной системы финансового управления холдингов и промышленных груп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озможный вариант совместного использования представлен на рисунке. Под учетной единицей может выступать как отдельное подразделение (например, обособленное подразделение или филиал), так и организация или предприятие, входящие в холдин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правление рисками неплатежеспособности компании связано с разработкой и контролем лимитов по различным статьям расх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едуя принципу «предупрежден - значит вооружен», 1С:Управление производственным предприятием предлагает действенные инструменты управления оборотным капита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ссматриваемые темы данного раздела презент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Анализ обязательств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роцедуры управления денежными средств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Использование контролируемых парамет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1С:Управление производственным предприятием обеспечивает проведение целого ряда мероприятий, повышающих эффективность использ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оборотного капитала в целом через планирование и обеспечение прозрач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1. применением бюджетир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2. совершенствованием управленческой отчет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запасов через сокращение их объема и сокращение затрат на финансирование приобрет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нахождение и сокращение неликвидных запа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совершенствование методики закуп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дебиторской задолженности путем повышения оборачиваемости и улучшения ликвид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1. изменение системы мотивации менедже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кредиторской задолженности  через сокращение объема оплат при сохранении качества результа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1. оценка эффективности работы с поставщи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троль просроченной задолженности и минимизация рисков ее возникновения является одной из ключевых задач финансовой служ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позволяет контролировать фактическую (отчет «Ведомость по взаиморасчетам с контрагентами» и основной набор отчетов представленных на слайде) и отложенную задолженность (отчет «Ведомость по расчетам с контрагентами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лучить детальное представление о состоянии взаиморасчетов с контрагентами (по всем видам возникших обязательств) позволяет целая гамма отче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тчет по клиент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Задолженность по контрагент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Дебиторская задолженность по интервал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Дебиторская задолженность по срокам долг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Взаиморасчеты с комиссионер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Взаиморасчеты с комитент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Отчет по кредитно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оступность денежных средств определяется через выполнения баланса денежных средств, который можно контролировать отчётом «Анализ доступности денежных средств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став отче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статки денежных средств на расчетных счетах и в касс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выписанные, но не оплаченные на момент отчета платежные докумен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зарезервированные по заявкам денежные сре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ожидаемые к поступлению платеж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дефиците денежных средств под поступившие и утвержденные заявки предусмотрена возможность планировать расходы под предстоящие поступления денег на расчетные счета предприятия или в касс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1С:Управление производственным предприятием используется двухступенчатая схема оформления денежных опер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ервая ступен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1. намерения об изменении состояния денежных средств регистрируются заявками на расходование денежных средств или планированием поступлений денежных средст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2. решение об оплате фиксируется резервированием средств под заявку в конкретном месте хран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Вторая ступен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. на основании первичных документов отражается факт платежа или поступ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. платежи можно выполнить через программу типа «Банк-клиент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езультате данного подхода действия пользователя по расходованию денежных средств являются предопределенными. Снижается вероятность "операторской" ошибки, реализована система контроля исполн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тролируемые значения могут быть двух вид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целевые – анализируем достижение ими определенных знач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граничивающие – например, контроль превышения бюджетных оборотов над установленной норм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тролируемые значения используются как при планировании оборотов по статьями, так и при фактическом расходовании средств по заявк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троль выполняется только по суммовым оборотам, количественные обороты не контролирую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достижении контролируемого значения в ходе выполнения бюджетной транзакции выводится предупреждение, проведение блокируется. Для продолжения работы необходимо либо изменить сумму, либо отказаться от пр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два конкретных примера, показывающие, что 1С:Управление производственным предприятием предлагает пользователю не посмертный учет, а живую информацию, на основе которой можно эффективно планировать работу финансовой служ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й пример показывает механизм исполнения бюджета при изменении влияющих факторов, «пошаговая» инстру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оверить соответствие статей БДДС лимитам (БДР, инвестиционные бюджет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ценить целесообразность проводимых расходов и перерасходов (сравнить с производственной программо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обеспечить лимит денежных средств на конец периода (на случай непредвиденных расход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не допустить «кассовых» разрыв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торой пример более операционный и показывает контроль расходования денежных средст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онтроль платежей перед осуществлением платежей (заявка на платеж должна соответствовать БДДС) – контроль на «входе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ежедневная обработка банковской выписки и занесения факта в БДДС – контроль на «выходе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оценка качества исполнения: все платежи бизнес-единицы должны соответствовать БДД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звестные пословицы «Знание–сила» и «Предупрежден, значит вооружен» можно считать эпиграфом к следующему разделу нашей презентации. Ситуацией владеют те, кто наладил не только сбор и систематизацию данных о своем бизнесе, но и настроил механизмы упреждающего реаг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высвобождает ресурсы, создавая предприятию запас прочности. Анализируя затраты, выделяем следующие важные 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пределение системы налогообложения и соблюдение законодательных требований по классификации затрат в целях налогооб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Нормирование затрат на основании данных о структуре изготавливаемого издел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Инструменты расчета и управления себестоимостью выпускаемой продук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щие механизмы, задающие правила управления затрат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программе поддерживаются различные системы налогооблож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бщий режи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прощенная система налогообложения (УСН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Единый налог на вмененный доход (ЕНВД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требуемые налоговые режимы задаются путем выбора в настройках «Учетной политик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обеспечен детальный учет по налогу на добавленную стоимость (НДС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представлено большое количество форм регламентированной (бухгалтерской и налоговой) отчетности и механизмов их автоматического заполнения на основании учетных дан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сновные составляющие успешной деятельности руководителя при исполнении стратегических целей в финансовой политике компании требуют обязательной поддержки инструментами информационных технологий. Рассмотрим следующие раздел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Разработка и использование ключевых показ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правление оборотным капитал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Анализ затр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Повышение отдачи от персон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граммные продукты Фирмы «1С» предназначены для информационной поддержки успешной реализации каждой из этих задач. Флагманским решением линейки является конфигурация Управление производственным предприятием. Познакомимся с редакцией 1.3 на платформе «1С:Предприятие 8.2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1С:Управление производственным предприятием реализован принцип нормативного управления производством, основанный на широких возможностях ведения нормативно-справочной информации о структуре изделия. Представлены инструменты управления составом затрат, включаемых в себестоимость конкретной продук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Нормирование прямых материальных затрат выполняется по спецификациям номенклатуры выпускаемых изделий или услуг. Для удобства визуального восприятия данные о структуре изделия можно представить в виде дерева спецификац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Технологические карты производства описывают нормирование труда в разрезе технологических опер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Варианты выбора базы распределения косвенных расходов позволяют гибко управлять себестоимостью выпускаемой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С:Управление производственным предприятием предусмотрен независимый автоматизированный расчет себестоимости выпуска по управленческому, бухгалтерскому и налоговому учет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 рамках реализации политики ценообразования на основании данных о структуре изделия программа позволяет выполнить расчет плановой себестоимости планируемого к выпуску издел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осле расчета фактической себестоимости выпуска проводится план-фактный анализ отклон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до момента расчета фактической себестоимости доступно ведение учета по плановым ценам выпус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асчет налогооблагаемой базы по налогу на прибыль выполняется по месячному отчетному период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обеспечена гибкая система настройки способов распределения всех затрат инструментами пользователя без изменения программного к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лючевой результат проекта автоматизации состоит в том, чтобы финансовой службе уйти от трудоемких и ненадежных (с точки зрения достоверности) методов учета, оптимизировать систему мотивации персонала, завязать систему оплаты на ключевые показат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о достигается за счет применения следующих механизм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Использования регламентированных в рамках предприятия инструментов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Налаживания устойчивых и надежных каналов коммуникаций между сотрудни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Задания и применения объективных показателей мотивации менедже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стойчивые и надежные коммуникации при внедрении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информация доступна одновременно во всех местах, где она необходи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дновременное использование преимуществ централизации и децентрал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перативное принятие решений каждым ответственным сотрудник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персонал может отправлять и получать информацию независимо от своего местонахожд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планы пересматриваются незамедлительно по мере необходим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позволяет оценить и сопоставить работу менеджеров, отвечающих за продажи и работу с клиентами, по целому ряду объективных показ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о полноте заполнения базы данных контактной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количеству контактов с покупателя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коэффициенту удержания покуп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количеству выполненных заказов, объемам продаж и принесенной прибы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и оценки могут использоваться для построения объективной системы мотивации персонала, отражающей специфику задач, решаемых различными категориями менедже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та персональных данных (152-ФЗ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ована функциональность задач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L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Leak Protec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егистрация аутентификации и отказа в аутентифик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регистрация изменений прав пользов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егистрация фактов отказа в доступ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егистрация доступа к защищаемым ресурс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imes New Roman"/>
              </a:rPr>
              <a:t>Защищенный программно-аппаратный комплекс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cc3300"/>
                </a:solidFill>
                <a:latin typeface="Times New Roman"/>
              </a:rPr>
              <a:t>«1С: Предприятие, версии 8.2z»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тифицирован на соответствие требованиям руководящих докумен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. по защите от НСД -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5 класс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2. по уровню контроля отсутствия НДВ  -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по 4 уровню контроля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3. подтверждена возможность использования при построении АС д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класса 1Г включительн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4. подтверждена возможность использования для защиты информации в ИСПДн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до К1 включительн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Получен сертификат соответствия ФСТЭК РФ № 2137 от 20.07.2010 (срок действия до 20.07.20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оянный рост роли информационных технологий в обеспечении конкурентных преимуществ бизнеса повышает требования к объективности оценок отдачи вложенных в ИТ-структуру предприятия  финансовых ресурсов. Рассмотрение проекта внедрения комплексной информационной системы в качестве инвестиционного проекта позволяет оценить эффективность инвестиций в соответствии с общепризнанными критериями и показателями. ИТ-департамент перестает быть просто «просителем» средств, а превращается в инициатора эффективного инвестиционного проек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ческие методы оценки эффективности инвестиционных проектов предполагают необходимость оценки «доходной» и «затратной» части проектов с последующей их интеграцией при расчете обобщенного «денежного потока» проекта. Оценка «затратной» части не представляет существенной сложности. Основная сложность - в оценке эффектов от реализации проекта внедрения, т. е. оценки «доходной» ча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им ключевые факторы экономической эффективности: доход (обеспечение роста в обеспечиваемых бизнес-процессах), низкие эксплуатационные и административно-управленческие затраты, снижение налоговых и внереализационных выплат, оптимизация потребности и рост оборачиваемости оборотного капитала, снижение капитальных затрат. При условии выделения отдельных ИТ-эффектов в значимые факторы эффективности дальнейшее построение «денежного потока» является делом техники инвестиционных аналитик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атриваемый пример создан на основе опыта выполнения проектов по нескольким десяткам машиностроительных предприятий и предприятий по производству строительных материалов. В силу ограничений на раскрытие информации данные были усреднены и интерполированы на выделенные по размеру группы предприятий. В настоящее время отсутствуют единые методы оценки финансового результата внедрения информационных систем, поэтому и наше рассмотрение носит рекомендательный характер. В реальных условиях внедрения необходимо учитывать особенности конкретного производства и сложившуюся в компании практику инвести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ены пять групп предприятий по объему и сложности предполагаемого внедрения. Используются оценочные показате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 предприятия – количество сотрудников на предприятии в количестве человек (100-500-1000-5000-1000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активных (конкурентных) пользователей – соответствует числу приобретенных клиентских лицензий при их 100% использовании (10-50-100-500-1000 соответственно масштабу предприятия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зированных рабочих мест пользователей – число рабочих мест, на которых установлено программное обеспечение и возможна работа с информационной базой (15-75-150-750-1500 соответственно масштабу предприятия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емесячный объем оборотных средств, млн. руб. – 300-225-375-2250-3750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м краткосрочных кредитов (20% оборотных средств), млн. руб. – 6-45-75-450-750 соответственно масштабу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финансирования, все данные приводятся в млн. руб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на покупку сервера. Как правило, имеющиеся на предприятии серверные ресурсы уже распределены между существующими задачами. Дополнительная нагрузка способна негативно сказаться на выполнении работ проекта внедрения и привести к сбою уже используемых механизмов. На этапе проектирования следует предусмотреть модернизацию или приобретение серверного и сетевого оборудования. В примере приведена ориентировочная стоимость моделей эконом-класса по состоянию на середину 2010 года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MS SQL Server. По статистике в большинстве проектов в роли СУБД выступают решения фирм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of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оэтому их мы и выбрали для примера, используя данные прайса Фирмы «1С» за июль 2010 года. В настоящее время существует возможность приобретать и работать с СУБ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D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cle Databa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 большинстве случаев выбор конкретной СУБД определяется доступностью квалифицированных кадров для ее поддержки и часто является исторически сложившимся на конкретном предприятии. В таком случае финансирование по данной статье может быть существенно минимизировано, так как все необходимые лицензии на предприятии уже присутствуют до начала выполнения про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+ лицензия на сервер. Приобретается основная поставка и набор необходимого числа лицензий. Для небольшой по масштабу компании (100 сотрудников) в нашем примере предусмотрено приобретение программного продукта единой поставкой с клиентскими лицензия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Предприятие 8. Клиентские лицензии. Для предприятий масштабом более 100 сотрудников данная статья выделяется отде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на внедрение (аутсорсинг в ЦКП). Схема распределения работ в каждом конкретном случае может быть разной. Но практика показывает, что грамотная помощь со стороны партнера, имеющего статус Центра компетенции по производству, способна существенно повысить результативность и качество исполнения при снижении общего объема финансирования и главное - сроков внедрения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на обучение. Обучение - задача, недостаточное внимание к которой способно существенно увеличить сроки внедрения и соответственно поставить под угрозу исполнение всего проекта. Это целая система разноцелевых по аудитории мероприятий, направленных на передачу знаний руководителям, пользователям и обслуживающим информационную базу специалистам из ИТ-подразделени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на сопровождение системы на 3 года. Показатель, остающийся в тени обсуждения, но имеющий высокий потенциал применения для информационных систем, построенных на основании 1С:Управление производственным предприятием. Состав финансируемых статей по сопровождению и развитию ERP-сис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новление (подписка на ИТС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новка регулярных обновл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работка существующего функционала или разработка новог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 квалификации и обучение новых сотрудни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рнизация и обслуживание оборуд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олнение раб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ими силами: расходы на специалистов в штате компан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утсорсинг: расходы на постоянных или разовых внешних специалис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я всех показателей представлены в таблиц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изложенного подхода лежит разделение всех затрат на единовременные (собственно работы по запуску информационной системы в промышленную эксплуатацию) и текущие, к которым относятся затраты на эксплуатацию и сопровождение. Результат автоматизации можем определить как сумму полученных экономических эффектов минус общая стоимость затрат. Оценка эффективности инвестиционных вложений строится либо путем отношения результата к затратам, либо определяется как разница между результатом и затрат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ходя к оценке результатов внедрения, следует отметить, что влияние на денежные потоки и показатели реальных бизнес-процессов, изменяющихся в процессе внедрения, не имеет однозначных количественных оценок. Большинство  показателей носит качественный характер: в частности, повышение устойчивости работы программного обеспечения, снижение количества ошибок в данных, увеличение объема задач, которые решаются в единицу времени, повышение скорости прохождения документации и так далее. Количество этих факторов достаточно велико. Объединить их в единую расчетную модель, которая проецировала бы их на денежные потоки компании, непросто. Одним из наглядных и измеримых результатов является оптимизация потребности в привлечении и рост оборачиваемости оборотного капитала, который можно оценить с использованием коэффициента рентабельности инвестиций (ROI) - финансового показателя, характеризующего доходность инвестиционных влож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 результа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потребности в оборотных средствах (млн. руб. в месяц) – 3,3-26-42-249-415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я за счет снижения объема привлеченных денег (при ставке 14% годовых) за 3 года (млн. руб.) – 1,6-12-20-119-198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 окупаемости инвестиций, лет – 1,8-1,7-1,7-1,0-1,0 соответственно масштабу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OI (отношение финансового выигрыша к сумме инвестиций) за 3 года – 1,94-1,98-1,97-3,52-3,42 соответственно масштабу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татистике Фирмы «1С» и данны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 результаты внедрения (для предприятий с позаказным типом производства) могут быть отражены показателями, приведенными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ные показатели сгруппированы в четыре групп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Запас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1. снижение объемов материальных запасов на 30-4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2. сокращение затрат на приобретение и хранение сырья и материалов на 10-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3. снижение доли несвоевременных поставок на 80-9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4. снижение объема незавершенного производства на 20-3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боротные сред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снижение объема привлечения краткосрочных финансовых ресурсов на 10-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увеличение оборачиваемости денежных средств на 3-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казатели, характеризующие оперативность и эффективнос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1. сокращение времени подготовки документов до 6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2. сокращение времени подготовки регламентированной отчетности до 3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оказатели, влияющие на рыночную стоимость компан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1. сокращение налоговых рисков до 50%, снижение стоимости привлечения капитала до 1% ста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 проекта создания информационно-управленческой системы на базе 1С:Управление производственным предприятием повышает инвестиционную привлекательность и капитализацию компании за сче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строения качественной системы управления бизнес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беспечения прозрачности для инвесто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обеспечения сохранности конфиденциальных данн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оддержки стратегии развития бизнес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низкой совокупной стоимости влад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быстрой окупаемости инвести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1. срок окупаемости проекта от 1 года до 2 лет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2. величи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вложенные в проект средства составляет значение в диапазоне от 2 до 3,5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высоких финансовых и экономических результа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1. снижение объема привлечения краткосрочных финансовых ресурсов до 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2. увеличение оборачиваемости денежных средств до 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3. сокращение затрат на приобретение и хранение сырья и материалов до 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4. снижение объема незавершенного производства до 3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данном слайде представлен список организаций, использующих «1С:Управление производственным предприятием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артнеру рекомендуется вставить путем замещения части представленных вариантов своими внедрениями (главное, чтобы был соблюден масштаб представляемых предприятий и сохранена отраслевая специфика, ориентированная на конкретного потенциального заказчик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фигурация Управление производственным предприятием охватывает основные информационные потоки предприятия. Организация управления и исполнение требований учетных действий находятся в неразрывном взаимодействии. Инструменты управленческого учета и возможности планирования формируют операционную деятельность предприятия, закладывая основу для учетных меро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RP-система, построенная на основании 1С:Управление производственным предприятием, создает информационное пространство, в котором интегрированы планирование и управление затратами, Бюджетирование и расчет себестоимости, логистика, взаимоотношения с клиентами, управление персоналом, РСБУ и МСФ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ость использования 1С:Управление производственным предприятием подтверждена многочисленными отзывами пользователей данного решения. Тамара Сергеевна Шушпанова, генеральный директор ЗАО ЦП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Темп производства таков, что я не могу тратить время на бесконечный сбор данных из разных служб и их структурирование. Теперь я могу получать необходимые мне сведения нажатием нескольких кнопок, при этом не сомневаться ни в их достоверности, ни в их актуальност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айлова Яна Анатольевна, финансовый директор «TORPAL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Установив систему, мы получили возможность хранить все необходимые для производственного процесса данные в единой базе. Кроме того, все сотрудники смогли получить оперативный доступ к необходимой для работы информации, о чем мы раньше и не мечтал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лючевые конкурентные преимущества программного продукт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функциональные возможности мирового уровн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олное соответствие требованиям законодательства РФ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перативное сопровождение в условиях изменяющегося законодатель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консолидация и бизнес-анализ данн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надежная технологическая платформа «1С:Предприятие 8.2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комплексная система методической поддержки внедрения и подготовки специалис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привлекательное соотношение цена/качеств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высокое доверие к продукту (реализовано более 14 000 комплектов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шений на его баз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 более 350 000 клиентских лицензи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ru-RU" sz="12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1C:Управление производственным предприятием</a:t>
            </a:r>
            <a:r>
              <a:rPr b="0" lang="ru-RU" sz="1200" spc="-1" strike="noStrike">
                <a:solidFill>
                  <a:srgbClr val="140000"/>
                </a:solidFill>
                <a:latin typeface="Arial"/>
              </a:rPr>
              <a:t> в тесном сотрудничестве с партнерами, имеющими необходимые компетенци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«Центры компетенции по производству»</a:t>
            </a:r>
            <a:r>
              <a:rPr b="0" lang="ru-RU" sz="12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и внедрен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 представлен по электронному адресу, который Вы видите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olutions@1c.r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пасибо за внимание и приглашаем Вас к сотрудничеству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амках одной программы осуществляется планирование показателей и автоматическое их сравнение с фактическими данными управленческой системы. В 1С:Управление производственным предприятием представлены отчеты, разработанные с применением самых популярных показателей финансового менеджмен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ссмотрение возможностей программного продукта проведем по следующим тем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рганизация бюджетного процесса на предприят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Инструменты финансового анализ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Международная система финансовой отчетности (МСФО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дсистема «Бюджетирование» один из основных механизмов построения и ведения управленческого учета в 1С:Управление производственным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нструменты подсистем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рименение разнообразных методик построения бюджетов без программных изменений, работа со множеством валю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формирование различных версий бюдже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. в разрезе сценариев (пессимистичный, оптимистичный, реалистичны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. с детализацией по периодам (месячные, квартальные, годовые и т.д.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. с выбранной аналитикой (расшифровка показателей до конкретных контрагентов, позиций номенклатуры, проектов и т.д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перативное занесение и получение данн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1. выгрузка данных из других подсистем программы и ручное занес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2. автоматизированный ввод данных (обработка «Пакетный ввод данных» создает документы со схожими реквизитами за определенный отрезок времен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мощный механизм формирования отче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граммный продукт 1C:Управление производственным предприятием позволяет с необходимой детализацией прогнозировать результаты финансово-экономической деятельности предприят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отчете «Агрегированный аналитический баланс» можно рассчитать результаты при различных сценариях развития экономической действитель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оказатели фактической деятельности предприятия («взгляд в прошло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нализ эффективности принимаемых решений на основании запланированных данных («оценка будущего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основании данных информационной базы рассчитываются показатели, описывающие текущую структуру средств и источников финансирования предприятия, его операционную деятельность. Данные показатели представлены в отчета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тчет о прибылях и убыт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нализ оборачиваемости активов и пассив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Анализ доходности и рентабельности ФХ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Анализ эффективности использования капи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анные отчеты представлены в рамках подсистемы «Бюджетировани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зрачность деятельности призвана обеспечить эффективность. Под эффективностью бизнеса мы понимаем соотношение прибыли и произведенных затрат. Специализированный инструмент «Монитор эффективности» ориентирован на оперативную оценку ключевых показателей эффективности работы предприят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хват всего бизнеса «одним взглядом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своевременное выявление отклонений от плана, негативной динамики, точек рос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уточнение предоставляемой информ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использование предустановленного комплекта из более чем 60 показателей эффектив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разработка новых показателей эффектив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предусмотрена настройка вариантов отчета по видам деятельности, по участкам ответственности, под потребности конкретного заинтересованного ли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дение МСФО обеспечивает формирование прозрачной, унифицированной, сопоставимой отчетности по принципам, принятым в международной практике с целью принятия обоснованных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ется инвестиционная привлекательность на рынке капитала, обеспечивается выход на российские и международные фондовые рынки, привлечение зарубежных инвести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ложенные в 1С:Управление производственным предприятием принципы работы с данными соответствуют требованиям закона Сарбейнса-Оксли, обязательного законодательного акта для компаний, ценные бумаги которых зарегистрированы Комиссией по ценным бумагам и биржам США. Обеспечение финансовой прозрачности и аудируемости всех операций, составление корпоративной финансовой отчетности и формирование корпоративной ответственности – это шаг  к новым стандартам ведения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8120" y="0"/>
            <a:ext cx="5808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8720" y="1196640"/>
            <a:ext cx="8746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36440" indent="-13500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264960" indent="-12672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3" marL="56844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4" marL="74772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5" marL="74772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6" marL="74772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3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8256600" y="6499080"/>
            <a:ext cx="75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2F7D-6D41-432D-A11C-112C7C9B9E70}" type="slidenum">
              <a:rPr b="1" lang="ru-RU" sz="2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-360" y="6622920"/>
            <a:ext cx="817236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44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1" marL="1440" indent="0" algn="ctr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2" marL="138240" algn="ctr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lvl="3" marL="568440" algn="ctr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091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b0917"/>
              </a:solidFill>
              <a:latin typeface="Arial"/>
            </a:endParaRPr>
          </a:p>
          <a:p>
            <a:pPr lvl="4" marL="747720" algn="ctr">
              <a:spcBef>
                <a:spcPts val="349"/>
              </a:spcBef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5" marL="74772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6" marL="74772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jpe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image" Target="../media/image46.png"/><Relationship Id="rId15" Type="http://schemas.openxmlformats.org/officeDocument/2006/relationships/image" Target="../media/image47.png"/><Relationship Id="rId16" Type="http://schemas.openxmlformats.org/officeDocument/2006/relationships/image" Target="../media/image48.png"/><Relationship Id="rId17" Type="http://schemas.openxmlformats.org/officeDocument/2006/relationships/image" Target="../media/image49.png"/><Relationship Id="rId18" Type="http://schemas.openxmlformats.org/officeDocument/2006/relationships/image" Target="../media/image50.png"/><Relationship Id="rId19" Type="http://schemas.openxmlformats.org/officeDocument/2006/relationships/image" Target="../media/image51.jpeg"/><Relationship Id="rId20" Type="http://schemas.openxmlformats.org/officeDocument/2006/relationships/image" Target="../media/image52.jpeg"/><Relationship Id="rId21" Type="http://schemas.openxmlformats.org/officeDocument/2006/relationships/image" Target="../media/image53.png"/><Relationship Id="rId22" Type="http://schemas.openxmlformats.org/officeDocument/2006/relationships/image" Target="../media/image54.jpeg"/><Relationship Id="rId23" Type="http://schemas.openxmlformats.org/officeDocument/2006/relationships/image" Target="../media/image55.jpeg"/><Relationship Id="rId24" Type="http://schemas.openxmlformats.org/officeDocument/2006/relationships/image" Target="../media/image56.png"/><Relationship Id="rId25" Type="http://schemas.openxmlformats.org/officeDocument/2006/relationships/image" Target="../media/image57.png"/><Relationship Id="rId26" Type="http://schemas.openxmlformats.org/officeDocument/2006/relationships/image" Target="../media/image58.jpeg"/><Relationship Id="rId27" Type="http://schemas.openxmlformats.org/officeDocument/2006/relationships/image" Target="../media/image59.png"/><Relationship Id="rId28" Type="http://schemas.openxmlformats.org/officeDocument/2006/relationships/image" Target="../media/image60.jpeg"/><Relationship Id="rId29" Type="http://schemas.openxmlformats.org/officeDocument/2006/relationships/image" Target="../media/image61.png"/><Relationship Id="rId30" Type="http://schemas.openxmlformats.org/officeDocument/2006/relationships/image" Target="../media/image62.jpe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c.ru/rus/partners/ckp.jsp" TargetMode="External"/><Relationship Id="rId3" Type="http://schemas.openxmlformats.org/officeDocument/2006/relationships/hyperlink" Target="http://www.1c.ru/rus/partners/ckp.jsp" TargetMode="External"/><Relationship Id="rId4" Type="http://schemas.openxmlformats.org/officeDocument/2006/relationships/hyperlink" Target="http://www.1c.ru/rus/partners/ckp.jsp" TargetMode="External"/><Relationship Id="rId5" Type="http://schemas.openxmlformats.org/officeDocument/2006/relationships/hyperlink" Target="http://www.1c.ru/rus/partners/ckp.jsp" TargetMode="External"/><Relationship Id="rId6" Type="http://schemas.openxmlformats.org/officeDocument/2006/relationships/hyperlink" Target="http://www.1c.ru/rus/partners/ckp.jsp" TargetMode="External"/><Relationship Id="rId7" Type="http://schemas.openxmlformats.org/officeDocument/2006/relationships/hyperlink" Target="http://www.1c.ru/rus/partners/ckp.jsp" TargetMode="External"/><Relationship Id="rId8" Type="http://schemas.openxmlformats.org/officeDocument/2006/relationships/hyperlink" Target="http://www.1c.ru/rus/partners/ckp.jsp" TargetMode="External"/><Relationship Id="rId9" Type="http://schemas.openxmlformats.org/officeDocument/2006/relationships/hyperlink" Target="mailto:solutions@1c.ru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ERP–решения Фирмы «1С»</a:t>
            </a:r>
            <a:br>
              <a:rPr sz="2400"/>
            </a:b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для финансового директора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8360" y="4046400"/>
            <a:ext cx="2735280" cy="2345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821200" y="6381720"/>
            <a:ext cx="30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Редакция 1.3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077840" y="0"/>
            <a:ext cx="57992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онтроль ключевых показателей </a:t>
            </a:r>
            <a:br>
              <a:rPr sz="20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МСФО — Интеграция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85840" y="1062000"/>
            <a:ext cx="65386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нтеграция по вертикали с продуктом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Консолидация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делает решени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звеном комплексной системы финансового управления холдингов и промышленных групп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320760" y="6164280"/>
            <a:ext cx="4943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ЦФО – центр финансовой ответствен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28800" y="2149560"/>
          <a:ext cx="7126200" cy="401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800" y="2149560"/>
                    <a:ext cx="7126200" cy="40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-10656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боротный капитал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Управление рисками неплатежеспособности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324000" y="984240"/>
            <a:ext cx="655308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правление рисками неплатежеспособности компании связано с разработкой и контролем лимитов по различным статьям расходов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ледуя принципу «предупрежден - значит вооружен»,</a:t>
            </a:r>
            <a:r>
              <a:rPr b="0" lang="en-US" sz="20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редлагает действенные инструменты управления оборотным капиталом.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00000" y="2852640"/>
          <a:ext cx="7448760" cy="323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852640"/>
                    <a:ext cx="744876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боротный капитал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Работа на результат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324000" y="1206360"/>
            <a:ext cx="61196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нструменты информационной системы обеспечивают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989000"/>
          <a:ext cx="8470800" cy="4343400"/>
        </p:xfrm>
        <a:graphic>
          <a:graphicData uri="http://schemas.openxmlformats.org/drawingml/2006/table">
            <a:tbl>
              <a:tblPr/>
              <a:tblGrid>
                <a:gridCol w="2423880"/>
                <a:gridCol w="3043440"/>
                <a:gridCol w="3003480"/>
              </a:tblGrid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лучаемая выгода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05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боротный капитал в целом</a:t>
                      </a:r>
                      <a:r>
                        <a:rPr b="0" lang="en-US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рименение бюджетирования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боротный капитал становится планируемой величиной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вершенствование управленческой отчетности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розрачность оборотного капитала. Ясность причин неблагоприятных отклонений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79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апасы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Нахождение и сокращение неликвидных запасов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запасов. Высвобождение денежных средств. Сокращение затрат на финансирование.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Методика оценки и регламент закупки сырья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розрачный процесс закупки. Экономия денежных средств на закупку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ебиторская задолженность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Изменение системы мотивации менеджеров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вышение оборачиваемости и ликвидности дебиторской задолженности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Кредиторская задолженность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ценка эффективности работы с поставщиком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объема оплат при том же качественном результате 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-10656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боротный капитал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Просроченную задолженность — под контроль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24000" y="1052640"/>
            <a:ext cx="82674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Анализ выполняется по фактической или отложенной </a:t>
            </a:r>
            <a:br>
              <a:rPr sz="1600"/>
            </a:b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задолженности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тчет «Ведомость по взаиморасчетам с контрагентами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тчет «Ведомость по расчетам с контрагентами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38040" y="1724040"/>
            <a:ext cx="4508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5024520" y="1711440"/>
            <a:ext cx="3809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24000" y="2416320"/>
            <a:ext cx="828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Получить детальное представление о состоянии взаиморасчетов с контрагентами позволяет целая гамма отчетов:</a:t>
            </a:r>
            <a:br>
              <a:rPr sz="1600"/>
            </a:b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тчет по клиента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Задолженность по контрагента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Дебиторская задолженность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 интервала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Дебиторская задолженность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 срокам долг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заиморасчеты с комиссионерам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заиморасчеты с комитентам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тчет по кредитной лини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140360" y="3068640"/>
            <a:ext cx="3914640" cy="33321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5761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боротный капитал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Анализ доступност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217440" y="1773360"/>
            <a:ext cx="850428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статки денежных средств на расчетных счетах и в кассах</a:t>
            </a:r>
            <a:r>
              <a:rPr b="0" lang="en-US" sz="20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ыписанные, но не оплаченные на момент отчета платежные документ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зарезервированные по заявкам денежные средств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жидаемые к поступлению платежи</a:t>
            </a:r>
            <a:r>
              <a:rPr b="0" lang="en-US" sz="20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84240" y="3541680"/>
            <a:ext cx="7459560" cy="29685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75" name="Rectangle 7"/>
          <p:cNvSpPr/>
          <p:nvPr/>
        </p:nvSpPr>
        <p:spPr>
          <a:xfrm>
            <a:off x="324000" y="1079640"/>
            <a:ext cx="7397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тчё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Анализ доступности денежных средств»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показывает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баланс денежных средств:</a:t>
            </a:r>
            <a:r>
              <a:rPr b="0" lang="ru-RU" sz="20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3213000"/>
            <a:ext cx="2160720" cy="1224000"/>
          </a:xfrm>
          <a:prstGeom prst="wedgeRectCallout">
            <a:avLst>
              <a:gd name="adj1" fmla="val 59773"/>
              <a:gd name="adj2" fmla="val 104476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 дефиците планируем расходы под предстоящие поступления денег</a:t>
            </a:r>
            <a:r>
              <a:rPr b="0" lang="en-US" sz="20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5280" y="3191040"/>
            <a:ext cx="5754600" cy="325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боротный капитал</a:t>
            </a:r>
            <a:br>
              <a:rPr sz="21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Оформление денежных операций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24000" y="988920"/>
            <a:ext cx="65530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 конфигурации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используется двухступенчатая схема оформления денежных операций:</a:t>
            </a:r>
            <a:r>
              <a:rPr b="0" lang="en-US" sz="20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4500720" y="1803240"/>
            <a:ext cx="41749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 основании первичных документов отражается факт платежа или поступления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219240" y="1816200"/>
            <a:ext cx="442404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мерения об изменении состояния денежных средств регистрируются заявками на расходование денежных средств или планированием поступлений денежных средств.</a:t>
            </a:r>
            <a:r>
              <a:rPr b="0" lang="en-US" sz="16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675240" y="3187800"/>
            <a:ext cx="4784400" cy="31050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боротный капитал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Контролируемые параметры</a:t>
            </a:r>
            <a:r>
              <a:rPr b="0" lang="en-US" sz="21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293760" y="1298520"/>
            <a:ext cx="8121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219240" y="1125360"/>
            <a:ext cx="79437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Контролируемые значения могут быть двух видов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целевые</a:t>
            </a: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анализ их достижен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ограничивающие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контроль превышения бюджетных оборотов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над установленной нормо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Контролируемые значения используются как при планировании оборотов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 статьями, так и при фактическом расходовании средств по заявка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Контроль выполняется только по суммовым оборотам, количественные обороты не контролируютс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и достижении контролируемого значения в ходе выполнения бюджетной транзакции выводится предупреждение, проведение блокируется. Для продолжения работы необходимо либо изменить сумму, либо отказаться от проведен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281160" y="3178080"/>
            <a:ext cx="81216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344520" y="3284640"/>
            <a:ext cx="81216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344520" y="5210280"/>
            <a:ext cx="818496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4000" y="2421000"/>
            <a:ext cx="4032000" cy="3240000"/>
          </a:xfrm>
          <a:prstGeom prst="roundRect">
            <a:avLst>
              <a:gd name="adj" fmla="val 4556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2421000"/>
            <a:ext cx="4176720" cy="3240000"/>
          </a:xfrm>
          <a:prstGeom prst="roundRect">
            <a:avLst>
              <a:gd name="adj" fmla="val 4556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боротный капитал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Примеры организации контроля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716360" y="1847880"/>
            <a:ext cx="41482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Осуществить контроль расходования денежных средст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3" name="Rectangle 25"/>
          <p:cNvSpPr/>
          <p:nvPr/>
        </p:nvSpPr>
        <p:spPr>
          <a:xfrm>
            <a:off x="324000" y="5745240"/>
            <a:ext cx="8496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е посмертный учет, а живая информация — на ее основе можно эффективно планировать работу финансовой службы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24000" y="1844640"/>
            <a:ext cx="38732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Исполнить бюджет при изменении влияющих фактор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4692600" y="2492280"/>
            <a:ext cx="40323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Контроль платежей перед осуществлением платежей (заявка на платеж должна соответствовать БДДС) — контроль на «входе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Ежедневная обработка банковской выписки и занесения факта в БДДС — контроль на «выходе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ценка качества исполнения: все платежи бизнес-единицы должны соответствовать БДДС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24000" y="2492280"/>
            <a:ext cx="40449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оверить соответствие статей БДДС лимитам (БДР, инвестиционные бюджеты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ценить целесообразность проводимых расходов и перерасходов (сравнить с производственной программой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беспечить лимит денежных средств на конец периода (на случай непредвиденных расходов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Aft>
                <a:spcPts val="799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е допустить «кассовых» разрыв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з затрат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Знать и управлять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324000" y="1096920"/>
            <a:ext cx="655308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итуацией владеют те, кто наладил не только сбор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 систематизацию данных о своем бизнесе, но и настроил механизмы упреждающего реагирования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высвобождает ресурсы, создавая предприятию запас прочности.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47800" y="2924280"/>
          <a:ext cx="7448400" cy="291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7800" y="2924280"/>
                    <a:ext cx="7448400" cy="29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з затрат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Планируем налоговые платежи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02" name="Picture 11" descr="Учетная политика"/>
          <p:cNvPicPr/>
          <p:nvPr/>
        </p:nvPicPr>
        <p:blipFill>
          <a:blip r:embed="rId2"/>
          <a:stretch/>
        </p:blipFill>
        <p:spPr>
          <a:xfrm>
            <a:off x="3348000" y="1884240"/>
            <a:ext cx="5519880" cy="36324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203" name="Picture 16" descr="Учетная политика_НДС"/>
          <p:cNvPicPr/>
          <p:nvPr/>
        </p:nvPicPr>
        <p:blipFill>
          <a:blip r:embed="rId3"/>
          <a:stretch/>
        </p:blipFill>
        <p:spPr>
          <a:xfrm>
            <a:off x="3346560" y="2697120"/>
            <a:ext cx="5521320" cy="35974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04" name="Rectangle 18"/>
          <p:cNvSpPr/>
          <p:nvPr/>
        </p:nvSpPr>
        <p:spPr>
          <a:xfrm>
            <a:off x="219240" y="1079640"/>
            <a:ext cx="30319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 программе поддерживаются различные системы налогообложения: общий режим, УСН и ЕНВД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219240" y="2133720"/>
            <a:ext cx="3031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беспечен детальный учет по налогу на добавленную стоимость (НДС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219240" y="2997360"/>
            <a:ext cx="312084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едставлено большое количество форм налоговой отчетности и механизмов их автоматического заполнения на основании учетных данны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5419800" y="2668680"/>
            <a:ext cx="3454200" cy="37828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Финансовое обеспечение бизнеса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04920" y="1203480"/>
            <a:ext cx="65721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сновные составляющие успешной деятельности руководителя при исполнении стратегических целей в финансовой политике компании требуют обязательной поддержки инструментами информационных технологий.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87280" y="4514760"/>
            <a:ext cx="83901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успешной реализации каждой из этих задач предназначены программные продукты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Фирмы «1С»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Флагманским решением линейки является конфигурация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Управление производственным предприятием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ознакомимся с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редакцией 1.3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на платформе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«1С:Предприятие 8.2».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38360" y="2492280"/>
          <a:ext cx="7448400" cy="150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360" y="2492280"/>
                    <a:ext cx="74484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936720" y="2679840"/>
          <a:ext cx="1689120" cy="114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36720" y="2679840"/>
                    <a:ext cx="16891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722680" y="2681280"/>
          <a:ext cx="1689120" cy="114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22680" y="2681280"/>
                    <a:ext cx="16891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508640" y="2671920"/>
          <a:ext cx="1689120" cy="1147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08640" y="2671920"/>
                    <a:ext cx="16891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294600" y="2671920"/>
          <a:ext cx="1688760" cy="1147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94600" y="2671920"/>
                    <a:ext cx="16887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2920" y="-106560"/>
            <a:ext cx="5834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з затрат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Нормативное управление производством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266760" y="1008000"/>
            <a:ext cx="855324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предоставляет                       широкие возможности ведения нормативно-справочной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нформации о структуре изделия и позволяет управлять составом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ключаемых в его себестоимость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затрат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231840" y="2708280"/>
            <a:ext cx="354024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ормирование прямых материальных затрат выполняется по спецификациям номенклатуры выпускаемых изделий или услуг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635280" y="2228760"/>
            <a:ext cx="5180040" cy="38451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12" name="Rectangle 18"/>
          <p:cNvSpPr/>
          <p:nvPr/>
        </p:nvSpPr>
        <p:spPr>
          <a:xfrm>
            <a:off x="219240" y="4059360"/>
            <a:ext cx="353988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технологические карты производства описывают нормирование труда в разрезе технологических операци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231840" y="5083200"/>
            <a:ext cx="35402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арианты выбора базы распределения косвенных расходов позволяют гибко управлять себестоимостью выпускаемой продукции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635280" y="2637000"/>
            <a:ext cx="5183280" cy="3120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215" name="Picture 14" descr="Учетная политика_ОХР"/>
          <p:cNvPicPr/>
          <p:nvPr/>
        </p:nvPicPr>
        <p:blipFill>
          <a:blip r:embed="rId4"/>
          <a:stretch/>
        </p:blipFill>
        <p:spPr>
          <a:xfrm>
            <a:off x="3637080" y="2997360"/>
            <a:ext cx="5181480" cy="33843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2920" y="-106560"/>
            <a:ext cx="5834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з затрат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Расчет себестоимости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231840" y="1373040"/>
            <a:ext cx="82962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конфигурации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предусмотрен независимый автоматизирован-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ный расчет себестоимости выпуска по управленческому, бухгалтерскому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налоговому учету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рамках реализации политики ценообразования на основании данных о структуре изделия программа позволяет выполнить расчет плановой себестоимости планируемого к выпуску издел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сле расчета фактической себестоимости выпуска проводится план-фактный анализ отклонени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асчет налогооблагаемой базы по налогу на прибыль выполняется по месячному отчетному периоду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До момента расчета фактической себестоимости доступно ведение учета по плановым ценам выпуск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еспечена гибкая система настройки способов распределения всех затрат инструментами пользователя без изменения программного код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5761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вышение эффективности персонала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Сделай больше меньшими средствами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324000" y="1111320"/>
            <a:ext cx="655308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лючевой результат проекта автоматизации состоит в том, чтобы финансовой службе уйти от трудоемких и ненадежных (с точки зрения достоверности) методов учета,</a:t>
            </a:r>
            <a:r>
              <a:rPr b="0" lang="en-US" sz="20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птимизировать систему мотивации персонала, завязать систему оплаты на ключевые показатели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847800" y="2781360"/>
          <a:ext cx="7448400" cy="32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7800" y="2781360"/>
                    <a:ext cx="744840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5761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тдача от персонала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Устойчивые и надежные каналы коммуникаций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324000" y="108576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недрени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на платформ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1С:Предприятие 8.2»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повышает рыночную стоимость компании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24000" y="1994040"/>
          <a:ext cx="8516520" cy="4114800"/>
        </p:xfrm>
        <a:graphic>
          <a:graphicData uri="http://schemas.openxmlformats.org/drawingml/2006/table">
            <a:tbl>
              <a:tblPr/>
              <a:tblGrid>
                <a:gridCol w="4286160"/>
                <a:gridCol w="423036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т чего уходим</a:t>
                      </a:r>
                      <a:endParaRPr b="0" lang="en-US" sz="16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Что получаем</a:t>
                      </a:r>
                      <a:endParaRPr b="0" lang="en-US" sz="16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Информация доступна только в установленном месте и в одно время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Информация доступна одновременно во всех местах, где она необходима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Компании должны выбирать между централизацией и децентрализацией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дновременное использование преимуществ централизации и децентрализации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ешения принимаются ответственными менеджерами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ринятие решений есть часть работы каждого сотрудника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левой персонал нуждается в офисах для получения, хранения, обработки и передачи информации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левой персонал может отправлять и получать информацию независимо от своего местонахождения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ланы пересматриваются от случая к случаю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9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ланы пересматриваются незамедлительно по мере необходимости </a:t>
                      </a:r>
                      <a:endParaRPr b="0" lang="en-US" sz="15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тдача от персонала 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Объективные показатели мотивации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324000" y="1130400"/>
            <a:ext cx="806436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br>
              <a:rPr sz="20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зволяет оценить и сопоставить работу менеджеров,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твечающих за продажи и работу с клиентами,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 целому ряду показателей:</a:t>
            </a:r>
            <a:br>
              <a:rPr sz="1600"/>
            </a:b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 полноте заполнения базы данных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нтактной информацие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личеству контактов с покупателям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эффициенту удержания покупателе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личеству выполненных заказов, объемам продаж и принесенной прибыл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Эти оценки могут использоваться для построения объективной системы мотивации персонала, отражающей специфику задач, решаемых различными категориями менеджеров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324000" y="2482920"/>
            <a:ext cx="487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698400" y="5033880"/>
            <a:ext cx="74707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Защита персональных данных (152-ФЗ)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2920" y="963720"/>
            <a:ext cx="801540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еализована функциональность задач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LP (Data Leak Protection)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егистрация аутентификации и отказа в аутентификаци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егистрация изменений прав пользователе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егистрация фактов отказа в доступе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регистрация доступа к защищаемым ресурса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630360" indent="-181080">
              <a:lnSpc>
                <a:spcPct val="95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3040" y="2629080"/>
            <a:ext cx="870444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Защищенный программно-аппаратный                                                                         комплекс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1С: Предприятие, версии 8.2z»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сертифицирован на соответствие требованиям                                                       руководящих документов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 защите от НСД -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5 класс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 уровню контроля отсутствия НДВ  -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по 4 уровню контрол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дтверждена возможность использования при построении АС до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             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класса 1Г включительн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дтверждена возможность использования для защиты информации в ИСПДн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до К1 включительн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f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Получен сертификат соответствия ФСТЭК РФ № 2137 от 20.07.2010                      (срок действия до 20.07.2013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6467400" y="1278000"/>
            <a:ext cx="2344680" cy="3305160"/>
            <a:chOff x="6467400" y="1278000"/>
            <a:chExt cx="2344680" cy="3305160"/>
          </a:xfrm>
        </p:grpSpPr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6467400" y="1290600"/>
              <a:ext cx="2344680" cy="3292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34" name=""/>
            <p:cNvSpPr/>
            <p:nvPr/>
          </p:nvSpPr>
          <p:spPr>
            <a:xfrm>
              <a:off x="6467400" y="1278000"/>
              <a:ext cx="0" cy="328752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67400" y="1278000"/>
              <a:ext cx="2344680" cy="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67400" y="4565520"/>
              <a:ext cx="2344680" cy="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pic>
        <p:nvPicPr>
          <p:cNvPr id="237" name="Picture 4" descr="SERT"/>
          <p:cNvPicPr/>
          <p:nvPr/>
        </p:nvPicPr>
        <p:blipFill>
          <a:blip r:embed="rId3"/>
          <a:stretch/>
        </p:blipFill>
        <p:spPr>
          <a:xfrm>
            <a:off x="3583080" y="-333360"/>
            <a:ext cx="5383080" cy="740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5761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ет окупаемости инвестиций 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информационную систему</a:t>
            </a:r>
            <a:br>
              <a:rPr sz="1800"/>
            </a:b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Условный пример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24000" y="1773360"/>
          <a:ext cx="8496000" cy="4576680"/>
        </p:xfrm>
        <a:graphic>
          <a:graphicData uri="http://schemas.openxmlformats.org/drawingml/2006/table">
            <a:tbl>
              <a:tblPr/>
              <a:tblGrid>
                <a:gridCol w="5365440"/>
                <a:gridCol w="568440"/>
                <a:gridCol w="617760"/>
                <a:gridCol w="580680"/>
                <a:gridCol w="695520"/>
                <a:gridCol w="66816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Масштаб предприятия, сотрудник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Количество активных (конкурентных) пользователей автоматизированных рабочих мест пользователей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 1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 7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 1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00 7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00 150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реднемесячный объем оборотных средств, млн. руб.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2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7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2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7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бъем краткосрочных кредитов (20% оборотных средств) , млн. руб.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5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9e38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атраты на внедрение и владение ИС за 3 года (млн. руб.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89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6,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,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4,1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58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Расходы на покупку сервер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1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7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2,1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ПО MS SQL Server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1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0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4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5,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Управление произв. предприятием + лицензия на сервер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21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2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2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3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5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С:Предприятие 8. Клиентские лицензи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16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внедрение (аутсорсинг в ЦКП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3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обучение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0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,5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асходы на сопровождение системы на 3 год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0,0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,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7,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8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Финансовый результат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потребности в оборотных средствах (млн. руб. в месяц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33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6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2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49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415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Экономия за счет снижения объема привлеченных денег (при ставке 14% годовых) за 3 года (млн. руб.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6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2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19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98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рок окупаемости инвестиций, лет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0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ROI (отношение финансового выигрыша к сумме инвестиций) за 3 год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94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98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,97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5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,42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1042920" y="77760"/>
            <a:ext cx="583416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ост конкурентных преимуществ предприятия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 данным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PICS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для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RP-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истем и статистике проектов 1С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24000" y="1773360"/>
          <a:ext cx="8618400" cy="4633920"/>
        </p:xfrm>
        <a:graphic>
          <a:graphicData uri="http://schemas.openxmlformats.org/drawingml/2006/table">
            <a:tbl>
              <a:tblPr/>
              <a:tblGrid>
                <a:gridCol w="7044480"/>
                <a:gridCol w="1573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заказное производство)</a:t>
                      </a:r>
                      <a:endParaRPr b="0" lang="en-US" sz="16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начение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апасы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объемов материальных запас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-4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затрат на приобретение и хранение сырья и материал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-1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доли несвоевременных поставок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80-9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объема незавершенного производств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-3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боротные средств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нижение объема привлечения краткосрочных финансовых ресурс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-1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Увеличение оборачиваемости денежных средст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-5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перативность и эффективность 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вышение качества информации для принятия решений, сокращение рисков несвоевременных и неверных решений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2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времени подготовки документов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60 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времени подготовки регламентированной отчетност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3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ыночная стоимость компани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налоговых рисков 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5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вышение лояльности клиентов (</a:t>
                      </a: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CRM)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-50%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стоимости привлечения капитал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т 1% ставки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ост капитализации и инвестиционной привлекательности бизнеса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…</a:t>
                      </a:r>
                      <a:endParaRPr b="0" lang="en-US" sz="9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042920" y="-106200"/>
            <a:ext cx="61070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Рост капитализации бизнес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ри реализации проекта 1С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214200" y="1344600"/>
            <a:ext cx="71964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Реализация проекта создания информационно-управленческой </a:t>
            </a:r>
            <a:br>
              <a:rPr sz="1600"/>
            </a:b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системы на базе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повышает инвестиционную привлекательность и капитализацию компании за счет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219240" y="2530440"/>
            <a:ext cx="59720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строения качественной системы управления бизнесо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еспечения прозрачности для инвестор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еспечения сохранности конфиденциальных данны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ддержки стратегии развития бизнес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Низкой совокупной стоимости владен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ысоких финансовых и экономических результат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нижение объема привлечения краткосрочных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финансовых ресурсов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величение оборачиваемости денежных средств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5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окращение затрат на приобретение и хранение сырья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 и материалов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30000"/>
              </a:lnSpc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нижение объема незавершенного производства до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65720" y="4064040"/>
            <a:ext cx="2460600" cy="2191320"/>
          </a:xfrm>
          <a:prstGeom prst="rect">
            <a:avLst/>
          </a:prstGeom>
          <a:solidFill>
            <a:srgbClr val="ffff00">
              <a:alpha val="50000"/>
            </a:srgbClr>
          </a:solidFill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Быстрая окупаемость инвестиций в 1С </a:t>
            </a:r>
            <a:r>
              <a:rPr b="1" lang="en-US" sz="1400" spc="-1" strike="noStrike">
                <a:solidFill>
                  <a:srgbClr val="140000"/>
                </a:solidFill>
                <a:latin typeface="Arial"/>
              </a:rPr>
              <a:t>ERP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10000"/>
              </a:lnSpc>
              <a:spcBef>
                <a:spcPts val="876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срок окупаемости проекта от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года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до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лет </a:t>
            </a:r>
            <a:r>
              <a:rPr b="0" lang="ru-RU" sz="14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  <a:p>
            <a:pPr lvl="1" marL="1440">
              <a:lnSpc>
                <a:spcPct val="110000"/>
              </a:lnSpc>
              <a:spcBef>
                <a:spcPts val="876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величина </a:t>
            </a:r>
            <a:r>
              <a:rPr b="1" lang="en-US" sz="1400" spc="-1" strike="noStrike">
                <a:solidFill>
                  <a:srgbClr val="140000"/>
                </a:solidFill>
                <a:latin typeface="Arial"/>
              </a:rPr>
              <a:t>ROI</a:t>
            </a: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на вложенные в проект средства составляет значение от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 до </a:t>
            </a:r>
            <a:r>
              <a:rPr b="1" lang="ru-RU" sz="1400" spc="-1" strike="noStrike">
                <a:solidFill>
                  <a:srgbClr val="140000"/>
                </a:solidFill>
                <a:latin typeface="Arial"/>
              </a:rPr>
              <a:t>3,5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200" y="6573960"/>
            <a:ext cx="80888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По данным международных консалтинговых компаний и проектов партнеров 1С по состоянию на Июль 2011 г.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87280" y="1236600"/>
            <a:ext cx="8569440" cy="5187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849400" y="1554120"/>
            <a:ext cx="781200" cy="517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6337440" y="1616040"/>
            <a:ext cx="352440" cy="660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597800" y="2176560"/>
            <a:ext cx="1012680" cy="584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6492960" y="2230560"/>
            <a:ext cx="1003320" cy="59508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423720" y="1731960"/>
            <a:ext cx="2225520" cy="304920"/>
            <a:chOff x="423720" y="1731960"/>
            <a:chExt cx="2225520" cy="304920"/>
          </a:xfrm>
        </p:grpSpPr>
        <p:pic>
          <p:nvPicPr>
            <p:cNvPr id="253" name="" descr=""/>
            <p:cNvPicPr/>
            <p:nvPr/>
          </p:nvPicPr>
          <p:blipFill>
            <a:blip r:embed="rId6"/>
            <a:stretch/>
          </p:blipFill>
          <p:spPr>
            <a:xfrm>
              <a:off x="423720" y="1731960"/>
              <a:ext cx="49104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7"/>
            <a:stretch/>
          </p:blipFill>
          <p:spPr>
            <a:xfrm>
              <a:off x="968040" y="1891080"/>
              <a:ext cx="1681200" cy="14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8"/>
          <a:stretch/>
        </p:blipFill>
        <p:spPr>
          <a:xfrm>
            <a:off x="395280" y="2381400"/>
            <a:ext cx="1897200" cy="2235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9"/>
          <a:stretch/>
        </p:blipFill>
        <p:spPr>
          <a:xfrm>
            <a:off x="6172200" y="3654360"/>
            <a:ext cx="896760" cy="3794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0"/>
          <a:stretch/>
        </p:blipFill>
        <p:spPr>
          <a:xfrm>
            <a:off x="7904160" y="4789440"/>
            <a:ext cx="822240" cy="12002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1"/>
          <a:stretch/>
        </p:blipFill>
        <p:spPr>
          <a:xfrm>
            <a:off x="363600" y="4884840"/>
            <a:ext cx="2546280" cy="34452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227160" y="5392800"/>
            <a:ext cx="3033720" cy="828720"/>
            <a:chOff x="227160" y="5392800"/>
            <a:chExt cx="3033720" cy="828720"/>
          </a:xfrm>
        </p:grpSpPr>
        <p:sp>
          <p:nvSpPr>
            <p:cNvPr id="260" name=""/>
            <p:cNvSpPr/>
            <p:nvPr/>
          </p:nvSpPr>
          <p:spPr>
            <a:xfrm>
              <a:off x="762120" y="5583240"/>
              <a:ext cx="24987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33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ОАО «Пантелеймоновский</a:t>
              </a:r>
              <a:br>
                <a:rPr sz="1200"/>
              </a:b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  огнеупорный завод»</a:t>
              </a:r>
              <a:r>
                <a:rPr b="0" lang="ru-RU" sz="12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12"/>
            <a:stretch/>
          </p:blipFill>
          <p:spPr>
            <a:xfrm>
              <a:off x="227160" y="5392800"/>
              <a:ext cx="795240" cy="8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/>
          <p:nvPr/>
        </p:nvSpPr>
        <p:spPr>
          <a:xfrm>
            <a:off x="236520" y="4245120"/>
            <a:ext cx="1614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Украина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16560" y="4245120"/>
            <a:ext cx="2587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азахстан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9240" y="1147680"/>
            <a:ext cx="149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Россия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3"/>
          <a:stretch/>
        </p:blipFill>
        <p:spPr>
          <a:xfrm>
            <a:off x="3187800" y="5551560"/>
            <a:ext cx="1700280" cy="450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064040" y="5979960"/>
            <a:ext cx="477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... и еще более 12 000 других.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4"/>
          <a:stretch/>
        </p:blipFill>
        <p:spPr>
          <a:xfrm>
            <a:off x="4537080" y="2978280"/>
            <a:ext cx="878040" cy="396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5"/>
          <a:stretch/>
        </p:blipFill>
        <p:spPr>
          <a:xfrm>
            <a:off x="5729400" y="2948040"/>
            <a:ext cx="2879640" cy="4269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6"/>
          <a:stretch/>
        </p:blipFill>
        <p:spPr>
          <a:xfrm>
            <a:off x="1452600" y="2949480"/>
            <a:ext cx="1665360" cy="4636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7"/>
          <a:stretch/>
        </p:blipFill>
        <p:spPr>
          <a:xfrm>
            <a:off x="7292880" y="3630600"/>
            <a:ext cx="1308240" cy="4255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8"/>
          <a:stretch/>
        </p:blipFill>
        <p:spPr>
          <a:xfrm>
            <a:off x="3659040" y="3639960"/>
            <a:ext cx="2289240" cy="4082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9"/>
          <a:stretch/>
        </p:blipFill>
        <p:spPr>
          <a:xfrm>
            <a:off x="3413160" y="2227320"/>
            <a:ext cx="884160" cy="4795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0"/>
          <a:stretch/>
        </p:blipFill>
        <p:spPr>
          <a:xfrm>
            <a:off x="2467080" y="2193840"/>
            <a:ext cx="787320" cy="662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1"/>
          <a:stretch/>
        </p:blipFill>
        <p:spPr>
          <a:xfrm>
            <a:off x="4959360" y="1763640"/>
            <a:ext cx="1235160" cy="336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2"/>
          <a:stretch/>
        </p:blipFill>
        <p:spPr>
          <a:xfrm>
            <a:off x="3905280" y="1665360"/>
            <a:ext cx="798480" cy="4348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3"/>
          <a:stretch/>
        </p:blipFill>
        <p:spPr>
          <a:xfrm>
            <a:off x="5649840" y="2233440"/>
            <a:ext cx="544680" cy="509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4"/>
          <a:stretch/>
        </p:blipFill>
        <p:spPr>
          <a:xfrm>
            <a:off x="3432240" y="2928960"/>
            <a:ext cx="792000" cy="48420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355680" y="3621240"/>
            <a:ext cx="1608120" cy="447480"/>
            <a:chOff x="355680" y="3621240"/>
            <a:chExt cx="1608120" cy="447480"/>
          </a:xfrm>
        </p:grpSpPr>
        <p:sp>
          <p:nvSpPr>
            <p:cNvPr id="279" name=""/>
            <p:cNvSpPr/>
            <p:nvPr/>
          </p:nvSpPr>
          <p:spPr>
            <a:xfrm>
              <a:off x="355680" y="3621240"/>
              <a:ext cx="1608120" cy="447480"/>
            </a:xfrm>
            <a:prstGeom prst="rect">
              <a:avLst/>
            </a:prstGeom>
            <a:gradFill rotWithShape="0">
              <a:gsLst>
                <a:gs pos="0">
                  <a:srgbClr val="4395af"/>
                </a:gs>
                <a:gs pos="100000">
                  <a:srgbClr val="479c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25"/>
            <a:stretch/>
          </p:blipFill>
          <p:spPr>
            <a:xfrm>
              <a:off x="406440" y="3670200"/>
              <a:ext cx="1517760" cy="35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1" name="" descr=""/>
          <p:cNvPicPr/>
          <p:nvPr/>
        </p:nvPicPr>
        <p:blipFill>
          <a:blip r:embed="rId26"/>
          <a:stretch/>
        </p:blipFill>
        <p:spPr>
          <a:xfrm>
            <a:off x="2185920" y="3600360"/>
            <a:ext cx="1249560" cy="487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7"/>
          <a:stretch/>
        </p:blipFill>
        <p:spPr>
          <a:xfrm>
            <a:off x="387360" y="2862360"/>
            <a:ext cx="752400" cy="5284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8"/>
          <a:stretch/>
        </p:blipFill>
        <p:spPr>
          <a:xfrm>
            <a:off x="2965320" y="4756320"/>
            <a:ext cx="1724040" cy="49680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4478400" y="2292480"/>
            <a:ext cx="985680" cy="466560"/>
            <a:chOff x="4478400" y="2292480"/>
            <a:chExt cx="985680" cy="466560"/>
          </a:xfrm>
        </p:grpSpPr>
        <p:sp>
          <p:nvSpPr>
            <p:cNvPr id="285" name=""/>
            <p:cNvSpPr/>
            <p:nvPr/>
          </p:nvSpPr>
          <p:spPr>
            <a:xfrm>
              <a:off x="4478400" y="2292480"/>
              <a:ext cx="985680" cy="466560"/>
            </a:xfrm>
            <a:prstGeom prst="rect">
              <a:avLst/>
            </a:prstGeom>
            <a:solidFill>
              <a:srgbClr val="1a5c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29"/>
            <a:stretch/>
          </p:blipFill>
          <p:spPr>
            <a:xfrm>
              <a:off x="4539600" y="2341080"/>
              <a:ext cx="862920" cy="36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"/>
          <p:cNvGrpSpPr/>
          <p:nvPr/>
        </p:nvGrpSpPr>
        <p:grpSpPr>
          <a:xfrm>
            <a:off x="5078520" y="5054760"/>
            <a:ext cx="3173400" cy="769680"/>
            <a:chOff x="5078520" y="5054760"/>
            <a:chExt cx="3173400" cy="769680"/>
          </a:xfrm>
        </p:grpSpPr>
        <p:pic>
          <p:nvPicPr>
            <p:cNvPr id="288" name="" descr=""/>
            <p:cNvPicPr/>
            <p:nvPr/>
          </p:nvPicPr>
          <p:blipFill>
            <a:blip r:embed="rId30"/>
            <a:stretch/>
          </p:blipFill>
          <p:spPr>
            <a:xfrm>
              <a:off x="5078520" y="5054760"/>
              <a:ext cx="907920" cy="76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757840" y="5189400"/>
              <a:ext cx="24940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АО «Казахстанский электролизный завод»</a:t>
              </a: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372960" y="4724280"/>
            <a:ext cx="44704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991040" y="4721040"/>
            <a:ext cx="3768840" cy="468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8000" y="1563840"/>
            <a:ext cx="63658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068480" y="-106200"/>
            <a:ext cx="8075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рганизации, использующие                                               1С:Управление производственным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едприятием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108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хема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идов подсистем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12800" y="1766880"/>
            <a:ext cx="7780320" cy="4521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rcRect l="18041" t="0" r="18079" b="67562"/>
          <a:stretch/>
        </p:blipFill>
        <p:spPr>
          <a:xfrm>
            <a:off x="2116080" y="1766880"/>
            <a:ext cx="4970520" cy="1467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rcRect l="0" t="32479" r="0" b="52731"/>
          <a:stretch/>
        </p:blipFill>
        <p:spPr>
          <a:xfrm>
            <a:off x="712800" y="3235320"/>
            <a:ext cx="7780320" cy="669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rcRect l="0" t="47114" r="52311" b="0"/>
          <a:stretch/>
        </p:blipFill>
        <p:spPr>
          <a:xfrm>
            <a:off x="712800" y="3897360"/>
            <a:ext cx="3709800" cy="2390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rcRect l="52315" t="47310" r="-270" b="17981"/>
          <a:stretch/>
        </p:blipFill>
        <p:spPr>
          <a:xfrm>
            <a:off x="4782960" y="3906720"/>
            <a:ext cx="3730680" cy="1568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rcRect l="52315" t="81994" r="-1045" b="12234"/>
          <a:stretch/>
        </p:blipFill>
        <p:spPr>
          <a:xfrm>
            <a:off x="4782960" y="5473800"/>
            <a:ext cx="3791160" cy="261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rcRect l="52315" t="87709" r="-270" b="-252"/>
          <a:stretch/>
        </p:blipFill>
        <p:spPr>
          <a:xfrm>
            <a:off x="4782960" y="5732640"/>
            <a:ext cx="3732480" cy="56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тзывы пользователей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6877080" y="1878120"/>
            <a:ext cx="1798560" cy="504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4356000" y="1916280"/>
            <a:ext cx="2448000" cy="19173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5"/>
          <p:cNvSpPr/>
          <p:nvPr/>
        </p:nvSpPr>
        <p:spPr>
          <a:xfrm>
            <a:off x="4211640" y="4005360"/>
            <a:ext cx="3887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Измайлова Яна Анатольевна, Финансовый директор «TORPAL»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4183200" y="4462560"/>
            <a:ext cx="43592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«Установив систему, мы получили возможность хранить все необходимые для производственного процесса данные в единой базе. Кроме того, все сотрудники смогли получить оперативный доступ к необходимой для работы информации, о чем</a:t>
            </a:r>
            <a:br>
              <a:rPr sz="1400"/>
            </a:b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мы раньше и не мечтали»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299" name="Rectangle 15"/>
          <p:cNvSpPr/>
          <p:nvPr/>
        </p:nvSpPr>
        <p:spPr>
          <a:xfrm>
            <a:off x="324000" y="932040"/>
            <a:ext cx="655308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Эффективность использования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1С:Управление производственным предприятием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дтверждена многочисленными отзывами пользователей данного решения. Вот некоторые из них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357120" y="4462560"/>
            <a:ext cx="37609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«Темп производства таков, что я не могу тратить время на бесконечный сбор данных из разных служб и их структурирование. Теперь я могу получать необходимые мне сведения нажатием нескольких кнопок, при этом не сомневаться ни в их достоверности, ни в их актуальности».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361800" y="4005360"/>
            <a:ext cx="35514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Тамара Сергеевна Шушпанова, генеральный директор ЗАО ЦПТА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395280" y="1916280"/>
            <a:ext cx="2597040" cy="19317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3059280" y="1916280"/>
            <a:ext cx="1037880" cy="111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ратко о главном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297000" y="1260360"/>
            <a:ext cx="7869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лючевые конкурентные преимущества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ограммного продукта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324000" y="2025720"/>
            <a:ext cx="7360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функциональные возможности мирового уровн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лное соответствие требованиям законодательства РФ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перативное сопровождение в условиях изменяющегося законодательства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нсолидация и бизнес-анализ данны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дежная технологическая платформа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«1С:Предприятие 8.2»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мплексная система методической поддержки внедрения и подготовки специалист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влекательное соотношение цена/каче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ысокое доверие к продукту (реализовано более 14 000 комплектов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решений на его базе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 более 350 000 клиентских лицензий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1068480" y="0"/>
            <a:ext cx="80755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иглашаем Вас к сотрудничеству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276120" y="1668600"/>
            <a:ext cx="859320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C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в тесном сотрудничестве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 партнерами, имеющими необходимые компетенции.</a:t>
            </a:r>
            <a:r>
              <a:rPr b="0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Центры компетенции по производству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внедрению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: 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://www.1c.ru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rus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6"/>
              </a:rPr>
              <a:t>partners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8"/>
              </a:rPr>
              <a:t>ckp.jsp</a:t>
            </a:r>
            <a:r>
              <a:rPr b="0" i="1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285840" y="4884840"/>
            <a:ext cx="85708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Arial"/>
                <a:hlinkClick r:id="rId9"/>
              </a:rPr>
              <a:t>solutions@1c.ru</a:t>
            </a:r>
            <a:r>
              <a:rPr b="0" lang="en-US" sz="1600" spc="-1" strike="noStrike">
                <a:solidFill>
                  <a:srgbClr val="5f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600120" y="3963960"/>
            <a:ext cx="8031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риглашаем Вас к сотрудничеству!</a:t>
            </a: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487680" y="1817640"/>
            <a:ext cx="62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Благодарим за внимание!</a:t>
            </a: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313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887480" y="5724360"/>
            <a:ext cx="6964560" cy="749160"/>
            <a:chOff x="1887480" y="5724360"/>
            <a:chExt cx="6964560" cy="749160"/>
          </a:xfrm>
        </p:grpSpPr>
        <p:sp>
          <p:nvSpPr>
            <p:cNvPr id="316" name=""/>
            <p:cNvSpPr/>
            <p:nvPr/>
          </p:nvSpPr>
          <p:spPr>
            <a:xfrm>
              <a:off x="2139840" y="6105240"/>
              <a:ext cx="67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Фирма «1С», 2012 г.</a:t>
              </a:r>
              <a:endParaRPr b="0" lang="en-US" sz="20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87480" y="5724360"/>
              <a:ext cx="6958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-10656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нтроль ключевых показателей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Финансовый менеджмент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324000" y="1055520"/>
            <a:ext cx="6553080" cy="15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 рамках одной программы осуществляется планирование показателей и автоматическое их сравнение с фактическими данными управленческой системы.</a:t>
            </a:r>
            <a:r>
              <a:rPr b="0" lang="en-US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едставлены</a:t>
            </a:r>
            <a:r>
              <a:rPr b="0" lang="en-US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тчеты, разработанные с применением самых популярных показателей финансового менеджмента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55640" y="2924280"/>
          <a:ext cx="7448400" cy="291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924280"/>
                    <a:ext cx="7448400" cy="29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920" y="-106560"/>
            <a:ext cx="5834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нтроль ключевых показателей 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Бюджетирование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24000" y="1011240"/>
            <a:ext cx="789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нструменты подсистемы бюджетирования в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2924280"/>
            <a:ext cx="812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5280" y="4460760"/>
            <a:ext cx="812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895320" y="4791240"/>
            <a:ext cx="7880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324000" y="6858000"/>
            <a:ext cx="8451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24000" y="1916280"/>
            <a:ext cx="8559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2680" indent="-1126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Применение разнообразных методик построения бюджетов без программных</a:t>
            </a:r>
            <a:br>
              <a:rPr sz="1600"/>
            </a:b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изменений,</a:t>
            </a:r>
            <a:r>
              <a:rPr b="1" lang="ru-RU" sz="20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работа со множеством валют</a:t>
            </a:r>
            <a:br>
              <a:rPr sz="1600"/>
            </a:b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Формирование различных версий бюджетов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разрезе сценариев</a:t>
            </a:r>
            <a:r>
              <a:rPr b="0" lang="ru-RU" sz="20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(пессимистичный, оптимистичный, реалистичный)</a:t>
            </a:r>
            <a:r>
              <a:rPr b="0" lang="ru-RU" sz="20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 детализацией по периодам (месячные, квартальные, годовые и т.д.)</a:t>
            </a:r>
            <a:r>
              <a:rPr b="0" lang="ru-RU" sz="20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 выбранной аналитикой (расшифровка показателей до конкретных контрагентов,  позиций номенклатуры, проектов и т.д.)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Оперативное занесение и получение данных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ыгрузка данных из других подсистем программы</a:t>
            </a:r>
            <a:r>
              <a:rPr b="0" lang="ru-RU" sz="20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ручное занесение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автоматизированный ввод данных (обработка "Пакетный ввод данных» создает документы со схожими реквизитами за определенный отрезок времени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Мощный механизм формирования отчет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-10656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нтроль ключевых показателей 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Финансовый анализ — аналитический баланс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09520" y="1238400"/>
            <a:ext cx="360036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ограммный продукт позволяет с необходимой детализацией прогнозировать результаты финансово-экономической деятельности предприятия.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тчет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Агрегированный аналитический баланс»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можно рассчитать результаты при различных сценариях развития экономической действительности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казатели фактической деятельности предприятия («взгляд в прошлое»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анализ эффективности принимаемых решений на основании запланированных данных («оценка будущего»)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279360" y="3838680"/>
            <a:ext cx="327348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254160" y="5076720"/>
            <a:ext cx="32493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851280" y="1773360"/>
            <a:ext cx="4417920" cy="46353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нтроль ключевых показателей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Финансовый анализ — финансовые коэффициенты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24000" y="1052640"/>
            <a:ext cx="6553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На основании данных информационной базы рассчитываются показатели, описывающие текущую структуру средств и источников финансирования предприятия, его операционную деятельность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225360" y="4765680"/>
            <a:ext cx="29656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эффективности использования капитал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225360" y="2192400"/>
            <a:ext cx="30513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отчет о прибылях и убытка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225360" y="2957400"/>
            <a:ext cx="30132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оборачиваемости активов и пассив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225360" y="3946680"/>
            <a:ext cx="29656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доходности и рентабельности ФХД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370320" y="2262240"/>
            <a:ext cx="5381640" cy="28321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367080" y="2876400"/>
            <a:ext cx="5384880" cy="22114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370320" y="3219480"/>
            <a:ext cx="5381640" cy="2152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368520" y="3711600"/>
            <a:ext cx="5381640" cy="23716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920" y="-106560"/>
            <a:ext cx="5905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Контроль ключевых показателей </a:t>
            </a:r>
            <a:br>
              <a:rPr sz="2000"/>
            </a:b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Финансовый анализ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—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показатели эффективности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24000" y="1066680"/>
            <a:ext cx="65530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од эффективностью бизнеса понимаем соотношение прибыли и произведенных затрат.</a:t>
            </a:r>
            <a:r>
              <a:rPr b="0" lang="ru-RU" sz="20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Специализированный инструмент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онитор эффективности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ориентирован на оперативную оценку ключевых показателей эффективности работы предприятия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222120" y="2333520"/>
            <a:ext cx="37832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хват всего бизнеса «одним взглядом»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своевременное выявление отклонений от плана, негативной динамики, точек роста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уточнение предоставляемой информации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использование предустановленного комплекта из более чем 60 показателей эффективности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разработка новых показателей эффектив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настройка нескольких вариантов отчета по видам деятельности, по участкам ответствен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210200" y="2284560"/>
            <a:ext cx="4406760" cy="419256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нтроль ключевых показателей </a:t>
            </a:r>
            <a:br>
              <a:rPr sz="20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МСФО — Конкурентные преимущества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47680" y="1004760"/>
            <a:ext cx="6673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Для представления учетных данных в целях составления отчетности по МСФО в конфигураци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уществует отдельный План счетов МСФ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ограммно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ддерживаются следующие варианты автоматизации подготовки отчетности МСФО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276120" y="2992320"/>
            <a:ext cx="858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8520" indent="-12852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овместное использование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ограммных продуктов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1С:Управление производственным предприятием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1С:Консолидация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зволяет сформировать полноценную отчетность МСФО, отвечающую всем требованиям международных финансовых институтов как для отдельного предприятия, так и в рамках холдинговой структур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276120" y="4338720"/>
            <a:ext cx="85806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Заложенные в конфигурацию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принципы работы с данными соответствуют требованиям закона Сарбейнса-Оксли, обязательного законодательного акта для компаний, ценные бумаги которых зарегистрированы Комиссией по ценным бумагам и биржам США. Обеспечение финансовой прозрачности и аудируемости всех операций, составление корпоративной финансовой отчетности и формирование корпоративной ответственности – это шаг  к новым стандартам ведения бизнеса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96840" y="2664000"/>
            <a:ext cx="2500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—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Трансляц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2166840" y="2657520"/>
            <a:ext cx="42148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—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Частичный параллельный уче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0:55:42Z</dcterms:created>
  <dc:creator>0</dc:creator>
  <dc:description/>
  <dc:language>en-US</dc:language>
  <cp:lastModifiedBy>Yakovlev_AV</cp:lastModifiedBy>
  <dcterms:modified xsi:type="dcterms:W3CDTF">2012-02-06T05:50:25Z</dcterms:modified>
  <cp:revision>925</cp:revision>
  <dc:subject/>
  <dc:title>Слайд 1</dc:title>
</cp:coreProperties>
</file>