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5.jpeg" ContentType="image/jpeg"/>
  <Override PartName="/ppt/media/image5.wmf" ContentType="image/x-wmf"/>
  <Override PartName="/ppt/media/image3.png" ContentType="image/png"/>
  <Override PartName="/ppt/media/image24.jpeg" ContentType="image/jpeg"/>
  <Override PartName="/ppt/media/image4.wmf" ContentType="image/x-wmf"/>
  <Override PartName="/ppt/media/image21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22.jpeg" ContentType="image/jpeg"/>
  <Override PartName="/ppt/media/image15.wmf" ContentType="image/x-wmf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00850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00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5452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FD9C-40EF-419D-B947-FBBBAC2A5B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RP-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ешения Фирмы «1С» для директора по персонал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втоматизация функций подбора персонала обусловлена следующими факторам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необходимостью составления и ведения штатного расписани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потребностью в организации процесса планирования потребностей в персонале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контролем над штатной расстановко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построение и применение системы критериев для выбора кандида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потребностью в управлении затратами на привлечение персон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еализованные в системе инструменты планирования потребностей в трудовых ресурсах и управления подбором персонала дадут руководству предприятия ответы на перечисленные вопрос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формирование кадрового плана предприя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формирование штатного распис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формирование сведений о штатной расстановке и свободных, в том числе временно свободных став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втоматизация функций подбора персонал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автоматизированная обработка заявок кандида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анализ состояния заявок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планирование встреч с кандидата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анализ затрат на привлечение персон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правление дисциплиной труда требует тщательного учета поощрений и взысканий сотрудников предприятия. Реализованные в программе инструменты управления дисциплиной труда предоставляют руководству предприятия целостную картину состояния дисциплинарной практик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учет поощрен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учет взыскан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анализ морально-деловых качеств сотрудни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системе реализовано большое число многомерных отчетов, позволяющих получить исчерпывающую информацию по состоянию и движению трудовых ресурсов предприятия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Анализ начислении работника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Анализ начислении работникам организ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Анализ результатов анкетиров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Перемещения работник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Перемещения работников организац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Динамика показателей эффектив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Извещения в военкомат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Исполнение кадрового план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Исполнительные лист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Контроль ответов на рассылк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Коэффициент текучести кадр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Коэффициент текучести кадров организ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Отражение зарплаты в регламентированном учете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 Отражение зарплаты в управленческом учет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 Отчет по заявкам кандида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. Отчет по события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 Оценки компетенций работник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. Принятые и уволенные военнообязанные работни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. Принятые и уволенные работники подлежащие призыв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. Пройденные курсы обуч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. Развитие компетен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 Расчетная ведом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. Расчетные ведомости организ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. Расчетные лист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. Расчетные листки организац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. Расчет среднесписочной числен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. Расшифровка отчета структура задолженности организ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. Результаты анкетиров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. Свободные помещ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. Свод начисленной зарплат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. Свод начисленной зарплаты организац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. Состояние кадрового план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. Списки договорников организ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. Списки работник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. Списки работников организац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. Список граждан, подлежащих постановке на воинский уче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. Список запланированных отпуск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. Список намеченных встреч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9. Список первоначальной постановки на воинский уче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. Список юношей 15 и 16-и ле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1. Сравнительный анализ затрат на персона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. Средняя численность работников организац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. Статистика кадров организ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4. Структура задолженности организац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. Участие работников в мероприятия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. Учебный план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. Штатная расстановк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. Штатная расстановка организац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9. Штатное расписание организа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щита персональных данных (152-ФЗ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изована функциональность задач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L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Leak Protec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регистрация аутентификации и отказа в аутентифик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регистрация изменений прав пользовател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регистрация фактов отказа в доступ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регистрация доступа к защищаемым ресурс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imes New Roman"/>
              </a:rPr>
              <a:t>Защищенный программно-аппаратный комплекс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cc3300"/>
                </a:solidFill>
                <a:latin typeface="Times New Roman"/>
              </a:rPr>
              <a:t>«1С: Предприятие, версии 8.2z»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тифицирован на соответствие требованиям руководящих документ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1. по защите от НСД -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cc3300"/>
                </a:solidFill>
                <a:latin typeface="Times New Roman"/>
              </a:rPr>
              <a:t>5 класс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2. по уровню контроля отсутствия НДВ  -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cc3300"/>
                </a:solidFill>
                <a:latin typeface="Times New Roman"/>
              </a:rPr>
              <a:t>по 4 уровню контроля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3. подтверждена возможность использования при построении АС до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cc3300"/>
                </a:solidFill>
                <a:latin typeface="Times New Roman"/>
              </a:rPr>
              <a:t>класса 1Г включительно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4. подтверждена возможность использования для защиты информации в ИСПДн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cc3300"/>
                </a:solidFill>
                <a:latin typeface="Times New Roman"/>
              </a:rPr>
              <a:t>до К1 включительно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c3300"/>
                </a:solidFill>
                <a:latin typeface="Times New Roman"/>
              </a:rPr>
              <a:t>Получен сертификат соответствия ФСТЭК РФ № 2137 от 20.07.2010 (срок действия до 20.07.201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 отзывам клиентов автоматизация управления персоналом позволила существенно снизить количество непроизводственных простоев. Сергей Рывкин, директор по информационным технологиям, компания M-I SWACO (Россия - Украина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Наша компания уделяет повышенное внимание работе с персоналом, и для автоматизации этого направления мы выбирали самые лучшие информационные системы и наиболее опытных экспертов…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ина Тощева, финансовый директор, ОАО ПРОМИС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Важным эффектом от автоматизации является определение точного времени простоев на предприятии и, как следствие, принятие управленческого решения для снижения простоев. Система учитывает реально потраченное время на производство продукции. Есть нормативы, в которые должен укладываться персонал. После того, как в сентябре 2007 года заработал производственный учет цифра непроизводственных простоев снизилась до 12%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омпании «Гидрозо» на платформе «1С:Предприятие 8» автоматизирована система мотивации. Созданная система позволяет рассчитывать премии с учетом более 20 показателей. Благодаря внедрению системы мотивации, продажи компании увеличились на 20%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аров Евгений Михайлович, руководитель отдела продаж, компания «Гидрозо»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Тщательно продуманная, работающая система мотивации сотрудников играет огромную роль в нашем бизнесе. Программное решение на базе «1С:Предприятие 8» помогло нам оперативно внедрить разработанную систему мотивации и обеспечить ее безошибочное функционирование. При выборе программного обеспечения в пользу «1С» говорило множество факторов: возможность автоматизированного обмена данными о продажах и предоставления отчетности в бухгалтерию, а также невысокая стоимость и короткие сроки внедрения. В результате мы получили решение, отвечающее потребностям компании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Фирма «1С»</a:t>
            </a:r>
            <a:r>
              <a:rPr b="0" lang="ru-RU" sz="1200" spc="-1" strike="noStrike">
                <a:solidFill>
                  <a:srgbClr val="140000"/>
                </a:solidFill>
                <a:latin typeface="Arial"/>
              </a:rPr>
              <a:t> рекомендует осуществлять внедрение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1C:Управление производственным предприятием</a:t>
            </a:r>
            <a:r>
              <a:rPr b="0" lang="ru-RU" sz="1200" spc="-1" strike="noStrike">
                <a:solidFill>
                  <a:srgbClr val="140000"/>
                </a:solidFill>
                <a:latin typeface="Arial"/>
              </a:rPr>
              <a:t> в тесном сотрудничестве с партнерами, имеющими необходимые компетенци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0000"/>
                </a:solidFill>
                <a:latin typeface="Arial"/>
              </a:rPr>
              <a:t>Более 600 партнеров сети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«Центры компетенции по производству»</a:t>
            </a:r>
            <a:r>
              <a:rPr b="0" lang="ru-RU" sz="1200" spc="-1" strike="noStrike">
                <a:solidFill>
                  <a:srgbClr val="140000"/>
                </a:solidFill>
                <a:latin typeface="Arial"/>
              </a:rPr>
              <a:t> (ЦКП) оказывают услуги по консалтингу и внедрени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ru-RU" sz="1200" spc="-1" strike="noStrike">
                <a:solidFill>
                  <a:srgbClr val="140000"/>
                </a:solidFill>
                <a:latin typeface="Arial"/>
              </a:rPr>
              <a:t> и отраслевых решений на его основе в 140 город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Arial"/>
              </a:rPr>
              <a:t>Актуальный перечень центров компетенции представлен по электронному адресу, который Вы видите на слай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Arial"/>
              </a:rPr>
              <a:t>В случаях, когда выбор на основе данных списка ЦКП затруднен,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Фирма «1С»</a:t>
            </a:r>
            <a:r>
              <a:rPr b="0" lang="ru-RU" sz="1200" spc="-1" strike="noStrike">
                <a:solidFill>
                  <a:srgbClr val="333333"/>
                </a:solidFill>
                <a:latin typeface="Arial"/>
              </a:rPr>
              <a:t> консультирует клиентов по вопросу выбора партнера. Для получения рекомендаций можно обратиться по электронному адресу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olutions@1c.r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Спасибо за внимание и приглашаем Вас к сотрудничеству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рудовые ресурсы предприятия являются одним из основных видов ресурсов, от качества управления которыми во многом зависит результат деятельности предприятия в цел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абота с персоналом охватывает такие задачи как подбор персонала и планирование рабочих мест, организация обучения персонала и проведение своевременных аттестаций сотрудников, планирование занятости сотрудников и управление дисциплиной труда, ведение кадрового делопроизводства и представление отчет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современных условиях решение комплекса задач по управлению персоналом предприятия немыслимо без применения средств автоматизации труда Директора по персоналу и сотрудников кадровых служ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сновные задачи, решаемые подсистемой «Управление персоналом»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Ведение кадрового уче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1. кадровое делопроизводств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2. отчетность в ПФР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3. воинский уч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Управление дисциплиной труд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. учет поощрен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. учет взыскан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. анализ морально-деловых качеств сотрудни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Управление мотивацией и социальным обеспечени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1. разработка схем мотив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2. учет данных медицинского страх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Подбор и увольнение персонал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1. формирование кадрового плана предприя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2. формирование штатного распис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3. формирование сведений о штатной расстановке и свободных, в том числе временно свободных став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Управление занятостью персонал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. планирование отпуск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. порядок привлечения сотрудников на различные мероприяти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. планированием командировок и работ бригад на удаленных объект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Управление обучением и аттестац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. планирование обучения персонал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. учет компетенций и аттестаций сотрудни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едение кадрового уче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кадровое делопроизводств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отчетность в ПФР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воинский уч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втоматизация решения задач кадрового учета, таких как оформление приказов, формирование кадровой отчетности, ведение воинского учета и представление сведений в ПФР актуальны для любых типов организаций, независимо от отраслевой принадлеж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системе реализован ряд инструментов автоматизации кадрового делопроизводства и формирования кадровой отчет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остав документов регламентированного кадрового уче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Прием на работ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Увольнение с работ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Кадровое перемещ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учет трудовых договор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формирование карточек по форме Т-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рганизация воинского учета на предприятии обеспечена использованием следующих механизм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учет по категориям запаса, званиям и ВУС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формирование донесений в военкома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формирование списков воинского уче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формирование списков забронированных (форма 6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ля обеспечения предоставления данных в ПФР в 1С:Управление производственным предприятием предусмотрены следующие инструмен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подбор должностей из Списков 1 и 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учет оснований для выслуги ле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учет оснований для исчисления стаж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учет работы в особых условия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формирование сведений СЗВ-4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формирование документов ДСВ-1, АДВ 1, 2 и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ешением задачи автоматизации кадрового делопроизводства следует считать следующие результа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Автоматизировано кадровое делопроизводств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1. формируются штатное расписание, прием на работу, кадровое перемещение, оформление отпусков и командировок, увольн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2. заполняются унифицированные печатные формы Т-1(а), Т-2, Т-3, Т-5(а), T-6(а), Т-7, Т-8(а), Т-9(а), Т-10(а), Т-13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Ведение персонифицированного учета соответствует требованиям нормативных документ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. предусмотрено автоматическое заполнение и проверка на соответствие требованиям ПФР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. учитываются анкетные данные работников – АДВ-1, АДВ-2, АДВ-3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. формируются сведения о стаже и страховых взносах – СЗВ-4-1, СЗВ-4-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Ведение воинского учета выполняется согласно действующему законодательству. Отчеты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1. Данные для постановки на учет в военкомат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2. Численность граждан запаса (формы №6 и 11/МУ)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3. Список граждан, подлежащих постановке на воинский учет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4. Список принятых и уволенных военнообязанных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5. Список юношей 15–16 лет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6. Список для первоначальной постановки юношей на воинский учет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7. Список принятых и уволенных призывник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зовы рынка требуют от компании наличия продуманной мотивационной политики. Директору по персоналу необходимо знать ответы на такие вопросы ка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Какова заинтересованность сотрудников в системе добровольного медицинского страхова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Каким образом мотивировать сотрудников на достижение лучших результат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Как проанализировать обоснованность применения тех или иных схем мотивации персонал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Как влият на размер затрат на оплату труда применение новых схем оплаты труда сотрудников предприят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Управление мотивацией и социальным обеспечением (соцпакет) включает в себ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1. разработку схем мотив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2. учет данных медицинского страх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целях решения задач мотивации в программе реализованы следующие функ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остроение различных схем мотив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анализ применения схем мотив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рогнозирование результатов применения новых схем оплаты тру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обеспечению поддержки программ добровольного медицинского страхования в программе реализованы следующие функ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учет сведений по обязательному медицинскому страхованию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управление программами добровольного медицинского страх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ктуальные вопросы, требующие повышения оперативности принятия решений путем автоматиза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планирование отпуск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привлечение сотрудников на разного рода мероприяти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планированием командировок и работ бригад на удаленных объект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ля решения задач управления занятостью Директору по персоналу необходимы инструменты планирования и учета отпусков и командировок, инструменты планирования работ и мероприятий, средства анализа остатков отпусков и доступности трудовых ресурс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еализованные в программе инструменты планирования, учета и анализа занятости позволяют создать эффективную систему управления загруженностью трудовых ресурсов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ланирование отпуск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построение графика отпуск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учет остатков отпуск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комплексный анализ использования отпусков работник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ланирование мероприятий и встреч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учет командировок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формирование приказов на командиров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планирование помещений под работы, мероприятия и встреч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комплексный анализ занятости персонала и доступности трудовых ресурс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результате решения задачи автоматизации планирования занятости персонала Директор по персоналу получа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наглядное представление исполнения графика отпуск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сформированный учебный план предприя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сведения о занятости сотрудников на различных мероприятия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сведения о причинах отсутствия сотрудников на рабочем месте (отпуск, командировка, болезнь, другие причины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облема наличия обученного персонала, способного работать на современном оборудовании, вынуждает предприятия организовывать учебный процесс без отрыва от производ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отрудники современных предприятий должны обладать достаточно большим объемом знаний и навыков и периодически подтверждать свою квалификацию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ак грамотно спланировать учебный процесс предприятия и отследить своевременность проведения аттестаций сотрудников и подтверждения разного ими своей квалификаци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правление обучением и аттестац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планирование обучения персонал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учет компетенций и аттестаций сотрудни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Инструменты планирования обучения и анализа результатов аттестаций – надежное средство решения проблемы управления качеством трудовых ресурс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планирование обуч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формирование учебного план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учет прохождения курсов обуч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Механизмы аттестационных мероприят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формирование списка компетенций по должностя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построение собственной шкалы компетенций и системы оценок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планирование аттестаций и аттестация работников по списку компетенц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Анализ результатов аттестаций персон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01720"/>
            <a:ext cx="8143920" cy="40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01720"/>
            <a:ext cx="8143920" cy="40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8720" y="1196640"/>
            <a:ext cx="87469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2" marL="264960" indent="-12672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3" marL="56844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Font typeface="Times New Roman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4" marL="74772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5" marL="747720">
              <a:spcBef>
                <a:spcPts val="400"/>
              </a:spcBef>
              <a:spcAft>
                <a:spcPts val="1001"/>
              </a:spcAft>
              <a:buClr>
                <a:srgbClr val="5f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6" marL="747720">
              <a:spcBef>
                <a:spcPts val="400"/>
              </a:spcBef>
              <a:spcAft>
                <a:spcPts val="1001"/>
              </a:spcAft>
              <a:buClr>
                <a:srgbClr val="5f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068480" y="-1440"/>
            <a:ext cx="9360" cy="763560"/>
            <a:chOff x="1068480" y="-1440"/>
            <a:chExt cx="9360" cy="763560"/>
          </a:xfrm>
        </p:grpSpPr>
        <p:sp>
          <p:nvSpPr>
            <p:cNvPr id="3" name=""/>
            <p:cNvSpPr/>
            <p:nvPr/>
          </p:nvSpPr>
          <p:spPr>
            <a:xfrm>
              <a:off x="1068480" y="-1440"/>
              <a:ext cx="0" cy="763560"/>
            </a:xfrm>
            <a:prstGeom prst="line">
              <a:avLst/>
            </a:prstGeom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077840" y="-1440"/>
              <a:ext cx="0" cy="76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8256600" y="6499080"/>
            <a:ext cx="75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69DD-1A46-4170-A5BE-6EAA92C714B8}" type="slidenum">
              <a:rPr b="1" lang="ru-RU" sz="2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-360" y="6622920"/>
            <a:ext cx="8172360" cy="2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8823240" y="5303880"/>
            <a:ext cx="7920" cy="1553760"/>
            <a:chOff x="8823240" y="5303880"/>
            <a:chExt cx="7920" cy="1553760"/>
          </a:xfrm>
        </p:grpSpPr>
        <p:sp>
          <p:nvSpPr>
            <p:cNvPr id="44" name=""/>
            <p:cNvSpPr/>
            <p:nvPr/>
          </p:nvSpPr>
          <p:spPr>
            <a:xfrm>
              <a:off x="8823240" y="5303880"/>
              <a:ext cx="0" cy="1553760"/>
            </a:xfrm>
            <a:prstGeom prst="line">
              <a:avLst/>
            </a:prstGeom>
            <a:ln w="64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831160" y="5303880"/>
              <a:ext cx="0" cy="1553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440" indent="0" algn="ctr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2" marL="138240" algn="ctr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3" marL="568440" algn="ctr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Font typeface="Times New Roman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0917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b0917"/>
              </a:solidFill>
              <a:latin typeface="Arial"/>
            </a:endParaRPr>
          </a:p>
          <a:p>
            <a:pPr lvl="4" marL="747720" algn="ctr">
              <a:spcBef>
                <a:spcPts val="349"/>
              </a:spcBef>
              <a:buClr>
                <a:srgbClr val="cc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lvl="5" marL="747720">
              <a:spcBef>
                <a:spcPts val="349"/>
              </a:spcBef>
              <a:buClr>
                <a:srgbClr val="5f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lvl="6" marL="747720">
              <a:spcBef>
                <a:spcPts val="349"/>
              </a:spcBef>
              <a:buClr>
                <a:srgbClr val="5f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c.ru/rus/partners/ckp.jsp" TargetMode="External"/><Relationship Id="rId3" Type="http://schemas.openxmlformats.org/officeDocument/2006/relationships/hyperlink" Target="http://www.1c.ru/rus/partners/ckp.jsp" TargetMode="External"/><Relationship Id="rId4" Type="http://schemas.openxmlformats.org/officeDocument/2006/relationships/hyperlink" Target="http://www.1c.ru/rus/partners/ckp.jsp" TargetMode="External"/><Relationship Id="rId5" Type="http://schemas.openxmlformats.org/officeDocument/2006/relationships/hyperlink" Target="http://www.1c.ru/rus/partners/ckp.jsp" TargetMode="External"/><Relationship Id="rId6" Type="http://schemas.openxmlformats.org/officeDocument/2006/relationships/hyperlink" Target="http://www.1c.ru/rus/partners/ckp.jsp" TargetMode="External"/><Relationship Id="rId7" Type="http://schemas.openxmlformats.org/officeDocument/2006/relationships/hyperlink" Target="http://www.1c.ru/rus/partners/ckp.jsp" TargetMode="External"/><Relationship Id="rId8" Type="http://schemas.openxmlformats.org/officeDocument/2006/relationships/hyperlink" Target="http://www.1c.ru/rus/partners/ckp.jsp" TargetMode="External"/><Relationship Id="rId9" Type="http://schemas.openxmlformats.org/officeDocument/2006/relationships/hyperlink" Target="mailto:solutions@1c.ru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0000"/>
                </a:solidFill>
                <a:latin typeface="Arial"/>
              </a:rPr>
              <a:t>ERP-</a:t>
            </a:r>
            <a:r>
              <a:rPr b="1" lang="ru-RU" sz="2400" spc="-1" strike="noStrike">
                <a:solidFill>
                  <a:srgbClr val="5f0000"/>
                </a:solidFill>
                <a:latin typeface="Arial"/>
              </a:rPr>
              <a:t>решения Фирмы «1С» для </a:t>
            </a:r>
            <a:br>
              <a:rPr sz="2400"/>
            </a:br>
            <a:r>
              <a:rPr b="1" lang="ru-RU" sz="2400" spc="-1" strike="noStrike">
                <a:solidFill>
                  <a:srgbClr val="5f0000"/>
                </a:solidFill>
                <a:latin typeface="Arial"/>
              </a:rPr>
              <a:t>Директора по персонал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4125960"/>
            <a:ext cx="3673440" cy="2438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821200" y="6381720"/>
            <a:ext cx="302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0000"/>
                </a:solidFill>
                <a:latin typeface="Arial"/>
              </a:rPr>
              <a:t>Редакция 1.3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2070000" y="1116000"/>
          <a:ext cx="4878360" cy="525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70000" y="1116000"/>
                    <a:ext cx="48783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2079720" y="3193920"/>
          <a:ext cx="2138400" cy="2124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79720" y="3193920"/>
                    <a:ext cx="21384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580248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Составление штатного расписания. Автоматизация функций подбора персонала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97440" y="1925640"/>
            <a:ext cx="482112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39680" indent="-1396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Необходимость составления штатного расписания не вызывает сомнений.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9680" indent="-1396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Но как организовать процесс планирования потребностей в персонале?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9680" indent="-1396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Как получить сведения о штатной расстановке?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9680" indent="-1396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Как из множества кандидатов выбрать лучших и проанализировать затраты на привлечение персонала?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2920" y="5591160"/>
            <a:ext cx="2757240" cy="669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100000">
                <a:srgbClr val="66ff99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Автоматизированная обработка заявок кандидатов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0" y="5581800"/>
            <a:ext cx="3024360" cy="669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100000">
                <a:srgbClr val="66ff99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Анализ состояния заявок. Планирование встреч с кандидатами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19800" y="5597280"/>
            <a:ext cx="2413080" cy="48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100000">
                <a:srgbClr val="66ff99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Анализ затрат на привлечение персонала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8520" y="2339640"/>
            <a:ext cx="3438360" cy="48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0000"/>
                </a:solidFill>
                <a:latin typeface="Arial"/>
              </a:rPr>
              <a:t>Формирование кадрового плана предприятия 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8520" y="1758600"/>
            <a:ext cx="3408480" cy="48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0000"/>
                </a:solidFill>
                <a:latin typeface="Arial"/>
              </a:rPr>
              <a:t>Формирование штатного расписания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8520" y="1177560"/>
            <a:ext cx="6149880" cy="48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0000"/>
                </a:solidFill>
                <a:latin typeface="Arial"/>
              </a:rPr>
              <a:t>Формирование сведений о штатной расстановке и свободных (в том числе и временно) ставках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78160" y="4238640"/>
            <a:ext cx="489456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Реализованные в системе инструменты планирования потребностей в трудовых ресурсах и управления подбором персонала дадут руководству предприятия ответы на перечисленные вопросы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070000" y="1116000"/>
          <a:ext cx="4878360" cy="525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70000" y="1116000"/>
                    <a:ext cx="48783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2085840" y="2162160"/>
          <a:ext cx="2138400" cy="160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85840" y="2162160"/>
                    <a:ext cx="2138400" cy="16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8120" y="-360"/>
            <a:ext cx="58086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Дисциплина труда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9960" y="3831840"/>
            <a:ext cx="1683000" cy="48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0000"/>
                </a:solidFill>
                <a:latin typeface="Arial"/>
              </a:rPr>
              <a:t>Учет поощрений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9680" y="4434480"/>
            <a:ext cx="1665360" cy="29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0000"/>
                </a:solidFill>
                <a:latin typeface="Arial"/>
              </a:rPr>
              <a:t>Учет взысканий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9960" y="4856040"/>
            <a:ext cx="2741760" cy="48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0000"/>
                </a:solidFill>
                <a:latin typeface="Arial"/>
              </a:rPr>
              <a:t>Анализ морально-деловых качеств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84720" y="1844640"/>
            <a:ext cx="46339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133920" indent="-133920">
              <a:lnSpc>
                <a:spcPct val="80000"/>
              </a:lnSpc>
              <a:spcBef>
                <a:spcPts val="99"/>
              </a:spcBef>
              <a:spcAft>
                <a:spcPts val="9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Управление дисциплиной труда требует тщательного учета поощрений и взысканий сотрудников предприятия.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3920" indent="-133920">
              <a:lnSpc>
                <a:spcPct val="80000"/>
              </a:lnSpc>
              <a:spcBef>
                <a:spcPts val="99"/>
              </a:spcBef>
              <a:spcAft>
                <a:spcPts val="9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Реализованные в программе инструменты управления дисциплиной труда предоставляют руководству предприятия целостную картину состояния дисциплинарной практики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3276720" y="3789360"/>
            <a:ext cx="4751280" cy="269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42560" y="43920"/>
            <a:ext cx="5877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Аналитическая информация о персонале. Система многомерных отчетов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1039680"/>
            <a:ext cx="65754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В системе реализовано большое число многомерных отчетов, позволяющих получить исчерпывающую информацию по состоянию и движению трудовых ресурсов предприятия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700280"/>
            <a:ext cx="453528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Анализ начислении работникам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Анализ начислении работникам организации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Анализ результатов анкетирования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Перемещения работников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Перемещения работников организаций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Динамика показателей эффективности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Извещения в военкоматы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Исполнение кадрового плана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Исполнительные листы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Контроль ответов на рассылку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Коэффициент текучести кадров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Коэффициент текучести кадров организации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Отражение зарплаты в регламентированном учете 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Отражение зарплаты в управленческом учете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Отчет по заявкам кандидатов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Отчет по событиям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Оценки компетенций работников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Принятые и уволенные военнообязанные работники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Принятые и уволенные работники подлежащие призыву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Пройденные курсы обучения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Развитие компетенции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Расчетная ведомость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Расчетные ведомости организации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Расчетные листки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Расчетные листки организаций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Расчет среднесписочной численности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19520" y="1681200"/>
            <a:ext cx="448956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Расшифровка отчета структура задолженности организации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Результаты анкетирования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Свободные помещения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Свод начисленной зарплаты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Свод начисленной зарплаты организаций 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Состояние кадрового плана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Списки договорников организации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Списки работников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Списки работников организаций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Список граждан, подлежащих постановке на воинский учет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Список запланированных отпусков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Список намеченных встреч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Список первоначальной постановки на воинский учет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Список юношей 15 и 16-и лет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Сравнительный анализ затрат на персонал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Средняя численность работников организаций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Статистика кадров организации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Структура задолженности организаций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Участие работников в мероприятиях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Учебный план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Штатная расстановка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Штатная расстановка организаций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cc3300"/>
              </a:buClr>
              <a:buSzPct val="80000"/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Штатное расписание организаций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58400" y="-106560"/>
            <a:ext cx="8075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Защита персональных данных (152-ФЗ)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2920" y="963720"/>
            <a:ext cx="801540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9280" indent="-179280"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Реализована функциональность задач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LP (Data Leak Protection)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регистрация аутентификации и отказа в аутентификаци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регистрация изменений прав пользователей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регистрация фактов отказа в доступе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регистрация доступа к защищаемым ресурса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630360" indent="-181080">
              <a:lnSpc>
                <a:spcPct val="95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3040" y="2629080"/>
            <a:ext cx="8704440" cy="39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Защищенный программно-аппаратный                                                                         комплекс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«1С: Предприятие, версии 8.2z»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                                                     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сертифицирован на соответствие требованиям                                                       руководящих документов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по защите от НСД -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cc3300"/>
                </a:solidFill>
                <a:latin typeface="Arial"/>
              </a:rPr>
              <a:t>5 класс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по уровню контроля отсутствия НДВ  -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cc3300"/>
                </a:solidFill>
                <a:latin typeface="Arial"/>
              </a:rPr>
              <a:t>по 4 уровню контрол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подтверждена возможность использования при построении АС до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                           </a:t>
            </a:r>
            <a:r>
              <a:rPr b="0" i="1" lang="ru-RU" sz="1600" spc="-1" strike="noStrike">
                <a:solidFill>
                  <a:srgbClr val="cc3300"/>
                </a:solidFill>
                <a:latin typeface="Arial"/>
              </a:rPr>
              <a:t>класса 1Г включительно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подтверждена возможность использования для защиты информации в ИСПДн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             </a:t>
            </a:r>
            <a:r>
              <a:rPr b="0" i="1" lang="ru-RU" sz="1600" spc="-1" strike="noStrike">
                <a:solidFill>
                  <a:srgbClr val="cc3300"/>
                </a:solidFill>
                <a:latin typeface="Arial"/>
              </a:rPr>
              <a:t>до К1 включительно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f0000"/>
                </a:solidFill>
                <a:latin typeface="Arial"/>
              </a:rPr>
              <a:t>   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Получен сертификат соответствия ФСТЭК РФ № 2137 от 20.07.2010                      (срок действия до 20.07.2013)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467400" y="1278000"/>
            <a:ext cx="2344680" cy="3305160"/>
            <a:chOff x="6467400" y="1278000"/>
            <a:chExt cx="2344680" cy="3305160"/>
          </a:xfrm>
        </p:grpSpPr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6467400" y="1290600"/>
              <a:ext cx="2344680" cy="3292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00" name=""/>
            <p:cNvSpPr/>
            <p:nvPr/>
          </p:nvSpPr>
          <p:spPr>
            <a:xfrm>
              <a:off x="6467400" y="1278000"/>
              <a:ext cx="0" cy="3287520"/>
            </a:xfrm>
            <a:prstGeom prst="line">
              <a:avLst/>
            </a:prstGeom>
            <a:ln w="12600">
              <a:solidFill>
                <a:srgbClr val="5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67400" y="1278000"/>
              <a:ext cx="2344680" cy="0"/>
            </a:xfrm>
            <a:prstGeom prst="line">
              <a:avLst/>
            </a:prstGeom>
            <a:ln w="12600">
              <a:solidFill>
                <a:srgbClr val="5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67400" y="4565520"/>
              <a:ext cx="2344680" cy="0"/>
            </a:xfrm>
            <a:prstGeom prst="line">
              <a:avLst/>
            </a:prstGeom>
            <a:ln w="12600">
              <a:solidFill>
                <a:srgbClr val="5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pic>
        <p:nvPicPr>
          <p:cNvPr id="203" name="Picture 4" descr="SERT"/>
          <p:cNvPicPr/>
          <p:nvPr/>
        </p:nvPicPr>
        <p:blipFill>
          <a:blip r:embed="rId3"/>
          <a:stretch/>
        </p:blipFill>
        <p:spPr>
          <a:xfrm>
            <a:off x="3583080" y="-333360"/>
            <a:ext cx="5383080" cy="740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тзывы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0" y="3284640"/>
            <a:ext cx="7002720" cy="24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«Важным эффектом от автоматизации является определение точного времени простоев на предприятии и, как следствие, принятие управленческого решения для снижения простоев. Система учитывает реально потраченное время на производство продукции. Есть нормативы, в которые должен укладываться персонал. После того, как в сентябре 2007 года заработал производственный учет цифра непроизводственных простоев снизилась до </a:t>
            </a:r>
            <a:r>
              <a:rPr b="1" i="1" lang="en-US" sz="1600" spc="-1" strike="noStrike">
                <a:solidFill>
                  <a:srgbClr val="292929"/>
                </a:solidFill>
                <a:latin typeface="Arial"/>
              </a:rPr>
              <a:t>12</a:t>
            </a: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%»</a:t>
            </a:r>
            <a:br>
              <a:rPr sz="1600"/>
            </a:b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Нина Тощева, финансовый директор, </a:t>
            </a:r>
            <a:br>
              <a:rPr sz="1400"/>
            </a:b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ОАО «ПРОМИС»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68360" y="3357720"/>
            <a:ext cx="1301760" cy="17269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24000" y="1362240"/>
            <a:ext cx="6524640" cy="16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«Наша компания уделяет повышенное внимание работе с персоналом, и для автоматизации этого направления мы выбирали самые лучшие информационные системы и наиболее опытных экспертов…»</a:t>
            </a:r>
            <a:br>
              <a:rPr sz="1600"/>
            </a:b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Сергей Рывкин, директор по информационным технологиям, </a:t>
            </a:r>
            <a:br>
              <a:rPr sz="1400"/>
            </a:b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компания 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M-I SWACO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 (Россия и Украина).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тзывы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3360" y="3043080"/>
            <a:ext cx="8445600" cy="23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«Тщательно продуманная, работающая система мотивации сотрудников играет огромную роль в нашем бизнесе. Программное решение на базе «1С:Предприятие 8» помогло нам оперативно внедрить разработанную систему мотивации и обеспечить ее безошибочное функционирование. При выборе программного обеспечения в пользу «1С» говорило множество факторов: возможность автоматизированного обмена данными о продажах и предоставления отчетности в бухгалтерию, а также невысокая стоимость и короткие сроки внедрения. В результате мы получили решение, отвечающее потребностям компании.»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Назаров Евгений Михайлович, руководитель отдела продаж,</a:t>
            </a:r>
            <a:br>
              <a:rPr sz="1400"/>
            </a:b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компания «Гидрозо»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40000" y="1116000"/>
            <a:ext cx="440676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В компании «Гидрозо» на платформе «1С:Предприятие 8» автоматизирована система мотивации. Созданная система позволяет рассчитывать премии с учетом более 20 показателей. Благодаря внедрению системы мотивации, продажи компании увеличились на 20%.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1800360" cy="14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1068480" y="0"/>
            <a:ext cx="80755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иглашаем Вас к сотрудничеству 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276120" y="1668600"/>
            <a:ext cx="859320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Фирма «1С»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рекомендует осуществлять внедрение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C:Управление производственным предприятием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 в тесном сотрудничестве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с партнерами, имеющими необходимые компетенции.</a:t>
            </a:r>
            <a:r>
              <a:rPr b="0" lang="ru-RU" sz="1600" spc="-1" strike="noStrike">
                <a:solidFill>
                  <a:srgbClr val="5f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Более 600 партнеров сети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Центры компетенции по производству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(ЦКП) оказывают услуги по консалтингу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и внедрению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и отраслевых решений на его основе в 140 городах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Актуальный перечень центров компетенции: 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://www.1c.ru/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4"/>
              </a:rPr>
              <a:t>rus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6"/>
              </a:rPr>
              <a:t>partners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8"/>
              </a:rPr>
              <a:t>ckp.jsp</a:t>
            </a:r>
            <a:r>
              <a:rPr b="0" i="1" lang="ru-RU" sz="1600" spc="-1" strike="noStrike">
                <a:solidFill>
                  <a:srgbClr val="5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285840" y="4884840"/>
            <a:ext cx="85708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В случаях, когда выбор на основе данных списка ЦКП затруднен,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Фирма «1С»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консультирует клиентов по вопросу выбора партнера. Для получения рекомендаций можно обратиться по электронному адресу: </a:t>
            </a:r>
            <a:r>
              <a:rPr b="0" lang="en-US" sz="1600" spc="-1" strike="noStrike" u="sng">
                <a:solidFill>
                  <a:srgbClr val="0033cc"/>
                </a:solidFill>
                <a:uFillTx/>
                <a:latin typeface="Arial"/>
                <a:hlinkClick r:id="rId9"/>
              </a:rPr>
              <a:t>solutions@1c.ru</a:t>
            </a:r>
            <a:r>
              <a:rPr b="0" lang="en-US" sz="1600" spc="-1" strike="noStrike">
                <a:solidFill>
                  <a:srgbClr val="5f00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600120" y="3963960"/>
            <a:ext cx="80312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Приглашаем Вас к сотрудничеству!</a:t>
            </a:r>
            <a:endParaRPr b="0" lang="en-US" sz="32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487680" y="1817640"/>
            <a:ext cx="62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Благодарим за внимание!</a:t>
            </a:r>
            <a:endParaRPr b="0" lang="en-US" sz="3200" spc="-1" strike="noStrike">
              <a:solidFill>
                <a:srgbClr val="5f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823240" y="5303880"/>
            <a:ext cx="7920" cy="1553760"/>
            <a:chOff x="8823240" y="5303880"/>
            <a:chExt cx="7920" cy="1553760"/>
          </a:xfrm>
        </p:grpSpPr>
        <p:sp>
          <p:nvSpPr>
            <p:cNvPr id="218" name=""/>
            <p:cNvSpPr/>
            <p:nvPr/>
          </p:nvSpPr>
          <p:spPr>
            <a:xfrm>
              <a:off x="8823240" y="5303880"/>
              <a:ext cx="0" cy="1553760"/>
            </a:xfrm>
            <a:prstGeom prst="line">
              <a:avLst/>
            </a:prstGeom>
            <a:ln w="64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831160" y="5303880"/>
              <a:ext cx="0" cy="1553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1908000" y="5734080"/>
            <a:ext cx="6964560" cy="749160"/>
            <a:chOff x="1908000" y="5734080"/>
            <a:chExt cx="6964560" cy="749160"/>
          </a:xfrm>
        </p:grpSpPr>
        <p:sp>
          <p:nvSpPr>
            <p:cNvPr id="221" name=""/>
            <p:cNvSpPr/>
            <p:nvPr/>
          </p:nvSpPr>
          <p:spPr>
            <a:xfrm>
              <a:off x="2160360" y="6114960"/>
              <a:ext cx="67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Фирма «1С», 2012 г.</a:t>
              </a:r>
              <a:endParaRPr b="0" lang="en-US" sz="20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08000" y="5734080"/>
              <a:ext cx="6958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8120" y="75960"/>
            <a:ext cx="58086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Вопросы автоматизации решения задач управления трудовыми ресурсами предприятия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9240" y="1341360"/>
            <a:ext cx="83851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0200" indent="0">
              <a:lnSpc>
                <a:spcPct val="13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i="1" lang="ru-RU" sz="1600" spc="-1" strike="noStrike">
                <a:solidFill>
                  <a:srgbClr val="cc3300"/>
                </a:solidFill>
                <a:latin typeface="Arial"/>
              </a:rPr>
              <a:t>Трудовые ресурсы предприятия являются одним из основных </a:t>
            </a:r>
            <a:br>
              <a:rPr sz="1600"/>
            </a:br>
            <a:r>
              <a:rPr b="0" i="1" lang="ru-RU" sz="1600" spc="-1" strike="noStrike">
                <a:solidFill>
                  <a:srgbClr val="cc3300"/>
                </a:solidFill>
                <a:latin typeface="Arial"/>
              </a:rPr>
              <a:t>видов ресурсов, от качества управления которыми во многом </a:t>
            </a:r>
            <a:br>
              <a:rPr sz="1600"/>
            </a:br>
            <a:r>
              <a:rPr b="0" i="1" lang="ru-RU" sz="1600" spc="-1" strike="noStrike">
                <a:solidFill>
                  <a:srgbClr val="cc3300"/>
                </a:solidFill>
                <a:latin typeface="Arial"/>
              </a:rPr>
              <a:t>зависит результат деятельности предприятия в целом.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160200" indent="-160200">
              <a:lnSpc>
                <a:spcPct val="13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Работа с персоналом охватывает такие задачи как подбор персонала и планирование рабочих мест, организация обучения персонала и проведение своевременных аттестаций сотрудников, планирование занятости сотрудников и управление дисциплиной труда, ведение кадрового делопроизводства и представление отчетности.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160200" indent="-160200">
              <a:lnSpc>
                <a:spcPct val="13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В современных условиях решение комплекса задач по управлению персоналом предприятия немыслимо без применения средств автоматизации труда директора по персоналу и сотрудников кадровых служб.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8120" y="47520"/>
            <a:ext cx="5808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Задачи, решаемые подсистемой «Управление персоналом»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908000" y="1116000"/>
          <a:ext cx="4878720" cy="525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8000" y="1116000"/>
                    <a:ext cx="487872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070000" y="1116000"/>
          <a:ext cx="4878360" cy="525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70000" y="1116000"/>
                    <a:ext cx="48783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33360" y="3645000"/>
            <a:ext cx="8072280" cy="14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Автоматизация решения задач кадрового учета, таких как оформление приказов, формирование кадровой отчетности, ведение воинского учета и представление сведений в ПФР актуальны для любых типов организаций, независимо от отраслевой принадлежности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В системе реализован ряд инструментов автоматизации кадрового делопроизводства и формирования кадровой отчетности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990880" y="1135080"/>
          <a:ext cx="3044880" cy="2122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90880" y="1135080"/>
                    <a:ext cx="3044880" cy="21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57722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ешение задач кадрового учета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86520" y="2719440"/>
            <a:ext cx="2673360" cy="512280"/>
          </a:xfrm>
          <a:prstGeom prst="roundRect">
            <a:avLst>
              <a:gd name="adj" fmla="val 9866"/>
            </a:avLst>
          </a:prstGeom>
          <a:gradFill rotWithShape="0">
            <a:gsLst>
              <a:gs pos="0">
                <a:srgbClr val="ccffcc"/>
              </a:gs>
              <a:gs pos="100000">
                <a:srgbClr val="66ff99"/>
              </a:gs>
            </a:gsLst>
            <a:lin ang="5400000"/>
          </a:gra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600"/>
                </a:solidFill>
                <a:latin typeface="Arial"/>
              </a:rPr>
              <a:t>Учет по категориям запаса, званиям и ВУС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84720" y="3359160"/>
            <a:ext cx="2675160" cy="512280"/>
          </a:xfrm>
          <a:prstGeom prst="roundRect">
            <a:avLst>
              <a:gd name="adj" fmla="val 10056"/>
            </a:avLst>
          </a:prstGeom>
          <a:gradFill rotWithShape="0">
            <a:gsLst>
              <a:gs pos="0">
                <a:srgbClr val="ccffcc"/>
              </a:gs>
              <a:gs pos="100000">
                <a:srgbClr val="66ff99"/>
              </a:gs>
            </a:gsLst>
            <a:lin ang="5400000"/>
          </a:gra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600"/>
                </a:solidFill>
                <a:latin typeface="Arial"/>
              </a:rPr>
              <a:t>Формирование донесений в военкомат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440" y="4079880"/>
            <a:ext cx="2665440" cy="512280"/>
          </a:xfrm>
          <a:prstGeom prst="roundRect">
            <a:avLst>
              <a:gd name="adj" fmla="val 10056"/>
            </a:avLst>
          </a:prstGeom>
          <a:gradFill rotWithShape="0">
            <a:gsLst>
              <a:gs pos="0">
                <a:srgbClr val="ccffcc"/>
              </a:gs>
              <a:gs pos="100000">
                <a:srgbClr val="66ff99"/>
              </a:gs>
            </a:gsLst>
            <a:lin ang="5400000"/>
          </a:gra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600"/>
                </a:solidFill>
                <a:latin typeface="Arial"/>
              </a:rPr>
              <a:t>Формирование списков воинского учет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4720" y="4777560"/>
            <a:ext cx="2681280" cy="718200"/>
          </a:xfrm>
          <a:prstGeom prst="roundRect">
            <a:avLst>
              <a:gd name="adj" fmla="val 9870"/>
            </a:avLst>
          </a:prstGeom>
          <a:gradFill rotWithShape="0">
            <a:gsLst>
              <a:gs pos="0">
                <a:srgbClr val="ccffcc"/>
              </a:gs>
              <a:gs pos="100000">
                <a:srgbClr val="66ff99"/>
              </a:gs>
            </a:gsLst>
            <a:lin ang="5400000"/>
          </a:gra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600"/>
                </a:solidFill>
                <a:latin typeface="Arial"/>
              </a:rPr>
              <a:t>Формирование списков забронированных (форма 6)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13000" y="3405240"/>
            <a:ext cx="2627280" cy="33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Прием на работу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9760" y="3860640"/>
            <a:ext cx="2627640" cy="54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Увольнение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с работы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9760" y="4533840"/>
            <a:ext cx="265932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Кадровые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перемещени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13000" y="5187960"/>
            <a:ext cx="262728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Учет трудовых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договоро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9760" y="5840280"/>
            <a:ext cx="2627640" cy="546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Формирование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личных карточек Т-2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5760" y="2708280"/>
            <a:ext cx="2531880" cy="546120"/>
          </a:xfrm>
          <a:prstGeom prst="roundRect">
            <a:avLst>
              <a:gd name="adj" fmla="val 14245"/>
            </a:avLst>
          </a:prstGeom>
          <a:gradFill rotWithShape="0">
            <a:gsLst>
              <a:gs pos="0">
                <a:srgbClr val="ccffff"/>
              </a:gs>
              <a:gs pos="100000">
                <a:srgbClr val="66ccff"/>
              </a:gs>
            </a:gsLst>
            <a:lin ang="5400000"/>
          </a:gra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Подбор должностей из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Списков №1 и №2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5760" y="3322800"/>
            <a:ext cx="2531880" cy="504720"/>
          </a:xfrm>
          <a:prstGeom prst="roundRect">
            <a:avLst>
              <a:gd name="adj" fmla="val 13208"/>
            </a:avLst>
          </a:prstGeom>
          <a:gradFill rotWithShape="0">
            <a:gsLst>
              <a:gs pos="0">
                <a:srgbClr val="ccffff"/>
              </a:gs>
              <a:gs pos="100000">
                <a:srgbClr val="66ccff"/>
              </a:gs>
            </a:gsLst>
            <a:lin ang="5400000"/>
          </a:gra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Учет оснований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для выслуги лет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5760" y="3895560"/>
            <a:ext cx="2531880" cy="587520"/>
          </a:xfrm>
          <a:prstGeom prst="roundRect">
            <a:avLst>
              <a:gd name="adj" fmla="val 15134"/>
            </a:avLst>
          </a:prstGeom>
          <a:gradFill rotWithShape="0">
            <a:gsLst>
              <a:gs pos="0">
                <a:srgbClr val="ccffff"/>
              </a:gs>
              <a:gs pos="100000">
                <a:srgbClr val="66ccff"/>
              </a:gs>
            </a:gsLst>
            <a:lin ang="5400000"/>
          </a:gra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Учет оснований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исчисления стаж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5760" y="4552920"/>
            <a:ext cx="2531880" cy="503280"/>
          </a:xfrm>
          <a:prstGeom prst="roundRect">
            <a:avLst>
              <a:gd name="adj" fmla="val 17028"/>
            </a:avLst>
          </a:prstGeom>
          <a:gradFill rotWithShape="0">
            <a:gsLst>
              <a:gs pos="0">
                <a:srgbClr val="ccffff"/>
              </a:gs>
              <a:gs pos="100000">
                <a:srgbClr val="66ccff"/>
              </a:gs>
            </a:gsLst>
            <a:lin ang="5400000"/>
          </a:gra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Учет работы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в особых условиях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5760" y="5124600"/>
            <a:ext cx="2531880" cy="482400"/>
          </a:xfrm>
          <a:prstGeom prst="roundRect">
            <a:avLst>
              <a:gd name="adj" fmla="val 11894"/>
            </a:avLst>
          </a:prstGeom>
          <a:gradFill rotWithShape="0">
            <a:gsLst>
              <a:gs pos="0">
                <a:srgbClr val="ccffff"/>
              </a:gs>
              <a:gs pos="100000">
                <a:srgbClr val="66ccff"/>
              </a:gs>
            </a:gsLst>
            <a:lin ang="5400000"/>
          </a:gra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Формирование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сведений СЗВ-4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5760" y="5676840"/>
            <a:ext cx="2531880" cy="692280"/>
          </a:xfrm>
          <a:prstGeom prst="roundRect">
            <a:avLst>
              <a:gd name="adj" fmla="val 11005"/>
            </a:avLst>
          </a:prstGeom>
          <a:gradFill rotWithShape="0">
            <a:gsLst>
              <a:gs pos="0">
                <a:srgbClr val="ccffff"/>
              </a:gs>
              <a:gs pos="100000">
                <a:srgbClr val="66ccff"/>
              </a:gs>
            </a:gsLst>
            <a:lin ang="5400000"/>
          </a:gra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Формирование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документов ДСВ-1,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АДВ -1, 2,3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8120" y="-360"/>
            <a:ext cx="5808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езультаты решения задач кадрового учета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1052640"/>
            <a:ext cx="8496000" cy="53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760" indent="-131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Решением задачи автоматизации кадрового делопроизвод-</a:t>
            </a:r>
            <a:br>
              <a:rPr sz="1600"/>
            </a:b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ства следует считать следующие результаты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Автоматизировано кадровое делопроизводство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формирование штатного расписания, прием на работу, кадровое перемещение, оформление отпусков и командировок, увольнение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заполнение унифицированных печатных фор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Т-1(а), Т-2, Т-3, Т-5(а), T-6(а), Т-7, Т-8(а), Т-9(а), Т-10(а), Т-13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и т.д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Ведение персонифицированного учета соответствует требованиям нормативных документов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автоматическое заполнение и проверка на соответствие требованиям ПФР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Анкетные данные работников –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АДВ-1, АДВ-2, АДВ-3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Сведения о стаже и страховых взносах –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СЗВ-4-1, СЗВ-4-2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Ведение воинского учета – согласно действующему законодательству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отчеты, которые представляются в военкоматы: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Данные для постановки на учет в военкомате;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Численность граждан запаса (формы №6 и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11/МУ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);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Список граждан, подлежащих постановке на воинский учет;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Список принятых и уволенных военнообязанных;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Список юношей 15 –16 лет;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Список для первоначальной постановки юношей на воинский учет;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Список принятых и уволенных призывников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2070000" y="1116000"/>
          <a:ext cx="4878360" cy="525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70000" y="1116000"/>
                    <a:ext cx="48783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Управление мотивацией персонала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38320" y="1637640"/>
            <a:ext cx="2317680" cy="426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Анализ применения схем мотивации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31840" y="1144080"/>
            <a:ext cx="4826160" cy="426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Оперативное прогнозирование результатов применения новых схем оплаты труда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3240" y="1639440"/>
            <a:ext cx="2436840" cy="426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Построение различных схем мотивации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21200" y="4585680"/>
            <a:ext cx="3746520" cy="426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99"/>
              </a:gs>
              <a:gs pos="100000">
                <a:srgbClr val="ccff99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Учет сведений по обязательному медицинскому страхованию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21200" y="5109480"/>
            <a:ext cx="3746520" cy="426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99"/>
              </a:gs>
              <a:gs pos="100000">
                <a:srgbClr val="ccff99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Управление программами добровольного медицинского страхования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9520" y="2081160"/>
            <a:ext cx="48434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2680" indent="-1126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Вызовы рынка требуют от компании наличия продуманной мотивационной политики. Директору по персоналу необходимо знать ответы на такие вопросы как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12680" indent="-112680">
              <a:lnSpc>
                <a:spcPct val="75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Какова заинтересованность сотрудников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в системе добровольного медицинского страхования?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12680" indent="-112680">
              <a:lnSpc>
                <a:spcPct val="75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Каким образом мотивировать сотрудников на достижение лучших результатов?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12680" indent="-112680">
              <a:lnSpc>
                <a:spcPct val="75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Как проанализировать обоснованность применения тех или иных схем мотивации персонала?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12680" indent="-112680">
              <a:lnSpc>
                <a:spcPct val="75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И самое главное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—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как могут повлиять на размер затрат на оплату труда применение новых схем оплаты труда сотрудников предприятия?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840" y="6004080"/>
            <a:ext cx="85644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В целях решения указанных задач в программе реализованы следующие функции: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788000" y="2168640"/>
          <a:ext cx="2138400" cy="2124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8000" y="2168640"/>
                    <a:ext cx="213840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2070000" y="1116000"/>
          <a:ext cx="4878360" cy="525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70000" y="1116000"/>
                    <a:ext cx="48783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4786200" y="3716280"/>
          <a:ext cx="2138400" cy="2124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6200" y="3716280"/>
                    <a:ext cx="213840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Автоматизация задач планирования </a:t>
            </a:r>
            <a:br>
              <a:rPr sz="2000"/>
            </a:b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и учета занятости персонала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1060560"/>
            <a:ext cx="640872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Кто не сталкивался с проблемами планирования отпусков? А с проблемой привлечения сотрудников на разного рода мероприятия? С планированием командировок и работ бригад на удаленных объектах?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Для решения задач управления занятостью директору по персоналу необходимы инструменты планирования и учета отпусков и командировок, инструменты планирования работ и мероприятий, средства анализа остатков отпусков и доступности трудовых ресурсов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59480" y="3507840"/>
            <a:ext cx="2290680" cy="565920"/>
          </a:xfrm>
          <a:prstGeom prst="roundRect">
            <a:avLst>
              <a:gd name="adj" fmla="val 10426"/>
            </a:avLst>
          </a:prstGeom>
          <a:gradFill rotWithShape="0">
            <a:gsLst>
              <a:gs pos="0">
                <a:srgbClr val="ccff99"/>
              </a:gs>
              <a:gs pos="100000">
                <a:srgbClr val="66ff99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Планирование отпусков. Построение графика отпусков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56240" y="3150000"/>
            <a:ext cx="2293920" cy="26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100000">
                <a:srgbClr val="66ff99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Учет остатков отпусков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45080" y="2507760"/>
            <a:ext cx="2305080" cy="565920"/>
          </a:xfrm>
          <a:prstGeom prst="roundRect">
            <a:avLst>
              <a:gd name="adj" fmla="val 10426"/>
            </a:avLst>
          </a:prstGeom>
          <a:gradFill rotWithShape="0">
            <a:gsLst>
              <a:gs pos="0">
                <a:srgbClr val="ccff99"/>
              </a:gs>
              <a:gs pos="100000">
                <a:srgbClr val="66ff99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Комплексный анализ использования отпусков работниками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20000" y="5087520"/>
            <a:ext cx="1812960" cy="634320"/>
          </a:xfrm>
          <a:prstGeom prst="roundRect">
            <a:avLst>
              <a:gd name="adj" fmla="val 8097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f0000"/>
                </a:solidFill>
                <a:latin typeface="Arial"/>
              </a:rPr>
              <a:t>Планирование мероприятий </a:t>
            </a:r>
            <a:br>
              <a:rPr sz="1400"/>
            </a:br>
            <a:r>
              <a:rPr b="1" lang="ru-RU" sz="1400" spc="-1" strike="noStrike">
                <a:solidFill>
                  <a:srgbClr val="5f0000"/>
                </a:solidFill>
                <a:latin typeface="Arial"/>
              </a:rPr>
              <a:t>и встреч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5087880"/>
            <a:ext cx="2881440" cy="633600"/>
          </a:xfrm>
          <a:prstGeom prst="roundRect">
            <a:avLst>
              <a:gd name="adj" fmla="val 7889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0000"/>
                </a:solidFill>
                <a:latin typeface="Arial"/>
              </a:rPr>
              <a:t>Учет командировок. Формирование приказов на командировки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5805360"/>
            <a:ext cx="2570040" cy="646560"/>
          </a:xfrm>
          <a:prstGeom prst="roundRect">
            <a:avLst>
              <a:gd name="adj" fmla="val 11111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0000"/>
                </a:solidFill>
                <a:latin typeface="Arial"/>
              </a:rPr>
              <a:t>Планирование помещений под работы, мероприятия и встречи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0560" y="5952600"/>
            <a:ext cx="4214520" cy="469080"/>
          </a:xfrm>
          <a:prstGeom prst="roundRect">
            <a:avLst>
              <a:gd name="adj" fmla="val 12625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f0000"/>
                </a:solidFill>
                <a:latin typeface="Arial"/>
              </a:rPr>
              <a:t>Комплексный анализ занятости персонала </a:t>
            </a:r>
            <a:br>
              <a:rPr sz="1400"/>
            </a:br>
            <a:r>
              <a:rPr b="1" lang="ru-RU" sz="1400" spc="-1" strike="noStrike">
                <a:solidFill>
                  <a:srgbClr val="5f0000"/>
                </a:solidFill>
                <a:latin typeface="Arial"/>
              </a:rPr>
              <a:t>и доступности трудовых ресурсов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3470400"/>
            <a:ext cx="4414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Реализованные в программе инструменты планирования, учета </a:t>
            </a:r>
            <a:br>
              <a:rPr sz="1600"/>
            </a:b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и анализа занятости позволяют создать эффективную систему управления загруженностью трудовых ресурсов предприятия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езультаты решение задачи планирования занятости персонала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913040"/>
            <a:ext cx="84960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1760" indent="-13176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Наглядное представление исполнения графика отпусков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131760" indent="-13176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Сформированный учебный план предприятия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131760" indent="-13176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Сведения о занятости сотрудников на разного рода мероприятиях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131760" indent="-13176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Сведения о причинах отсутствия сотрудников на рабочем месте (отпуск, командировка, болезнь, другие причины)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1052640"/>
            <a:ext cx="64022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В результате решения задачи автоматизации планирования занятости персонала директор по персоналу получает: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716120" y="2340000"/>
            <a:ext cx="5664240" cy="42004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042920" y="2708280"/>
            <a:ext cx="7094520" cy="2792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1746360" y="2946240"/>
            <a:ext cx="5634000" cy="350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2070000" y="1116000"/>
          <a:ext cx="4878360" cy="525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70000" y="1116000"/>
                    <a:ext cx="48783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8120" y="47160"/>
            <a:ext cx="58086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ланирование обучения персонала. Аттестация сотрудников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9520" y="1135080"/>
            <a:ext cx="657720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41120" indent="-141120">
              <a:lnSpc>
                <a:spcPct val="80000"/>
              </a:lnSpc>
              <a:spcBef>
                <a:spcPts val="99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роблема наличия обученного персонала, способного работать на современном оборудовании вынуждает предприятия организовывать учебный процесс без отрыва от производства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80000"/>
              </a:lnSpc>
              <a:spcBef>
                <a:spcPts val="99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Сотрудники современных предприятий должны обладать достаточно большим объемом знаний и навыков и периодически подтверждать свою квалификацию.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80000"/>
              </a:lnSpc>
              <a:spcBef>
                <a:spcPts val="99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Как грамотно спланировать учебный процесс предприятия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и отследить своевременность проведения аттестаций сотрудников и подтверждения разного ими своей квалификации?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0200" y="5165280"/>
            <a:ext cx="1766880" cy="48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100000">
                <a:srgbClr val="66ff99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Планирование обучения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0200" y="5763960"/>
            <a:ext cx="2119320" cy="48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100000">
                <a:srgbClr val="66ff99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Учет прохождения курсов обучения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0200" y="4552560"/>
            <a:ext cx="2119320" cy="48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100000">
                <a:srgbClr val="66ff99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Формирование учебного плана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99080" y="5854320"/>
            <a:ext cx="3170160" cy="48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0000"/>
                </a:solidFill>
                <a:latin typeface="Arial"/>
              </a:rPr>
              <a:t>Формирование списка компетенций по должностям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80000" y="5213160"/>
            <a:ext cx="3189240" cy="48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0000"/>
                </a:solidFill>
                <a:latin typeface="Arial"/>
              </a:rPr>
              <a:t>Построение собственной шкалы компетенций и системы оценок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80000" y="4412520"/>
            <a:ext cx="3187800" cy="63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5f0000"/>
                </a:solidFill>
                <a:latin typeface="Arial"/>
              </a:rPr>
              <a:t>Планирование аттестаций и аттестование работников по списку компетенций</a:t>
            </a:r>
            <a:endParaRPr b="0" lang="en-US" sz="13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80000" y="3760560"/>
            <a:ext cx="3189240" cy="48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0000"/>
                </a:solidFill>
                <a:latin typeface="Arial"/>
              </a:rPr>
              <a:t>Анализ результатов аттестаций персонала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3430440"/>
            <a:ext cx="518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Инструменты планирования обучения и анализа результатов аттестаций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—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 надежное средство решения проблемы управления качеством трудовых ресурсо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987640" y="4229280"/>
          <a:ext cx="2138400" cy="2124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87640" y="4229280"/>
                    <a:ext cx="213840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0:55:42Z</dcterms:created>
  <dc:creator>0</dc:creator>
  <dc:description/>
  <dc:language>en-US</dc:language>
  <cp:lastModifiedBy>Yakovlev_AV</cp:lastModifiedBy>
  <dcterms:modified xsi:type="dcterms:W3CDTF">2012-02-06T05:51:39Z</dcterms:modified>
  <cp:revision>919</cp:revision>
  <dc:subject/>
  <dc:title>Слайд 1</dc:title>
</cp:coreProperties>
</file>