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0.png" ContentType="image/png"/>
  <Override PartName="/ppt/media/image49.png" ContentType="image/png"/>
  <Override PartName="/ppt/media/image65.jpeg" ContentType="image/jpeg"/>
  <Override PartName="/ppt/media/image48.jpeg" ContentType="image/jpeg"/>
  <Override PartName="/ppt/media/image45.png" ContentType="image/png"/>
  <Override PartName="/ppt/media/image44.png" ContentType="image/png"/>
  <Override PartName="/ppt/media/image75.jpeg" ContentType="image/jpeg"/>
  <Override PartName="/ppt/media/image43.wmf" ContentType="image/x-wmf"/>
  <Override PartName="/ppt/media/image42.png" ContentType="image/png"/>
  <Override PartName="/ppt/media/image38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2.png" ContentType="image/png"/>
  <Override PartName="/ppt/media/image17.png" ContentType="image/png"/>
  <Override PartName="/ppt/media/image22.png" ContentType="image/png"/>
  <Override PartName="/ppt/media/image59.png" ContentType="image/png"/>
  <Override PartName="/ppt/media/image20.wmf" ContentType="image/x-wmf"/>
  <Override PartName="/ppt/media/image63.png" ContentType="image/png"/>
  <Override PartName="/ppt/media/image55.jpeg" ContentType="image/jpeg"/>
  <Override PartName="/ppt/media/image23.png" ContentType="image/png"/>
  <Override PartName="/ppt/media/image46.jpeg" ContentType="image/jpeg"/>
  <Override PartName="/ppt/media/image58.png" ContentType="image/png"/>
  <Override PartName="/ppt/media/image26.wmf" ContentType="image/x-wmf"/>
  <Override PartName="/ppt/media/image67.jpeg" ContentType="image/jpeg"/>
  <Override PartName="/ppt/media/image69.png" ContentType="image/png"/>
  <Override PartName="/ppt/media/image28.png" ContentType="image/png"/>
  <Override PartName="/ppt/media/image64.jpeg" ContentType="image/jpeg"/>
  <Override PartName="/ppt/media/image70.png" ContentType="image/png"/>
  <Override PartName="/ppt/media/image77.png" ContentType="image/png"/>
  <Override PartName="/ppt/media/image8.wmf" ContentType="image/x-wmf"/>
  <Override PartName="/ppt/media/image40.png" ContentType="image/png"/>
  <Override PartName="/ppt/media/image72.png" ContentType="image/png"/>
  <Override PartName="/ppt/media/image60.png" ContentType="image/png"/>
  <Override PartName="/ppt/media/image18.png" ContentType="image/png"/>
  <Override PartName="/ppt/media/image78.jpeg" ContentType="image/jpeg"/>
  <Override PartName="/ppt/media/image74.png" ContentType="image/png"/>
  <Override PartName="/ppt/media/image5.wmf" ContentType="image/x-wmf"/>
  <Override PartName="/ppt/media/image25.png" ContentType="image/png"/>
  <Override PartName="/ppt/media/image62.png" ContentType="image/png"/>
  <Override PartName="/ppt/media/image71.jpeg" ContentType="image/jpeg"/>
  <Override PartName="/ppt/media/image73.jpeg" ContentType="image/jpeg"/>
  <Override PartName="/ppt/media/image24.png" ContentType="image/png"/>
  <Override PartName="/ppt/media/image61.png" ContentType="image/png"/>
  <Override PartName="/ppt/media/image19.png" ContentType="image/png"/>
  <Override PartName="/ppt/media/image79.png" ContentType="image/png"/>
  <Override PartName="/ppt/media/image68.jpeg" ContentType="image/jpeg"/>
  <Override PartName="/ppt/media/image29.png" ContentType="image/png"/>
  <Override PartName="/ppt/media/image66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51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83D-CD12-439D-BD81-A84AFB694D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P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шения Фирмы «1С»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я Главного бухгалт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внимание в 1С:Управление производственным предприятие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еляется организации производственного учета, который включает в себ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едение массивов нормативно-справочной информации, необходимых для организации выпуска полуфабрикатов и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ланирование и учет выпуска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учет сырья, материалов, полуфабрикатов и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учет бра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учет спецодежды и спецоснаст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учет и анализ производственных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распределение косвенных рас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расчет плановой и фактической себе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реализован принцип нормативного управления производством, основанный на широких возможностях ведения нормативно-справочной информации о структуре изделия.  Представлены инструменты управления составом затрат, включаемых в себестоимость конкрет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ормирование прямых материальных затрат выполняется по спецификациям номенклатуры выпускаемых изделий или услуг. Удобство восприятия обеспечивает визуальное представление спецификации изделия в виде дерева специфик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ологические карты производства описывают нормирование труда в разрезе технологических 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рианты выбора базы распределения косвенных расходов позволяют гибко управлять себестоимостью выпускаем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предусмотрен независимый автоматизированный расчет себестоимости выпуска по управленческому, бухгалтерскому и налоговому уч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функциона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 рамках политики ценообразования на основании данных о структуре изделия программа позволяет выполнить расчет плановой себестоимости планируемого к выпуску издел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сле расчета фактической себестоимости выпуска проводится план-фактный анализ отклон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счет налогооблагаемой базы по налогу на прибыль выполняется по месячному отчетному пери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до момента расчета фактической себестоимости доступно ведение учета по плановым ценам выпус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обеспечена гибкая система настройки способов распределения всех затрат инструментами пользователя без изменения программного к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ункционал по исчислению налога на добавленную стоимость (НД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НДС реализован в соответствии с нормами гл. 21 НК 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зировано заполнение Книги покупок и Книги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ля целей учета НДС ведется раздельный учет операций, облагаемых НДС и не подлежащих налогообложению согласно ст. 149 НК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тслеживаются сложные хозяйственные ситуации в учете НДС при реализации с применением ставки НДС 0 %, при строительстве хозяйственным способом, а также при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исполнении организацией обязанностей налогового аг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суммы НДС по косвенным расходам в соответствии со ст. 170 НК РФ могут быть распределены по операциям реализации, облагаемым НДС и освобожденным от уплаты НД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и 1С:Управление производственным предприятием применяется План счетов бухгалтерского учета, соответствующий Приказу Минфина РФ «Об утверждении плана счетов бухгалтерского учета финансово-хозяйственной деятельности организации и инструкции по его применению» от 31.10.2000 № 94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применения Плана счетов налог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 счетов налогового учета законодательно не регламентируется, является частью методики ведения учета в данном реше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Планами счетов бухгалтерского и налогового учета применяется «зеркальная» кодировка с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лагается прозрачный и доступный для самостоятельной настройки пользователем механизм задания соответствия счетов бухгалтерского и налогового уч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выполнение требований ПБУ 18/02 «Учет расчетов по налогу на прибыль» по выделению временных и постоянных разниц в оценке активов и пасси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сех первичных документов обеспечена возможность контроля ключевой расчетной формулы соответствия регламентированных видов учета: БУ=НУ+ВР+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бухгалтерского и налогового учета регистрируются одновременно в момент проведения первичного документа, происходит автоматическая регистрация постоянных и временных разниц в оценке активов и обязатель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дение МСФО обеспечивает 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ется инвестиционная привлекательность на рынке капитала, обеспечивается выход на российские и международные фондовые рынки, привлечение зарубежных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ложенные в 1С:Управление производственным предприятием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информационной базе допустимо вести учет по нескольким организациям одновременно. Основные принципы ведения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бухгалтерский и налоговый учет по организациям, зарегистрированным в общей информационной базе, ведется раздельн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спользуемые в информационной базе Планы счетов бухгалтерского и налогового учета являются общими для всех организаций информационной баз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ная политика задается для каждой организации индивидуально, число организаций неограничен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внутри организации сохраняется свой порядок нумерации первичны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беспечено ведение учета по филиалам, выделенным на самостоятельный балан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ввод первичных документов выполняется с учетом часового поя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ставлены механизмы для оценки текущего состояния регламентированного учета. Они призваны облегчить рутинную работу бухгалтера по поиску и исправлению досадных «операторских» ошибок, а в целом повысить качество организации учетных 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ыявление технических бухгалтерских ошибок и анализ структуры аналитического учета выполняется отчетом «Анализ состояния бухгалтерского учет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а с отчетом начинается с задания необходимых настроек для анализа. Часть из них, как, например, эталонный План счетов, заданы по умолч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торую половину предварительных настроек в виде нежелательных проводок пользователь может указать самостоя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зультаты анализа выводятся на экран с необходимыми пояснениями, описывающими выявленную проблему. Для исправления предусмотрен непосредственный вызов из отчета карточки счета или формы операции с ошибочной провод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всех этапах деятельность предприятия контролируется государством и общественными институтами через систему законодательных актов. Их требования определяют необходимость ведения на предприятии обязательного регламентированного учета (бухгалтерского и налогового). Четкость его исполнения способствует укреплению экономической безопасности предприятия. Выделим основные составляющие организации регламентированного учета на предприят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становка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рганизация документооборо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олучение необходим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Защита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ноценную реализацию регламентированного учета обеспечивают программные продукты Фирмы «1С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лагманским решением линейки является конфигурация Управление производственным предприятием. Познакомимся с редакцией 1.3 на платформе «1С:Предприятие 8.2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авильность расчета налога на прибыль при выполнении требований ПБУ 18/02 «Учет расчетов по налогу на прибыль» можно проанализировать отчетом «Анализ состояния налогового учета по налогу на прибыль». Отчет состоит из двух частей. Первая часть отражает структуру налогов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перехода ко второй части выберем раздел «Актив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отчета изменяется и показывается стоимость активов в разрезе основных компонент бухгалтерского и налогового учета (БУ, НУ, ВР. ПР). Наглядный и удобный механизм для проведения контроль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м способом регистрации хозяйственных операций в бухгалтерском и налоговом учете является генерация или ввод в информационную базу первичных докум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особенности организации первичного документооборота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спользуются унифицированные формы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ассмотрим принципы создания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струменты, с помощью которых достигается полнота отра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печатные формы созданных в информационной базе первичных документов регламентированного учета (бухгалтерского и налогового) соответствуют требованиям действующего законодатель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документ «Требование-накладная», форма М-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окумент «Товарная накладная», форма ТОРГ-1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окумент «Счет-фактур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чественная документация является залогом спокойного проведения налоговых провер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создания первичного документооборота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бизнес-цепочки отражаются в информационной базе последовательностью первичных документов. Каждый из документов привязан к определенной зоне принятия управленческого решения или факту регистрации хозяйственной оп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беспечены удобные средства создания первичных документов регламентированного учета на основании документов предшествующих операций управленческого и регламентированн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заполнение табличной части документов возможно путем подбора по данным справочников или с учетом участвующих в операции остат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хозяйственных событий может выполняться на местах совершения пользователями, не имеющими специальных навыков в области бухгалтерского учета, с автоматическим формированием проводок по выбранному виду выполняемой оп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генерация первичных документов в системе может быть вынесена за пределы бухгалтерии и делегирована сотрудникам других служб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эти возможности на конкретных приме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вый пример отражает создание необходимого набора документов для такой часто встречающейся ситуации как отправка сотрудника в командиров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о направлении сотрудника в командировку не является хозяйственной операций в чистом виде. Но это отправная точка для дальнейших учетных действий в рамках бухгалтерской службы. Логично вести учет знаний централизовано. Приказ создается в 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труднику требуются обязательные документы, и в системе это предусмотрено: Доверенность и Командировочное удостоверение формируются с использованием данных о сотруднике, хранящихся в информационной 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сле возвращения сотрудника из командировки при составлении авансового отчета за командировку все затраты будут приняты к уч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еденный пример показывает простой вариант приобретения материалов на основании предварительной договоренности с постав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говоренности с поставщиком фиксируются документом «Заказ поставщику», который не является первичным документом регламентированного учета, но позволяет указать всю аналитику по хозяйственной операции, планируемой к  исполнению на его основ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иходовании материалов на склад на основании документа «Заказ поставщику» создается документ «Поступление товаров и услуг», который отражает факт приобретения проводками в бухгалтерском и налоговом уче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ный документ «Поступление товаров и услуг» содержит всю необходимую по данной сделке информацию и может быть зафиксирован путем проведения в информационной систем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кумента «Поступление товаров и услуг» создается документ «Счет-фактура полученный», номер и дата данного документа указываются вручную, остальные данные автоматически берутся из документа, на основании которого он соз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ходящий НДС фиксируется в системе зависимым документом «Счет-фактура полученный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туацией владеют те, кто наладил не только сбор и систематизацию данных о своем бизнесе, но и настроил механизмы упреждающего реа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возможности, предоставляемые 1С:Управление производственным предприятием для формирования различных видов отче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налитические возможности сист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остав регламентированной отчетности и принципы ее пол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струменты контроль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имущества аналитических отчетов определяются следующими фактор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ена работа с отчетом как с интерактивным документом — можно изменять его параметры, перестраивать, сформировать дополнительный отчет на основании отдельных документов уже сформированного от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формация, предоставляемая дополнительными отчетами, позволяет более эффективно организовать систему первичного документооборо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астройки отчетов можно сохранять в информационной базе для повторного ис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абло счетов предназначено для оперативного получения наиболее важной информации из бухгалтерских или налоговых итог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удобства пользователя и повышения оперативности получения отчетности в 1С:Управление производственным предприятием реализованы многие трудоемкие расчет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числение амортизации ОС и НМА по всем видам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едение «сложного» НД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оздание Книги покупок и Книги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счет зар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управление расходами будущих пери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автоматический расчет себестоимости продукции, выпущенной в течение отчетного периода, на основании данных о затратах, введенных в информационную баз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формирование форм регламентированной бухгалтерск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формирование Декларации по налогу на прибы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система регламентированной отчетности позволяет оповещать пользователя о ситуациях, способных привести к ошибкам в подготовленной регламентированной отчет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сообщение об окончании действия конкретных редакций форм и версий форматов электронного представления в связи с вступлением в силу новых редакций и верс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едупреждение о наличии ошибок в регламентированн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формирование о выходе новых релизов конфигураций или выпуске дополнений к текущим релиз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Управление производственным предприятием охватывает основные информационные потоки предприятия. Организация управления и исполнение требований учетных действий находятся в неразрывном взаимодействии. Инструменты управленческого учета и возможности планирования формируют операционную деятельность предприятия, закладывая основу для учет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RP-система, построенная на основании 1С:Управление производственным предприятием, создает информационное пространство, в котором интегрированы планирование и управление затратами, бюджетирование и расчет себестоимости, логистика, взаимоотношения с клиентами, управление персоналом, РСБУ и МСФ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став регламентированной отчетности, представленный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ормы бухгалтерск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налоговые декла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тчетность во внебюджетные социальные фон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формы статис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личные спр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формы отчетности соответствуют нормативным докум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ено предоставление отчетности в электронном виде в органы Федеральной налоговой службы и Пенсионного фонда Росси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ные мероприятия направлены на обеспечение достоверности учетных данн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тверждение достоверности данных информационной системы предусматривает регулярное проведение инвентаризаций товарно-материальных ценностей на складах, в незавершенном производстве, у комиссионе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 результатам инвентаризации автоматически подсчитывается разница между учетным и фактическим количеством ценност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ть возможность автоматического оформления документов списания или оприхо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визия дебиторской и кредиторской задолженности обеспечена отчетами по срокам долга и документом «Акт сверки взаиморасчетов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возможность надежного удаленного подключения к информационной базе делает процесс контрольных мероприятий доступным и малозатра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цедуры сбора данных как правило трудоемки и растянуты во времени, добавьте сюда затраты на систематизацию, анализ и хранение и вы поймете их истинную ценн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обое внимание в 1С:Управление производственным предприятием уделяется защите данн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ение конфиденциа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Мероприятия по закону «О персональных данных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Методическая поддержка и актуализация по действующему законодатель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инструменты обеспечения конфиденциальности хранимых в единой информационной системе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сональная регистрация пользователя в системе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озможность использования индивидуальных настрое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граничение доступа к определенным данным информационной базы, в т.ч. закрытие прошлых периодов от реда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нтроль за действиями пользова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лагаются к использованию следующие механизмы организации доступа пользователей к данны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значение ролей и дополнительных пра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задание прав для групп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спользование заданных профи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екущее состояние настроек всегда доступно для контроля отчетом «Настройка прав доступ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персональных данных (152-ФЗ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 функциональность зада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eak Protec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гистрация аутентификации и отказа в аутент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истрация изменений прав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гистрация фактов отказа в доступ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доступа к защищаемым ресурс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imes New Roman"/>
              </a:rPr>
              <a:t>Защищенный программно-аппаратный комплек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cc3300"/>
                </a:solidFill>
                <a:latin typeface="Times New Roman"/>
              </a:rPr>
              <a:t>«1С: Предприятие, версии 8.2z»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тифицирован на соответствие требованиям руководящи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. по защите от НСД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5 клас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. по уровню контроля отсутствия НДВ 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 4 уровню контроля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. подтверждена возможность использования при построении АС д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класса 1Г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. подтверждена возможность использования для защиты информации в ИСПДн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до К1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лучен сертификат соответствия ФСТЭК РФ № 2137 от 20.07.2010 (срок действия до 20.07.20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ые источники информации по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информация на сайте http://v8.1c.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обзор возможностей решений на 1С:Предприятие 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ответы на вопросы, информация по внедр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чебные кур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курсы по конфигурированию и внедрению платформы и прикладных решений, очные и Интернет-к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ддержка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обновления платформы и конфигурации, тестовые рели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Т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более 700 страниц информации, примеры разработки, полезные инстру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ниги, статьи, букле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для начинающих, для профессиона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учебные версии П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для разработчика, для бухгалтера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водя итоги по текущему выступлению еще раз отметим ключевые конкурентные преимущества программного продукт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ункциональные возможности мирового уровн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олное соответствие требованиям законодательства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перативное сопровождение в условиях изменяющегося законода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нсолидация и бизнес-анализ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надежная технологическая платформа «1С:Предприятие 8.2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комплексная система методической поддержки внедрения и подготовки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привлекательное соотношение цена/каче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высокое доверие к продукту (реализовано более 14 000 комплектов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й на его баз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 более 350 000 клиентских лиценз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данном слайде представлен список организаций, использующих 1С:Управление производственным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тнеру рекомендуется вставить путем замещения части представленных вариантов своими внедрениями (главное, чтобы был соблюден масштаб представляемых предприятий и сохранена отраслевая специфика, ориентированная на конкретного потенциального заказчик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«1С:Управление производственным предприятием»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в тесном сотрудничестве с партнерами, имеющими необходимые компетенц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спешность автоматизации определяется совпадением четко сформулированной потребности и ясным представлением возможностей программного решения. Определим отправные точки и начнем с постановки уч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е темы данного раздела презент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ддерживаемые виды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рганизация Планов сче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струменты анализ состояния организации и исполнения регламентированного учет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организации учетных действий в рамках предприятия определяющим документом является «Учетная политика». Данный документ нашел свое прямое воплощение в 1С:Управление производственным предприяти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программе поддерживаются различные системы налогообло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щий режи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ощенная система налогообложения (УСН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Единый налог на вмененный доход (ЕНВ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формационная база настраивается под конкретные потребност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обеспечивает автоматизацию следующих видов учета на предприятии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ОС и Н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чет банковских и кассовых 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 расчетов с контрагент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счет зарплаты и учет расчетов с персоналом, бюдже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учет материалов, полуфабрикатов, брака, тары,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учет незавершенного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учет затрат и расчет себестоим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учет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учет торговых операций, в том числе в розничной и комиссионной торгов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определение финансового результата деятельности для целей налогооб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возможности программного продукта по каждому из видов учета более детализировано. Учет основных средств и нематериальных активов включает учетные действия дл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орудования, поступившего на предприятие и не переданного в эксплуатаци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борудования, переданного в монт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бъектов строительства, основных средст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нематериальных акти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учете банковских и кассовых операций можно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заимодействие с банковскими программами типа «Банк-клиент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возможность ведения расчетов с помощью банковских кар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разнесение выписок и банковски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ведение нескольких касс, создание кассовой книг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автоматическое заполнение Формы №4 «Отчет о движении денежных средств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слайд показывает основные принципы организации учета расчетов с контраген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обязательной аналитикой при операциях с контрагентами является договор, предусмотрена детализация проведения документа до сделки и документа расче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 виду договора автоматически определяются характер операции и предполагаемые бухгалтерские провод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все документы по договору оформляются в валюте догов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 договорам с расчетами в валюте создаются проводки с рублевой и валютной суммой, производится переоценка валютных остатков на счетах, которые используются в провод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в налоговом учете расчеты с контрагентами не отражаются, при необходимости формируются проводки по отражению курсовых и суммовых разниц в составе внереализационных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отрим основные возможности конфигурации для управления персоналом и расчета заработной платы. Подробно вопрос рассматривается в специализированных презентациях.  Основ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кадровый учет и анализ кадрового соста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зация кадрового дело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ланирование потребностей в персона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ланирование занятости и графика отпусков работни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управление финансовой мотивацией персонал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расчет заработной 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автоматический расчет начислений, удержаний, налогов и взносов с ФО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отражение начисленной зарплаты и налогов в затратах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управление денежными расчетами с персоналом, включая депонир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01720"/>
            <a:ext cx="8143920" cy="40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480" y="0"/>
            <a:ext cx="57988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8720" y="1116000"/>
            <a:ext cx="87469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1" marL="115920" indent="-11448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2" marL="252360" indent="-1350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2920"/>
            <a:ext cx="81723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4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BB8C-05B6-4BAF-9AE2-6C16358D33E2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44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40000"/>
              </a:solidFill>
              <a:latin typeface="Arial"/>
            </a:endParaRPr>
          </a:p>
          <a:p>
            <a:pPr lvl="1" marL="1440" indent="0"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140000"/>
              </a:solidFill>
              <a:latin typeface="Arial"/>
            </a:endParaRPr>
          </a:p>
          <a:p>
            <a:pPr lvl="2" marL="117360" algn="ctr"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14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jpe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jpeg"/><Relationship Id="rId20" Type="http://schemas.openxmlformats.org/officeDocument/2006/relationships/image" Target="../media/image65.jpeg"/><Relationship Id="rId21" Type="http://schemas.openxmlformats.org/officeDocument/2006/relationships/image" Target="../media/image66.png"/><Relationship Id="rId22" Type="http://schemas.openxmlformats.org/officeDocument/2006/relationships/image" Target="../media/image67.jpeg"/><Relationship Id="rId23" Type="http://schemas.openxmlformats.org/officeDocument/2006/relationships/image" Target="../media/image68.jpe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jpeg"/><Relationship Id="rId27" Type="http://schemas.openxmlformats.org/officeDocument/2006/relationships/image" Target="../media/image72.png"/><Relationship Id="rId28" Type="http://schemas.openxmlformats.org/officeDocument/2006/relationships/image" Target="../media/image73.jpeg"/><Relationship Id="rId29" Type="http://schemas.openxmlformats.org/officeDocument/2006/relationships/image" Target="../media/image74.png"/><Relationship Id="rId30" Type="http://schemas.openxmlformats.org/officeDocument/2006/relationships/image" Target="../media/image75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image" Target="../media/image77.png"/><Relationship Id="rId4" Type="http://schemas.openxmlformats.org/officeDocument/2006/relationships/image" Target="../media/image78.jpe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01720"/>
            <a:ext cx="81439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–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решения Фирмы «1С»</a:t>
            </a:r>
            <a:br>
              <a:rPr sz="2400"/>
            </a:b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ля Главного бухгалтера</a:t>
            </a:r>
            <a:endParaRPr b="1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43080" y="3759120"/>
            <a:ext cx="3670200" cy="2720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4840" y="3997440"/>
            <a:ext cx="27349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4240" y="-360"/>
            <a:ext cx="579276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оизводственный учет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272880" y="1263600"/>
            <a:ext cx="65851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ведение массивов нормативно-справочной информации,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еобходимых для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рганизации выпуска полуфабрикатов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ланирование и учет выпуска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сырья, материалов, полуфабрикатов и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брак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спецодежды и спецоснаст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и анализ производственных затра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пределение косвенных расход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плановой и фактической себестоим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8480" y="0"/>
            <a:ext cx="57988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ЗАТРАТ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ормативное управление производством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66760" y="1008000"/>
            <a:ext cx="66261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предоставляет широкие возможности ведения нормативно-справочной информации о структуре изделия и позволяет управлять составом включаемых в его себестоимость затрат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279360" y="2060640"/>
            <a:ext cx="32828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ормирование прямых материальных затрат выполняется по спецификациям номенклатуры выпускаемых изделий или услуг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93960" y="1976400"/>
            <a:ext cx="5180040" cy="3844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45" name="Rectangle 18"/>
          <p:cNvSpPr/>
          <p:nvPr/>
        </p:nvSpPr>
        <p:spPr>
          <a:xfrm>
            <a:off x="276120" y="3660840"/>
            <a:ext cx="3416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технологические карты производства описывают нормирование труда в разрезе технологических операций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70000" y="4788000"/>
            <a:ext cx="31399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арианты выбора базы распределения косвенных расходов позволяют гибко управлять себестоимостью выпускаемой продукци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693960" y="2529000"/>
            <a:ext cx="5183280" cy="3120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48" name="Picture 14" descr="Учетная политика_ОХР"/>
          <p:cNvPicPr/>
          <p:nvPr/>
        </p:nvPicPr>
        <p:blipFill>
          <a:blip r:embed="rId4"/>
          <a:stretch/>
        </p:blipFill>
        <p:spPr>
          <a:xfrm>
            <a:off x="3695760" y="3032280"/>
            <a:ext cx="5181480" cy="3384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8480" y="-360"/>
            <a:ext cx="579888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ет себестоимост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70000" y="1173240"/>
            <a:ext cx="664200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едусмотрен независимый автоматизированный расчет себестоимости выпуска по управленческому, бухгалтерскому и налоговому учет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рамках реализации политики ценообразования на основании данных о структуре изделия программа позволяет выполнить расчет плановой себестоимости планируемого к выпуску издел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ле расчета фактической себестоимости выпуска проводится план-фактный анализ отклонен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налогооблагаемой базы по налогу на прибыль выполняется по месячному отчетному период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о момента расчета фактической себестоимости доступно ведение учета по плановым ценам выпуск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а гибкая система настройки способов распределения всех затрат инструментами пользователя без изменения программного код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4240" y="19080"/>
            <a:ext cx="579276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НДС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79360" y="1179360"/>
            <a:ext cx="8555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260280" y="1209600"/>
            <a:ext cx="8559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НДС реализован в соответствии с нормами гл. 21 НК 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втоматизировано заполнение Книги покупок и Книги продаж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целей учета НДС ведется раздельный учет операций, облагаемых НДС и не подлежащих налогообложению согласно ст. 149 НК 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слеживаются сложные хозяйственные ситуации в учете НДС при реализации с применением ставки НДС 0 %, при строительстве хозяйственным способом, а также при исполнении организацией обязанностей налогового аген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уммы НДС по косвенным расходам в соответствии со ст. 170 НК РФ могут быть распределены по операциям реализации, облагаемым НДС и освобожденным от уплаты НД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3840" indent="-1238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47680" y="4675320"/>
            <a:ext cx="85899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Рассмотрим более подробно инструменты указанных решений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ланы счетов бухгалтерского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налогового учета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56" name="Picture 24" descr="План счетов БУ_2"/>
          <p:cNvPicPr/>
          <p:nvPr/>
        </p:nvPicPr>
        <p:blipFill>
          <a:blip r:embed="rId2"/>
          <a:stretch/>
        </p:blipFill>
        <p:spPr>
          <a:xfrm>
            <a:off x="396720" y="2473200"/>
            <a:ext cx="7186680" cy="26132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7" name="Picture 25" descr="План счетов НУ_2"/>
          <p:cNvPicPr/>
          <p:nvPr/>
        </p:nvPicPr>
        <p:blipFill>
          <a:blip r:embed="rId3"/>
          <a:stretch/>
        </p:blipFill>
        <p:spPr>
          <a:xfrm>
            <a:off x="2222640" y="3876840"/>
            <a:ext cx="6499080" cy="2496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58" name="Rectangle 26"/>
          <p:cNvSpPr/>
          <p:nvPr/>
        </p:nvSpPr>
        <p:spPr>
          <a:xfrm>
            <a:off x="307800" y="1049400"/>
            <a:ext cx="64850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шении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меняется План счетов бухгалтерского учета, соответствующий Приказу Минфина РФ "Об утверждении плана счетов бухгалтерского учета финансово-хозяйственной деятельности организации и инструкции по его применению" от 31.10.2000 № 94н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0600" y="4753080"/>
            <a:ext cx="2305080" cy="1780920"/>
          </a:xfrm>
          <a:prstGeom prst="wedgeRectCallout">
            <a:avLst>
              <a:gd name="adj1" fmla="val 50000"/>
              <a:gd name="adj2" fmla="val -91532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конодательно не регламентируется, является частью методики ведения учета в данном решен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2486160"/>
            <a:ext cx="1971720" cy="1066680"/>
          </a:xfrm>
          <a:prstGeom prst="wedgeRectCallout">
            <a:avLst>
              <a:gd name="adj1" fmla="val -59337"/>
              <a:gd name="adj2" fmla="val 89583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меняется «зеркальная» кодировка 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077840" y="-115920"/>
            <a:ext cx="806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ответствие счетов БУ и НУ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276120" y="1120680"/>
            <a:ext cx="6610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едлагается прозрачный и доступный для самостоятельной настройки пользователем механизм соответствия счетов бухгалтерского и налогового учета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63" name="Picture 15" descr="Соответствие счетов БУ и НУ_3"/>
          <p:cNvPicPr/>
          <p:nvPr/>
        </p:nvPicPr>
        <p:blipFill>
          <a:blip r:embed="rId2"/>
          <a:stretch/>
        </p:blipFill>
        <p:spPr>
          <a:xfrm>
            <a:off x="1130400" y="1859040"/>
            <a:ext cx="6939000" cy="4484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790640" y="1106640"/>
            <a:ext cx="5321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17680" indent="-364680" algn="ctr">
              <a:lnSpc>
                <a:spcPct val="100000"/>
              </a:lnSpc>
              <a:spcBef>
                <a:spcPts val="751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БУ = НУ + ВР +ПР</a:t>
            </a:r>
            <a:endParaRPr b="0" lang="en-US" sz="3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058760" y="-106200"/>
            <a:ext cx="8085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ддержка требований ПБУ 18/0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14280" y="5864400"/>
            <a:ext cx="8535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 при проведении документа предусмотрена автоматическая регистрация постоянных и временных разниц в оценке активов и обязательст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47800" y="1727280"/>
          <a:ext cx="7448400" cy="41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1727280"/>
                    <a:ext cx="74484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6040" y="0"/>
            <a:ext cx="5792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ланы счетов — МСФО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47680" y="1004760"/>
            <a:ext cx="6662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представления учетных данных в целях составления отчетности по МСФО в конфигураци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уществует отдельный План счетов МСФ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о поддерживаются следующие варианты автоматизации подготовки отчетности МСФО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76120" y="3097080"/>
            <a:ext cx="858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вместное использовани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х проду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Консолидация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зволяет сформировать полноценную отчетность МСФО, отвечающую всем требованиям международных финансовых институтов как для отдельного предприятия, так и в рамках холдинговой структур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382680" y="4443480"/>
            <a:ext cx="847404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ложенные в конфигурац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382680" y="2730600"/>
            <a:ext cx="2500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Трансляц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2452680" y="2724120"/>
            <a:ext cx="4214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Частичный параллельный уче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077840" y="0"/>
            <a:ext cx="8066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чет деятельности нескольких организаций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одной базе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89080" y="1741320"/>
            <a:ext cx="85723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Бухгалтерский и налоговый учет (в отличии от управленческого учета)  по организациям, зарегистрированным в общей информационной базе, ведется раздельно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спользуемые в информационной базе Планы счетов бухгалтерского и налогового учета являются общими для всех организаций информационной баз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ная политика задается для каждой организации индивидуа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нутри организации сохраняется свой порядок нумерации первичных докумен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Число организаций неограничен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ено ведение учета по филиалам, выделенным на самостоятельный балан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значительной территориальной удаленности выделенных подразделений ввод первичных документов выполняется с учетом часового пояс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2" descr="Анализ БУ_эталонный ПС"/>
          <p:cNvPicPr/>
          <p:nvPr/>
        </p:nvPicPr>
        <p:blipFill>
          <a:blip r:embed="rId2"/>
          <a:stretch/>
        </p:blipFill>
        <p:spPr>
          <a:xfrm>
            <a:off x="1200240" y="2119320"/>
            <a:ext cx="6435720" cy="4043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5000760" y="4238640"/>
            <a:ext cx="2257200" cy="1438200"/>
          </a:xfrm>
          <a:prstGeom prst="wedgeRectCallout">
            <a:avLst>
              <a:gd name="adj1" fmla="val -107032"/>
              <a:gd name="adj2" fmla="val -159824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стройках отчета присутствует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эталонный план 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79" name="Picture 11" descr="Анализ БУ_параметры анализа"/>
          <p:cNvPicPr/>
          <p:nvPr/>
        </p:nvPicPr>
        <p:blipFill>
          <a:blip r:embed="rId3"/>
          <a:stretch/>
        </p:blipFill>
        <p:spPr>
          <a:xfrm>
            <a:off x="1174680" y="2104920"/>
            <a:ext cx="6451560" cy="4040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80" name="Rectangle 2"/>
          <p:cNvSpPr/>
          <p:nvPr/>
        </p:nvSpPr>
        <p:spPr>
          <a:xfrm>
            <a:off x="1077840" y="-106200"/>
            <a:ext cx="806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СОСТОЯНИЯ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ухгалтерский учет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87280" y="1041480"/>
            <a:ext cx="6632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явление технических бухгалтерских ошибок и анализ структуры аналитического учета выполняется отче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нализ состояния бухгалтерского учета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81560" y="4705200"/>
            <a:ext cx="2686320" cy="1609920"/>
          </a:xfrm>
          <a:prstGeom prst="wedgeRectCallout">
            <a:avLst>
              <a:gd name="adj1" fmla="val -101361"/>
              <a:gd name="adj2" fmla="val -93884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стройках указаны недопустимые или требующие исключительного применения провод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83" name="Picture 13" descr="Анализ БУ_отчет"/>
          <p:cNvPicPr/>
          <p:nvPr/>
        </p:nvPicPr>
        <p:blipFill>
          <a:blip r:embed="rId4"/>
          <a:stretch/>
        </p:blipFill>
        <p:spPr>
          <a:xfrm>
            <a:off x="820800" y="1901880"/>
            <a:ext cx="6810480" cy="45464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5200560" y="4705200"/>
            <a:ext cx="3676680" cy="1600200"/>
          </a:xfrm>
          <a:prstGeom prst="wedgeRectCallout">
            <a:avLst>
              <a:gd name="adj1" fmla="val -92356"/>
              <a:gd name="adj2" fmla="val -53967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исправления нежелательных ситуаций  предусмотрен непосредственный вызов карточки счета или формы операции с ошибочной проводко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8480" y="0"/>
            <a:ext cx="57988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егламентированный учет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2680" y="4915080"/>
            <a:ext cx="83898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ценную реализацию регламентированного учета обеспечивают программные продукты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ы «1С»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лагманским решением линейки является конфигурация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знакомимся с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едакцией 1.3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 платформе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1С:Предприятие 8.2»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70000" y="1119240"/>
            <a:ext cx="66117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 всех этапах деятельность предприятия контролируется государством и общественными институтами через систему законодательных актов. Их требования определяют необходимость ведения на предприятии обязательного регламентированного учета (бухгалтерского и налогового). Четкость его исполнения способствует укреплению экономической безопасности предприятия.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38360" y="3049560"/>
          <a:ext cx="7448400" cy="15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3049560"/>
                    <a:ext cx="74484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36720" y="3236760"/>
          <a:ext cx="1689120" cy="114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720" y="3236760"/>
                    <a:ext cx="168912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722680" y="3238560"/>
          <a:ext cx="1689120" cy="114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22680" y="3238560"/>
                    <a:ext cx="1689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08640" y="3228840"/>
          <a:ext cx="1689120" cy="1148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8640" y="3228840"/>
                    <a:ext cx="168912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294600" y="3228840"/>
          <a:ext cx="1688760" cy="114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94600" y="3228840"/>
                    <a:ext cx="16887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состояния налогового учета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68200" y="1085760"/>
            <a:ext cx="657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авильность расчета налога на прибыль при выполнении требований ПБУ 18/02 «Учет расчетов по налогу на прибыль» можно проанализировать отче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нализ состояния налогового учета по налогу на прибыль»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87" name="Picture 13" descr="Анализ НУ_структура_1"/>
          <p:cNvPicPr/>
          <p:nvPr/>
        </p:nvPicPr>
        <p:blipFill>
          <a:blip r:embed="rId2"/>
          <a:stretch/>
        </p:blipFill>
        <p:spPr>
          <a:xfrm>
            <a:off x="1273320" y="2058840"/>
            <a:ext cx="6592680" cy="4461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6438960" y="3533760"/>
            <a:ext cx="1200240" cy="371520"/>
          </a:xfrm>
          <a:prstGeom prst="roundRect">
            <a:avLst>
              <a:gd name="adj" fmla="val 42310"/>
            </a:avLst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77080" y="2486160"/>
            <a:ext cx="1895400" cy="742680"/>
          </a:xfrm>
          <a:prstGeom prst="wedgeRectCallout">
            <a:avLst>
              <a:gd name="adj1" fmla="val -57787"/>
              <a:gd name="adj2" fmla="val 10170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пример, выберем актив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90" name="Picture 15" descr="Анализ НУ_оценка_1"/>
          <p:cNvPicPr/>
          <p:nvPr/>
        </p:nvPicPr>
        <p:blipFill>
          <a:blip r:embed="rId3"/>
          <a:stretch/>
        </p:blipFill>
        <p:spPr>
          <a:xfrm>
            <a:off x="1274760" y="2055960"/>
            <a:ext cx="6589800" cy="4427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6419880" y="4867200"/>
            <a:ext cx="2371680" cy="1581120"/>
          </a:xfrm>
          <a:prstGeom prst="wedgeRectCallout">
            <a:avLst>
              <a:gd name="adj1" fmla="val -53277"/>
              <a:gd name="adj2" fmla="val -107027"/>
            </a:avLst>
          </a:prstGeom>
          <a:solidFill>
            <a:srgbClr val="ffff99">
              <a:alpha val="8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глядной форме представлены величины налоговых компонент   (НУ, ВР, ПР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remove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КУМЕНТООБОРОТ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егистрация хозяйственных операци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91960" y="1225440"/>
            <a:ext cx="6578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сновным способом регистрации хозяйственных операций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бухгалтерском и налоговом учете является генерация или ввод в информационную базу первичных документов.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55720" y="2614680"/>
          <a:ext cx="744840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720" y="2614680"/>
                    <a:ext cx="744840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19040" y="2014560"/>
            <a:ext cx="8372520" cy="3171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784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КУМЕНТООБОРОТ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нифицированные формы первичных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кументов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14280" y="1049400"/>
            <a:ext cx="6643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се печатные формы созданных в информационной базе первичных документов регламентированного учета (бухгалтерского и налогового) соответствуют требованиям действующего законодатель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257640" y="2016000"/>
            <a:ext cx="5537160" cy="44323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17600" y="2692440"/>
            <a:ext cx="7049880" cy="37544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4857840" y="2009880"/>
            <a:ext cx="2638440" cy="1342800"/>
          </a:xfrm>
          <a:prstGeom prst="wedgeRectCallout">
            <a:avLst>
              <a:gd name="adj1" fmla="val -124972"/>
              <a:gd name="adj2" fmla="val 43027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ачественная документация залог спокойствия при налоговой проверке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КУМЕНТООБОРОТ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нципы создания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87280" y="1415880"/>
            <a:ext cx="861228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7080" indent="-127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изнес-цепочки отражаются в информационной баз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следовательностью первичных документов. Каждый из документов привязан к определенной зоне принятия управленческого решения или факту регистрации хозяйственной опе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7080" indent="-1270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обеспечены удобные средства создания первичных документов регламентированного учета на основании документов предшествующих операций управленческого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регламентированного у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7080" indent="-1270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полнение табличной части документов возможно путем подбора по данным справочников или с учетом участвующих в операции остатк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7080" indent="-1270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хозяйственных событий может выполняться на местах совершения пользователями, не имеющими специальных навыков в области бухгалтерского учета, с автоматическим формированием проводок по выбранному виду выполняемой опе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7080" indent="-1270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Генерация первичных документов в системе может быть вынесена за пределы бухгалтерии и делегирована сотрудникам других служб организ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55680" y="6064200"/>
            <a:ext cx="85802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смотрим эти возможности на конкретных примерах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78000" y="1311120"/>
            <a:ext cx="4797360" cy="4768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427720" y="1716120"/>
            <a:ext cx="3346560" cy="2795400"/>
          </a:xfrm>
          <a:prstGeom prst="wedgeRectCallout">
            <a:avLst>
              <a:gd name="adj1" fmla="val -125569"/>
              <a:gd name="adj2" fmla="val 4458"/>
            </a:avLst>
          </a:prstGeom>
          <a:solidFill>
            <a:srgbClr val="ffff99">
              <a:alpha val="9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ешение о направлении сотрудника в командировку не является хозяйственной операций в чистом виде. 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о это отправная точка для дальнейших учетных действий в рамках бухгалтерской службы. Логично вести учет знаний централизовано. Приказ создается в системе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714840" y="1728720"/>
            <a:ext cx="5054400" cy="4792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372960" y="2987640"/>
            <a:ext cx="3979800" cy="3263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КУМЕНТООБООТ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лнота отражения - Пример «Командировка»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87880" y="3902040"/>
            <a:ext cx="3297240" cy="988920"/>
          </a:xfrm>
          <a:prstGeom prst="wedgeRectCallout">
            <a:avLst>
              <a:gd name="adj1" fmla="val -74796"/>
              <a:gd name="adj2" fmla="val 65731"/>
            </a:avLst>
          </a:prstGeom>
          <a:solidFill>
            <a:srgbClr val="ffff99">
              <a:alpha val="9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труднику требуются обязательные документы —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в системе это предусмотре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724120" y="1308240"/>
            <a:ext cx="3624120" cy="4460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5575320" y="4844880"/>
            <a:ext cx="2840040" cy="1251000"/>
          </a:xfrm>
          <a:prstGeom prst="wedgeRectCallout">
            <a:avLst>
              <a:gd name="adj1" fmla="val -94550"/>
              <a:gd name="adj2" fmla="val -194541"/>
            </a:avLst>
          </a:prstGeom>
          <a:solidFill>
            <a:srgbClr val="ffff99">
              <a:alpha val="9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составлении авансового отчета за командировку все затраты будут приняты к учет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54080" y="-106560"/>
            <a:ext cx="60739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КУМЕНТООБООТ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лнота отражения —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имер «Покупка материалов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4" name="Picture 8" descr="Заказ поставщику"/>
          <p:cNvPicPr/>
          <p:nvPr/>
        </p:nvPicPr>
        <p:blipFill>
          <a:blip r:embed="rId2"/>
          <a:stretch/>
        </p:blipFill>
        <p:spPr>
          <a:xfrm>
            <a:off x="378000" y="1763640"/>
            <a:ext cx="7700760" cy="4751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5477040" y="2381400"/>
            <a:ext cx="3324240" cy="3095640"/>
          </a:xfrm>
          <a:prstGeom prst="wedgeRectCallout">
            <a:avLst>
              <a:gd name="adj1" fmla="val -111078"/>
              <a:gd name="adj2" fmla="val -62305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оговоренности с поставщиком фиксируются документом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Заказ поставщику»,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который не является первичным документом регламентированного учета, но позволяет указать всю аналитику по хозяйственной операции, планируемой к  исполнению на его основан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16" name="Picture 9" descr="Заказ поставщику_выбор действия"/>
          <p:cNvPicPr/>
          <p:nvPr/>
        </p:nvPicPr>
        <p:blipFill>
          <a:blip r:embed="rId3"/>
          <a:stretch/>
        </p:blipFill>
        <p:spPr>
          <a:xfrm>
            <a:off x="1916280" y="2257560"/>
            <a:ext cx="2263680" cy="27414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17" name="Picture 10" descr="Заказ поставщику_выбор документа"/>
          <p:cNvPicPr/>
          <p:nvPr/>
        </p:nvPicPr>
        <p:blipFill>
          <a:blip r:embed="rId4"/>
          <a:stretch/>
        </p:blipFill>
        <p:spPr>
          <a:xfrm>
            <a:off x="4164120" y="1822320"/>
            <a:ext cx="2527200" cy="4546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1914480" y="2009880"/>
            <a:ext cx="628560" cy="24768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24560" y="1905120"/>
            <a:ext cx="3267000" cy="2790720"/>
          </a:xfrm>
          <a:prstGeom prst="wedgeRectCallout">
            <a:avLst>
              <a:gd name="adj1" fmla="val -72643"/>
              <a:gd name="adj2" fmla="val 55462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оприходовании материалов на склад на его основании создается документ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Поступление товаров и услуг»,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который отражает факт приобретения проводками в бухгалтерском и налоговом учете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20" name="Picture 13" descr="Заказ поставщику_поступление_1"/>
          <p:cNvPicPr/>
          <p:nvPr/>
        </p:nvPicPr>
        <p:blipFill>
          <a:blip r:embed="rId5"/>
          <a:stretch/>
        </p:blipFill>
        <p:spPr>
          <a:xfrm>
            <a:off x="376200" y="1758960"/>
            <a:ext cx="7405560" cy="45277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1" name="Picture 12" descr="Заказ поставщику_поступление_счет-фактура"/>
          <p:cNvPicPr/>
          <p:nvPr/>
        </p:nvPicPr>
        <p:blipFill>
          <a:blip r:embed="rId6"/>
          <a:stretch/>
        </p:blipFill>
        <p:spPr>
          <a:xfrm>
            <a:off x="4954680" y="1752480"/>
            <a:ext cx="3846600" cy="4757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2171880" y="4229280"/>
            <a:ext cx="2514600" cy="1600200"/>
          </a:xfrm>
          <a:prstGeom prst="wedgeRectCallout">
            <a:avLst>
              <a:gd name="adj1" fmla="val 85162"/>
              <a:gd name="adj2" fmla="val -40773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ходящий НДС фиксируется в системе зависимым документом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Счет-фактура полученный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57956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нать и управлять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343080" y="1192320"/>
            <a:ext cx="6400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итуацией владеют те, кто наладил не только сбор и систематизацию данных о своем бизнесе, но и настроил механизмы упреждающего реагирования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19000" y="2459160"/>
          <a:ext cx="744876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2459160"/>
                    <a:ext cx="7448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3440" y="-106560"/>
            <a:ext cx="8080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тические возможности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97000" y="1157400"/>
            <a:ext cx="857556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Хранение данных в виде учетных записей в регистрах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акопления обеспечивает расширенную аналитику по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вершаемым хозяйственным операциям, превышающую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озможности классического бухгалтерского у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ена работа с отчетом как с интерактивным документом — можно изменять его параметры, перестраивать, сформировать дополнительный отчет на основании отдельных документов уже сформированного от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формация, предоставляемая дополнительными отчетами, позволяет более эффективно организовать систему первичного документооборо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астройки отчетов можно сохранять в информационной базе для повторного использ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Табло счетов предназначено для оперативного получения наиболее важной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формации из бухгалтерских или налоговых итогов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6600" y="4654440"/>
            <a:ext cx="7553160" cy="1644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втоматизация трудоемких расчето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293760" y="1136520"/>
            <a:ext cx="85723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</a:t>
            </a:r>
            <a:br>
              <a:rPr sz="1600"/>
            </a:b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редприятием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ализованы многие трудоемкие расчеты: 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297000" y="1933560"/>
            <a:ext cx="85770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числение амортизации ОС и НМА по всем видам у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едение «сложного» НД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здание Книги покупок и Книги продаж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асчет зарплат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правление расходами будущих период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втоматический расчет себестоимости продукции, выпущенной в течение отчетного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периода, на основании данных о затратах, введенных в информационную баз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ормирование форм регламентированной бухгалтерской отчет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ормирование Декларации по налогу на прибыль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2000" y="-360"/>
            <a:ext cx="80820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повещения при работе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 регламентированной отчетностью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4" name="Picture 11" descr="Отчетность_оповещения через Интернет"/>
          <p:cNvPicPr/>
          <p:nvPr/>
        </p:nvPicPr>
        <p:blipFill>
          <a:blip r:embed="rId2"/>
          <a:stretch/>
        </p:blipFill>
        <p:spPr>
          <a:xfrm>
            <a:off x="2073240" y="3662280"/>
            <a:ext cx="5064120" cy="2670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35" name="Rectangle 12"/>
          <p:cNvSpPr/>
          <p:nvPr/>
        </p:nvSpPr>
        <p:spPr>
          <a:xfrm>
            <a:off x="182520" y="1009800"/>
            <a:ext cx="84438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система регламентированной отчетности позволяет оповещать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льзователя о ситуациях, способных привести к ошибкам в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готовленной регламентированной отчетности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общение об окончании действия конкретных редакций форм и версий форматов электронного представления в связи с вступлением в силу новых редакций и верс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едупреждение о наличии ошибок в регламентированной отчет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формирование о выходе новых релизов конфигураций или выпуске дополнений к текущим релиз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109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2480" y="-360"/>
            <a:ext cx="574488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ХЕМА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ИДОВ ПОДСИСТ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2800" y="1766880"/>
            <a:ext cx="7780320" cy="452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18041" t="0" r="18079" b="67562"/>
          <a:stretch/>
        </p:blipFill>
        <p:spPr>
          <a:xfrm>
            <a:off x="2116080" y="1766880"/>
            <a:ext cx="497052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0" t="32479" r="0" b="52731"/>
          <a:stretch/>
        </p:blipFill>
        <p:spPr>
          <a:xfrm>
            <a:off x="712800" y="3235320"/>
            <a:ext cx="7780320" cy="669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0" t="47114" r="52311" b="0"/>
          <a:stretch/>
        </p:blipFill>
        <p:spPr>
          <a:xfrm>
            <a:off x="712800" y="3897360"/>
            <a:ext cx="3709800" cy="2390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rcRect l="52315" t="47310" r="-270" b="17981"/>
          <a:stretch/>
        </p:blipFill>
        <p:spPr>
          <a:xfrm>
            <a:off x="4782960" y="3906720"/>
            <a:ext cx="3730680" cy="156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rcRect l="52315" t="81994" r="-1045" b="12234"/>
          <a:stretch/>
        </p:blipFill>
        <p:spPr>
          <a:xfrm>
            <a:off x="4782960" y="5473800"/>
            <a:ext cx="3791160" cy="26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rcRect l="52315" t="87709" r="-270" b="-252"/>
          <a:stretch/>
        </p:blipFill>
        <p:spPr>
          <a:xfrm>
            <a:off x="4782960" y="5732640"/>
            <a:ext cx="373248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5795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егламентированная отчетность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7" name="Picture 11" descr="Отчетность_список"/>
          <p:cNvPicPr/>
          <p:nvPr/>
        </p:nvPicPr>
        <p:blipFill>
          <a:blip r:embed="rId2"/>
          <a:stretch/>
        </p:blipFill>
        <p:spPr>
          <a:xfrm>
            <a:off x="2901960" y="1749600"/>
            <a:ext cx="5689440" cy="46987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38" name="Rectangle 12"/>
          <p:cNvSpPr/>
          <p:nvPr/>
        </p:nvSpPr>
        <p:spPr>
          <a:xfrm>
            <a:off x="277920" y="1160640"/>
            <a:ext cx="834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К регламентированной отчетности в конфигурации относятся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376200" y="1574640"/>
            <a:ext cx="25052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ормы бухгалтерской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ности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логовые декла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ность во внебюджетные социальные фонд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ормы статисти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личные справки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640" y="4699080"/>
            <a:ext cx="1676520" cy="1600200"/>
          </a:xfrm>
          <a:prstGeom prst="wedgeRectCallout">
            <a:avLst>
              <a:gd name="adj1" fmla="val 117328"/>
              <a:gd name="adj2" fmla="val -34523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се формы отчетности соответствуют нормативным документ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3051000"/>
            <a:ext cx="3171960" cy="1686240"/>
          </a:xfrm>
          <a:prstGeom prst="wedgeRectCallout">
            <a:avLst>
              <a:gd name="adj1" fmla="val 32583"/>
              <a:gd name="adj2" fmla="val -84370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еспечено предоставление отчетности в электронном виде в органы Федеральной налоговой службы и Пенсионного фонда Росс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580212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ЧЕТНОСТ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ные мероприятия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64960" y="1270080"/>
            <a:ext cx="664704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тверждение достоверности и актуальности данных информационной системы в процессе эксплуатации предусматривает регулярное проведение инвентаризаций товарно-материальных ценностей на складах, в незавершенном производстве, у комиссионер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результатам инвентаризации автоматически подсчитывается разница между учетным количеством и фактическим количеством ценностей, выявленным в результате инвентариз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Есть возможность автоматического оформления документов списания или оприход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визия дебиторской и кредиторской задолженности обеспечена отчетами по срокам долга и документом «Акт сверки взаиморасчетов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озможность надежного удаленного подключения к информационной базе делает процесс контрольных мероприятий доступным и малозатратным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2800" y="-106560"/>
            <a:ext cx="80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ДАННЫХ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«Береженого бог бережет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291960" y="1314360"/>
            <a:ext cx="6572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цедуры сбора данных как правило трудоемки и растянуты во времени, добавьте сюда затраты на систематизацию, анализ и хранение и вы поймете их истинную ценность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7800" y="2583000"/>
          <a:ext cx="744840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583000"/>
                    <a:ext cx="744840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5795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ДАННЫХ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еспечение конфиденциальност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330120" y="1092240"/>
            <a:ext cx="7848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ерсональная регистрация пользователя в систем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еспечивает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299880" y="1560600"/>
            <a:ext cx="73422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озможность использования индивидуальных настроек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граничение доступа к определенным данным информационной базы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в т.ч. закрытие прошлых периодов от редактир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троль за действиями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пользовате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330120" y="3440160"/>
            <a:ext cx="36576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Механизмы организации доступа пользователей к данным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274680" y="4084560"/>
            <a:ext cx="377820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значение ролей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и дополнительных пра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дание прав для групп  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пользов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спользование заданных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  профи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029120" y="2627280"/>
            <a:ext cx="4743360" cy="3492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ДАННЫХ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персональных данных (152-ФЗ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2920" y="963720"/>
            <a:ext cx="80154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а функциональность задач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LP (Data Leak Protection)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аутентификации и отказа в аутентифик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изменений прав пользов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фактов отказа в доступ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гистрация доступа к защищаемым ресурс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lvl="1" marL="630360" indent="-181080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2629080"/>
            <a:ext cx="870444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Защищенный программно-аппаратный                                                                         комплек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1С: Предприятие, версии 8.2z»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ертифицирован на соответствие требованиям                                                       руководящих документов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защите от НСД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уровню контроля отсутствия НДВ 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по 4 уровню контро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при построении АС до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класса 1Г включите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для защиты информации в ИСПДн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о К1 включите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лучен сертификат соответствия ФСТЭК РФ № 2137 от 20.07.2010                      (срок действия до 20.07.2013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467400" y="1278000"/>
            <a:ext cx="2344680" cy="3305160"/>
            <a:chOff x="6467400" y="1278000"/>
            <a:chExt cx="2344680" cy="330516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6467400" y="1290600"/>
              <a:ext cx="2344680" cy="329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59" name=""/>
            <p:cNvSpPr/>
            <p:nvPr/>
          </p:nvSpPr>
          <p:spPr>
            <a:xfrm>
              <a:off x="6467400" y="1278000"/>
              <a:ext cx="0" cy="328752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67400" y="127800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67400" y="456552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pic>
        <p:nvPicPr>
          <p:cNvPr id="262" name="Picture 4" descr="SERT"/>
          <p:cNvPicPr/>
          <p:nvPr/>
        </p:nvPicPr>
        <p:blipFill>
          <a:blip r:embed="rId3"/>
          <a:stretch/>
        </p:blipFill>
        <p:spPr>
          <a:xfrm>
            <a:off x="3583080" y="-333360"/>
            <a:ext cx="5383080" cy="740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68480" y="0"/>
            <a:ext cx="80755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тодическая поддержка пользователей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43080" y="1106640"/>
            <a:ext cx="5676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Источники информации: 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2280" y="1803240"/>
            <a:ext cx="4665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зор всего, что есть в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1С:Предприятии 8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веты на часто задаваемые вопрос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нформация по внедрения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192240" y="146520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8.1c.ru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5021280" y="152388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ИТС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5305320" y="1835280"/>
            <a:ext cx="35067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более 700 страниц информ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меры разработ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езные инструмент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79280" y="3056040"/>
            <a:ext cx="2487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курсы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441360" y="3400560"/>
            <a:ext cx="42116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курсы по конфигурированию, внедрению и адаптации платформы и прикладных решен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чные и Интернет-курс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5013360" y="3157560"/>
            <a:ext cx="3225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Книги, статьи, буклеты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5354640" y="3481560"/>
            <a:ext cx="3403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начинающи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профессионал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оретические зн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5079960" y="4803840"/>
            <a:ext cx="322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версии ПО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5369040" y="5192640"/>
            <a:ext cx="28670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разработчик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бухгалтер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195120" y="4797360"/>
            <a:ext cx="3867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оддержка пользователей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436680" y="5205240"/>
            <a:ext cx="42116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новления платформы и конфигу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стовые релизы    (предварительная публикация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1077840" y="-106200"/>
            <a:ext cx="806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атко о главном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264960" y="1155600"/>
            <a:ext cx="80726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Ключевые конкурентные преимуществ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рограммного 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родукт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279360" y="1996920"/>
            <a:ext cx="858060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ункциональные возможности мирового уровн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е соответствие требованиям законодательства 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еративное сопровождение в условиях изменяющегося законодательства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солидация и бизнес-анализ данны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дежная технологическая платформа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1С:Предприятие 8.2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мплексная система методической поддержки внедрения и подготовки специалис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кательное соотношение цена/качеств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сокое доверие к продукту (реализовано более 14 000 компле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ешений на его баз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более 350 000 клиентских лицензий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286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293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312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318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321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                                              1С:Управление производственным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приятием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77840" y="0"/>
            <a:ext cx="80661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276120" y="1039680"/>
            <a:ext cx="85820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1С:Управл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изводственным предприятием </a:t>
            </a: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подтверждена 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многочисленными отзывами пользователей данного решения. </a:t>
            </a:r>
            <a:br>
              <a:rPr sz="1600"/>
            </a:br>
            <a:r>
              <a:rPr b="1" lang="ru-RU" sz="1600" spc="-1" strike="noStrike">
                <a:solidFill>
                  <a:srgbClr val="140000"/>
                </a:solidFill>
                <a:latin typeface="Arial"/>
              </a:rPr>
              <a:t>Вот некоторые из них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276120" y="4687920"/>
            <a:ext cx="4054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«Установив систему мы получили возможность хранить все необходимые для производственного процесса данные в единой базе. Кроме того, все сотрудники смогли получить оперативный доступ к необходимой для работы информации, о чем мы раньше и не мечтали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4414680" y="4594320"/>
            <a:ext cx="4545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В программе нас, в первую очередь, заинтересовала возможность детальной автоматизации документооборота на предприятии. Это, в частности, новые возможности работы со списанием и распределением затрат. Благодаря внедрению автоматизированной системы нам удалось оптимизировать многие процессы в нашей деятельности.»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272880" y="4033800"/>
            <a:ext cx="3888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Измайлова Яна Анатольевна,   Финансовый директор «TORPAL»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4440240" y="4043520"/>
            <a:ext cx="3811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Раенко Нина Анатольевна,  Главный бухгалтер ОАО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ЗЭО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i="1" lang="ru-RU" sz="2000" spc="-1" strike="noStrike">
                <a:solidFill>
                  <a:srgbClr val="14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576760" y="2111400"/>
            <a:ext cx="2332080" cy="1781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3200400" y="2786040"/>
            <a:ext cx="1855800" cy="784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93840" y="2117880"/>
            <a:ext cx="2279520" cy="1785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3114720" y="2070000"/>
            <a:ext cx="203832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1068480" y="0"/>
            <a:ext cx="8075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276120" y="166860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http://www.1c.ru/rus/partners/ckp.jsp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85840" y="4884840"/>
            <a:ext cx="8570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i="1" lang="en-US" sz="1600" spc="-1" strike="noStrike">
                <a:solidFill>
                  <a:srgbClr val="5f0000"/>
                </a:solidFill>
                <a:latin typeface="Arial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00120" y="396396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8480" y="0"/>
            <a:ext cx="57988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ачало нача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85840" y="1136520"/>
            <a:ext cx="6508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спешность автоматизации определяется совпадением четко сформулированной потребности и ясным представлением возможностей программного решения. Определим отправные точки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74720" y="2583000"/>
          <a:ext cx="744840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720" y="2583000"/>
                    <a:ext cx="744840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43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346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2800" y="-106560"/>
            <a:ext cx="5824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1700"/>
            </a:br>
            <a:r>
              <a:rPr b="1" lang="en-US" sz="1700" spc="-1" strike="noStrike">
                <a:solidFill>
                  <a:srgbClr val="cc3300"/>
                </a:solidFill>
                <a:latin typeface="Arial"/>
              </a:rPr>
              <a:t>Учетная политика</a:t>
            </a:r>
            <a:endParaRPr b="1" lang="en-US" sz="1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4" name="Picture 11" descr="Учетная политика"/>
          <p:cNvPicPr/>
          <p:nvPr/>
        </p:nvPicPr>
        <p:blipFill>
          <a:blip r:embed="rId2"/>
          <a:stretch/>
        </p:blipFill>
        <p:spPr>
          <a:xfrm>
            <a:off x="1733400" y="2662200"/>
            <a:ext cx="4943520" cy="3760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5" name="Rectangle 6"/>
          <p:cNvSpPr/>
          <p:nvPr/>
        </p:nvSpPr>
        <p:spPr>
          <a:xfrm>
            <a:off x="285840" y="1081080"/>
            <a:ext cx="66373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организации учетных действий в рамках предприятия определяющим документом является «Учетная политика». Данный документ нашел свое прямое воплощение в конфигураци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формационная база настраивается под конкретные потребности предприятия: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3049560"/>
            <a:ext cx="2200320" cy="1295280"/>
          </a:xfrm>
          <a:prstGeom prst="wedgeRectCallout">
            <a:avLst>
              <a:gd name="adj1" fmla="val -142425"/>
              <a:gd name="adj2" fmla="val 43995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зличные системы налогообложения: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щий режим,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СН и ЕНВД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4240" y="0"/>
            <a:ext cx="579276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втоматизируемые виды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84040" y="1224000"/>
            <a:ext cx="8574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ивает: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279360" y="1758960"/>
            <a:ext cx="85917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ОС и НМ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банковских и кассовых операц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расчетов с контрагентам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зарплаты и учет расчетов с персоналом, бюджето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материалов, полуфабрикатов, брака, тары,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незавершенного произво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затрат и расчет себестоим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товар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чет торговых операций, в том числе в розничной и комиссионной торговл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пределение финансового результата деятельности для целей налогообложения</a:t>
            </a:r>
            <a:r>
              <a:rPr b="0" lang="ru-RU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4240" y="-360"/>
            <a:ext cx="579276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ОС и НМА, Учет денежных средст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07800" y="3576600"/>
            <a:ext cx="8526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т банковских и кассовых операций: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276120" y="3952800"/>
            <a:ext cx="8569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заимодействие с банковскими программами типа «Банк-клиент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озможность ведения расчетов с помощью банковских кар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знесение выписок и банковских докумен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едение нескольких кас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здание кассовой книг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ческое заполнение Формы №4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«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чет о движении денежных средств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95200" y="1252440"/>
            <a:ext cx="8555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т основных средств и нематериальных активов: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282600" y="1679400"/>
            <a:ext cx="85914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орудование, поступившее на предприятие и не переданное в эксплуатацию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орудование, переданное в монтаж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ъекты строитель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сновные сре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Нематериальные актив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8480" y="-360"/>
            <a:ext cx="579888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расчетов с контрагентам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82600" y="1260360"/>
            <a:ext cx="66279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язательной аналитикой в бухгалтерском учете при операциях с контрагентами является договор, предусмотрена детализация проведения документа до сделки и документа ра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виду договора автоматически определяются характер операции и предполагаемые бухгалтерские проводки, предусмотрено два способа определения и зачета аванс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се документы по договору оформляются в валюте договор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 договорам с расчетами в валюте создаются проводки с рублевой и валютной суммой, производится переоценка валютных остатков на счетах, которые используются в проводка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налоговом учете расчеты с контрагентами не отражаются, при необходимости формируются проводки по отражению курсовых и суммовых разниц в составе внереализационных доход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4240" y="0"/>
            <a:ext cx="57927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правление персоналом и расчет зарплат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263520" y="1266840"/>
            <a:ext cx="86076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адровый учет и анализ кадрового соста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зация кадрового делопроизво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ланирование потребностей в персонал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ланирование занятости и графика отпусков работник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правление финансовой мотивацией персонал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счет заработной плат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ческий расчет начислений, удержаний, налогов и взносов с ФО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тражение начисленной зарплаты и налогов в затратах предприят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Управление денежными расчетами с персоналом, включая депонировани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Кислов А.С.</dc:creator>
  <dc:description/>
  <dc:language>en-US</dc:language>
  <cp:lastModifiedBy>Yakovlev_AV</cp:lastModifiedBy>
  <dcterms:modified xsi:type="dcterms:W3CDTF">2012-02-03T13:35:35Z</dcterms:modified>
  <cp:revision>766</cp:revision>
  <dc:subject/>
  <dc:title>1С:Предприятие 8   Управление производственным предприятием</dc:title>
</cp:coreProperties>
</file>