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1.png" ContentType="image/png"/>
  <Override PartName="/ppt/media/image119.png" ContentType="image/png"/>
  <Override PartName="/ppt/media/image116.png" ContentType="image/png"/>
  <Override PartName="/ppt/media/image107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4.wmf" ContentType="image/x-wmf"/>
  <Override PartName="/ppt/media/image85.png" ContentType="image/png"/>
  <Override PartName="/ppt/media/image17.png" ContentType="image/png"/>
  <Override PartName="/ppt/media/image152.wmf" ContentType="image/x-wmf"/>
  <Override PartName="/ppt/media/image80.png" ContentType="image/png"/>
  <Override PartName="/ppt/media/image12.png" ContentType="image/png"/>
  <Override PartName="/ppt/media/image79.png" ContentType="image/png"/>
  <Override PartName="/ppt/media/image146.wmf" ContentType="image/x-wmf"/>
  <Override PartName="/ppt/media/image78.png" ContentType="image/png"/>
  <Override PartName="/ppt/media/image145.wmf" ContentType="image/x-wmf"/>
  <Override PartName="/ppt/media/image77.png" ContentType="image/png"/>
  <Override PartName="/ppt/media/image76.png" ContentType="image/png"/>
  <Override PartName="/ppt/media/image74.png" ContentType="image/png"/>
  <Override PartName="/ppt/media/image141.wmf" ContentType="image/x-wmf"/>
  <Override PartName="/ppt/media/image73.png" ContentType="image/png"/>
  <Override PartName="/ppt/media/image140.wmf" ContentType="image/x-wmf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136.wmf" ContentType="image/x-wmf"/>
  <Override PartName="/ppt/media/image72.png" ContentType="image/png"/>
  <Override PartName="/ppt/media/image38.jpeg" ContentType="image/jpeg"/>
  <Override PartName="/ppt/media/image114.png" ContentType="image/png"/>
  <Override PartName="/ppt/media/image8.wmf" ContentType="image/x-wmf"/>
  <Override PartName="/ppt/media/image115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37.png" ContentType="image/png"/>
  <Override PartName="/ppt/media/image43.wmf" ContentType="image/x-wmf"/>
  <Override PartName="/ppt/media/image44.wmf" ContentType="image/x-wmf"/>
  <Override PartName="/ppt/media/image50.png" ContentType="image/png"/>
  <Override PartName="/ppt/media/image88.png" ContentType="image/png"/>
  <Override PartName="/ppt/media/image45.wmf" ContentType="image/x-wmf"/>
  <Override PartName="/ppt/media/image51.png" ContentType="image/png"/>
  <Override PartName="/ppt/media/image170.wmf" ContentType="image/x-wmf"/>
  <Override PartName="/ppt/media/image10.wmf" ContentType="image/x-wmf"/>
  <Override PartName="/ppt/media/image155.png" ContentType="image/png"/>
  <Override PartName="/ppt/media/image54.png" ContentType="image/png"/>
  <Override PartName="/ppt/media/image138.wmf" ContentType="image/x-wmf"/>
  <Override PartName="/ppt/media/image158.jpeg" ContentType="image/jpeg"/>
  <Override PartName="/ppt/media/image87.png" ContentType="image/png"/>
  <Override PartName="/ppt/media/image19.png" ContentType="image/png"/>
  <Override PartName="/ppt/media/image161.png" ContentType="image/png"/>
  <Override PartName="/ppt/media/image160.jpeg" ContentType="image/jpeg"/>
  <Override PartName="/ppt/media/image15.jpeg" ContentType="image/jpeg"/>
  <Override PartName="/ppt/media/image7.wmf" ContentType="image/x-wmf"/>
  <Override PartName="/ppt/media/image113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47.wmf" ContentType="image/x-wmf"/>
  <Override PartName="/ppt/media/image165.png" ContentType="image/png"/>
  <Override PartName="/ppt/media/image148.wmf" ContentType="image/x-wmf"/>
  <Override PartName="/ppt/media/image53.png" ContentType="image/png"/>
  <Override PartName="/ppt/media/image159.jpeg" ContentType="image/jpeg"/>
  <Override PartName="/ppt/media/image128.png" ContentType="image/png"/>
  <Override PartName="/ppt/media/image2.jpeg" ContentType="image/jpeg"/>
  <Override PartName="/ppt/media/image166.png" ContentType="image/png"/>
  <Override PartName="/ppt/media/image46.jpeg" ContentType="image/jpeg"/>
  <Override PartName="/ppt/media/image58.png" ContentType="image/png"/>
  <Override PartName="/ppt/media/image149.wmf" ContentType="image/x-wmf"/>
  <Override PartName="/ppt/media/image129.png" ContentType="image/png"/>
  <Override PartName="/ppt/media/image169.wmf" ContentType="image/x-wmf"/>
  <Override PartName="/ppt/media/image34.jpeg" ContentType="image/jpeg"/>
  <Override PartName="/ppt/media/image167.png" ContentType="image/png"/>
  <Override PartName="/ppt/media/image40.jpeg" ContentType="image/jpeg"/>
  <Override PartName="/ppt/media/image56.png" ContentType="image/png"/>
  <Override PartName="/ppt/media/image13.wmf" ContentType="image/x-wmf"/>
  <Override PartName="/ppt/media/image36.png" ContentType="image/png"/>
  <Override PartName="/ppt/media/image171.wmf" ContentType="image/x-wmf"/>
  <Override PartName="/ppt/media/image52.png" ContentType="image/png"/>
  <Override PartName="/ppt/media/image168.png" ContentType="image/png"/>
  <Override PartName="/ppt/media/image157.jpeg" ContentType="image/jpeg"/>
  <Override PartName="/ppt/media/image33.png" ContentType="image/png"/>
  <Override PartName="/ppt/media/image173.jpeg" ContentType="image/jpeg"/>
  <Override PartName="/ppt/media/image144.png" ContentType="image/png"/>
  <Override PartName="/ppt/media/image154.png" ContentType="image/png"/>
  <Override PartName="/ppt/media/image137.wmf" ContentType="image/x-wmf"/>
  <Override PartName="/ppt/media/image42.jpeg" ContentType="image/jpeg"/>
  <Override PartName="/ppt/media/image150.wmf" ContentType="image/x-wmf"/>
  <Override PartName="/ppt/media/image83.png" ContentType="image/png"/>
  <Override PartName="/ppt/media/image143.png" ContentType="image/png"/>
  <Override PartName="/ppt/media/image55.png" ContentType="image/png"/>
  <Override PartName="/ppt/media/image139.wmf" ContentType="image/x-wmf"/>
  <Override PartName="/ppt/media/image59.png" ContentType="image/png"/>
  <Override PartName="/ppt/media/image110.png" ContentType="image/png"/>
  <Override PartName="/ppt/media/image49.png" ContentType="image/png"/>
  <Override PartName="/ppt/media/image100.png" ContentType="image/png"/>
  <Override PartName="/ppt/media/image6.wmf" ContentType="image/x-wmf"/>
  <Override PartName="/ppt/media/image112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1.jpeg" ContentType="image/jpeg"/>
  <Override PartName="/ppt/media/image122.png" ContentType="image/png"/>
  <Override PartName="/ppt/media/image86.png" ContentType="image/png"/>
  <Override PartName="/ppt/media/image18.png" ContentType="image/png"/>
  <Override PartName="/ppt/media/image153.wmf" ContentType="image/x-wmf"/>
  <Override PartName="/ppt/media/image93.png" ContentType="image/png"/>
  <Override PartName="/ppt/media/image25.png" ContentType="image/png"/>
  <Override PartName="/ppt/media/image90.png" ContentType="image/png"/>
  <Override PartName="/ppt/media/image5.wmf" ContentType="image/x-wmf"/>
  <Override PartName="/ppt/media/image111.png" ContentType="image/png"/>
  <Override PartName="/ppt/media/image30.png" ContentType="image/png"/>
  <Override PartName="/ppt/media/image127.png" ContentType="image/png"/>
  <Override PartName="/ppt/media/image47.png" ContentType="image/png"/>
  <Override PartName="/ppt/media/image35.jpeg" ContentType="image/jpeg"/>
  <Override PartName="/ppt/media/image109.png" ContentType="image/png"/>
  <Override PartName="/ppt/media/image21.png" ContentType="image/png"/>
  <Override PartName="/ppt/media/image118.png" ContentType="image/png"/>
  <Override PartName="/ppt/media/image39.png" ContentType="image/png"/>
  <Override PartName="/ppt/media/image22.jpeg" ContentType="image/jpeg"/>
  <Override PartName="/ppt/media/image75.png" ContentType="image/png"/>
  <Override PartName="/ppt/media/image142.wmf" ContentType="image/x-wmf"/>
  <Override PartName="/ppt/media/image81.png" ContentType="image/png"/>
  <Override PartName="/ppt/media/image84.png" ContentType="image/png"/>
  <Override PartName="/ppt/media/image151.wmf" ContentType="image/x-wmf"/>
  <Override PartName="/ppt/media/image16.png" ContentType="image/png"/>
  <Override PartName="/ppt/media/image32.jpeg" ContentType="image/jpeg"/>
  <Override PartName="/ppt/media/image14.png" ContentType="image/png"/>
  <Override PartName="/ppt/media/image82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31.wmf" ContentType="image/x-wmf"/>
  <Override PartName="/ppt/media/image64.png" ContentType="image/png"/>
  <Override PartName="/ppt/media/image23.png" ContentType="image/png"/>
  <Override PartName="/ppt/media/image156.jpeg" ContentType="image/jpeg"/>
  <Override PartName="/ppt/media/image91.png" ContentType="image/png"/>
  <Override PartName="/ppt/media/image94.png" ContentType="image/png"/>
  <Override PartName="/ppt/media/image26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130.wmf" ContentType="image/x-wmf"/>
  <Override PartName="/ppt/media/image63.png" ContentType="image/png"/>
  <Override PartName="/ppt/media/image132.wmf" ContentType="image/x-wmf"/>
  <Override PartName="/ppt/media/image65.png" ContentType="image/png"/>
  <Override PartName="/ppt/media/image133.wmf" ContentType="image/x-wmf"/>
  <Override PartName="/ppt/media/image66.png" ContentType="image/png"/>
  <Override PartName="/ppt/media/image134.wmf" ContentType="image/x-wmf"/>
  <Override PartName="/ppt/media/image67.png" ContentType="image/png"/>
  <Override PartName="/ppt/media/image135.wmf" ContentType="image/x-wmf"/>
  <Override PartName="/ppt/media/image6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160C-A1BD-41A3-B1D1-59ADC8527A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ERP-решения Фирмы «1С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Генерального дире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подсистем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удается устранить зависимость от «записей в блокнотах» менеджеров по продажам. Отношения с клиентами становятся достоянием компании, а не конкретных сотрудни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любой момент можно получить контактную информацию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идеть всю историю взаимоотношений с клиентом, планируемые и фактические сделки, встречи, письма, зво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не пропустить важных встреч с клиентами, дней рождения и других знаменательных дат важных кли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лучить обратную связь от клиентов, используя подсистемы анкетирования и почтовых рассыл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тролировать работу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е стратегического бизнес-плана предприятия и имеющихся заказов формируются с учетом различных параметров планы продаж, используемые в дальнейшем остальными подсистемами план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основании укрупненного плана продаж, например на год, формируется уточненный план продаж, который в свою очередь является источником уточненного плана производства, на основе которого есть возможность создать посменные планы производства. В свою очередь, данный набор данных становится источником для формирования уточненного плана закуп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уточненные планы могут быть созданы на основании укрупненных план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 решаемых задач в рамках системы управления нормативно-справочной информаци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еспечение комплексного управления данными об изделии, включая его технологию, на всех этапах жизненного цик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ддержка современных методов управления конструкторско-технологической подготовкой производства (КТПП), применяемых на передовых производств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ышение прозрачности, управляемости и эффективности КТП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организация единого комплек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создание единой управлен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истема управления производством предназначена для планирования производственных процессов и материальных потоков в производстве, отражения процессов производственной деятельности предприятия и построеуния нормативной системы управления производ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функциональные возможности под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управление данными об издел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троение укрупненного, уточненного и посменного план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енерация сменно–суточных зад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правление затратами и расчет себестоимост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ценарное, скользящее и проектное планирован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интеграция планирования продаж, производства и снабжения с подсистемой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ложенные в систему возможности ведения бухгалтерского и налогового учетов призваны обеспечить наиболее полное соответствие как российскому законодательству, так и потребностям реального бизнеса. Принятая методология является дальнейшим развитием учетных решений, реализованных в продуктах системы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1С:Предприятие», ставших индустриальным стандартом в стра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шении Фирмы «1С» автоматизация бухгалтерского учета поставлена на высокий технологический уровень: возможность гибкой настройки плана счетов без переконфигурирования, задание непосредственно в документах корреспонденции счетов, формирование проводок по документу и другие возмо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ставит перед собой задачу выхода на международные рынки или повышение инвестиционной привлекательности, то прозрачность организации с применением МСФО — важный фактор в решении этой задачи. Продукт включает в себя настраиваемый пользователем отдельный План счетов по МСФО, который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едение финансового учета и подготовку как индивидуальной, так и консолидированной финансов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трансляцию (перенос) большей части учетных записей (проводок) из подсистемы бухгалтер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араллельное ведение учета по российским и международным стандартам по отдельным участк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оведение собственных регламентных документов, а также внесение корректирующих записей в «ручном» реж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тодологическим вопросам реализации МСФО в программных продуктах Фирмы «1С» консультационную поддержку осуществляет всемирно известная аудиторско-консалтинговая компания PricewaterhouseCoo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92929"/>
                </a:solidFill>
                <a:latin typeface="Times New Roman"/>
              </a:rPr>
              <a:t>Локализация под национальные законодательств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Для использования функционала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 с учетом законодательства различных стран предназначены локализованные версии для Украины, Казахстана и Беларус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Для англоязычных сотрудников разработана версия с интерфейсом на английском языке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33"/>
                </a:solidFill>
                <a:latin typeface="Times New Roman"/>
              </a:rPr>
              <a:t>Специализированные программные продукт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Функциональные возможности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900" spc="-1" strike="noStrike">
                <a:solidFill>
                  <a:srgbClr val="292929"/>
                </a:solidFill>
                <a:latin typeface="Times New Roman"/>
              </a:rPr>
              <a:t>    могут быть расширены за счет интеграции с другими программными продуктами а единой платформе «1С:Предприятие 8»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Консолидац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Документооборо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корпоративными финансам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PDM Управление инженерными данным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MDM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 Управление нормативно-справочной информацие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ТОИР Управление ремонтами и обслуживанием оборудования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МТО Материально-техническое обеспечени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проектным офис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Инвентаризация и управление имуществ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Аренда и управление недвижимостью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CRM ПРО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-Логистика:Управление складом (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W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-Логистика:Управление перевозками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 (T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Управление Автотранспорто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1С:Центр спутникового мониторинга ГЛОНАСС/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G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С: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ITIL 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Управление информационными технологиями предприят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ущественное сокращение сроков внедрения и снижение совокупной стоимости владения возможно при использовании отраслевых решений, созданных на баз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ашиностроение программно–методический комплек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оект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троительной организаци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ремон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ранспорт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роцессное производство. Хими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Горно-добывающая промыш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Фарм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сельскохозяйственным предприят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тицефабри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Спиртов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икероводочный и винный 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иво-безалкогольный 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С:Рыбопере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Лесозав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олокозав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Мясокомб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мукомольно-крупяным предприят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Хлебобулочное и кондитерское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Поли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Девелопмент и управление недвижим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Риэлтор. Управление продажами недвиж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Энергетика. Управление распределительной сетевой компан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теплосе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водокана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редприятием ЖК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Управление переработкой отходов и вторсыр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1С:Комбинат ЖБ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функциональные возможности в порядке развития платфо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вер 1С:Предприятие 8 позволяет организовать вычислительный кластер состоящий из нескольких узлов организованных на разных серверах для обеспечения необходимого уровня быстродействия с возможностью масштаб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работа кластера в операционных систем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ализована поддержка нескольких СУБ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айловая (свой формат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 Databa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IBM DB2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gre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лиентской часть 1С:Предприятие 8 работает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сервера 1С:Предприятие 8, начиная с версии 8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ована динамическая балансировка нагрузки позволяющая оптимизировать быстродейств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ивается отказоустойчивость за счет механизма резервирования класте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ализована работа клиентской части 1С:Предприятие по технологии «тонкого клиента» под управлением О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ализована работа клиентской части 1С:Предприятие через веб браузе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Explore, Mozilla Firefox, Google chrome, Safa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работа в интернет браузерах поддерживается в 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, Linux, Mac 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реализована работа в разных часовых пояс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в состав платформа 1С:Предприятие 8.2 входит новый прогрессивный инструментарий и средства отладки для разработки современных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азвития платформы 1С:Предприятие 8 до версии 8.2 предоставляются нов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высокой сл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ое развертыв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тимизация затрат на ИТ-инфра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ниверсальный механизм обмена данными в формате XML предназначен как для создания территориально-распределенных систем на основе «1С:Предприятия 8», организации обмена данными с другими информационными системами. В одном прикладном решении может быть создано несколько независимых схем обмена с различными системами. Поддерживается не только классическая структура распределенных систем (типа «звезда»), но и более сложные многоуровневые структуры типа «снежин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а возможность построения на основе 1С:Управления производственным предприятием решения для предприятий сетевой или холдинговой структуры, позволяющее эффективно управлять бизнесом и видеть картину «в целом» с необходимой для принятия управленческих решений оператив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ие стабильного получения прибыли, рациональная организация денежных потоков и создание действенной административной структуры – факторы, которые являются критически важными элементами экономической состоятель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блюд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анные в информационной системе характеризуются надежностью и доступностью для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ются условия для внутреннего контроля, формируется прозрачная финансовая сре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тет уровень внутрикорпоративного довер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нижается уровень рис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это создает добавленную стоимость бизнеса в стратегическом управл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мплект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озможность разработки новых показателей эфф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ая часть работы коммерческого директора – построение эффективной системы мотивации менеджеров по продажам. Инструменты 1C:Управление производственным предприятием позволяют оценить и сопоставить работу менеджеров, отвечающих за продажи и работу с клиентами, по целому ряду показателей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ыполнению плана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эффициенту удержания покупателе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личеству выполненных заказ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раммный продукт 1C:Управление производственным предприятием позволяет с необходимой детализацией прогнозировать результаты финансово-экономической деятельности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отчете «Агрегированный аналитический баланс» можно рассчитать результаты при различных сценариях развития экономической действитель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казатели фактической деятельности предприятия («взгляд в прошло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эффективности принимаемых решений на основании запланированных данных («оценка будущего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. Данные показатели представлены в отчет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доходности и рентабельности ФХ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ый качественный эффект от внедрения системы оперативного управления производством на базе 1С:Управление производственным предприятием достигается за сч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вышения прозрачности производ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перативный контроль исполнения тех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лноты и достоверности производствен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гаемые количественные показат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кращение времени выполнения заказов на 10-5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кращение объемов незавершенного производства до 4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окращение затрат на содержание складского хозяйства в 2-5 раз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сокращение сверхурочных работ до 4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сокращение затрат на планирование до 90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инструментария 1С:Управление производственным предприятием подтверждается отзыва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ректор ООО «Южный завод гидравлических машин» Телегуз Эдуард Николаевич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…. полученная в результате достоверная «нормативка» позволила полностью перестроить все процессы планирования на предприятии. Теперь изменения в конструкторской документации «пересчитываются» в изменения плановой себестоимости в течение нескольких минут (иногда прямо в ходе телефонного разговора с покупателем), хотя раньше на это могла уходить половина рабочего дня. Составление плана закупок перестало быть ритуалом группы «жрецов» отдела снабжения, а превратилось в рутинную процедуру расчета потребностей на основании плана производства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атистике Фирмы «1С» и дан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результаты внедрения (для предприятий с позаказным типом производства) могут быть отражены показателями, приведенными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ые показатели сгруппированы в четыр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Запа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снижение объемов материальных запасов на 30-4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сокращение затрат на приобретение и хранение сырья и материал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снижение доли несвоевременных поставок на 80-9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. снижение объема незавершенного производства на 20-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оротные сред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снижение объема привлечения краткосрочных финансовых ресурсов на 10-1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увеличение оборачиваемости денежных средств на 3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казатели, характеризующие оперативность и эффектив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сокращение времени подготовки документов до 6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сокращение времени подготовки регламентированной отчетности до 3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казатели, влияющие на рыночную стоимость компан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сокращение налоговых рисков до 50%, снижение стоимости привлечения капитала до 1% ст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ститель директора по финансам ОАО «Конструкция» Поважнюк Елена Николаевн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недрение программного комплекса на базе «1С: Предприятие 8«позволило минимизировать сроки исполнения производственных заказов на 15 – 20%, снизить производственные издержки на 7–10%, более эффективно организовать работу персонала компании и существенно снизить количество ошибок при составлении регламентированной отчетност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«1С:Предприятие 8» в эксплуатации оказалась очень удобной и отвечающей нашим требованиям. Мы хотели получить программу, дающую полную и достоверную информацию. Сейчас мы ее имеем и можем оперативно реагировать на любые изменения ситуации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ская сеть Фирмы «1С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ешения «1С» распространяются через сеть фирм-партнеров в 600 городах России и СН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недрения 1C:Управление производственным предприятием и отраслевых решений на ее основе выполняются партнерами, имеющими необходимые компетенции в области комплексной автоматизации предприятий на платформе «1С:Предприятие 8», штат сертифицированных специалис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 600 Центров компетенции по производст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 180 Центров компетенции по строительст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 350 Центров компетенции по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 220 Центров компетенции по бюдже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 рамках программы методической поддержки пользователей 1С:Консалтинг работают более 220 партнеров, из них по направл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. бухгалтерский консалтинг – 17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2. управленческий консалтинг – 1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одготовкой специалистов занимается широкая сеть учебных цент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1. более 2000 учебных цент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2. 300 Центров сертифицированного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— комплексная информационная система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хватывающая основные контуры управления и учета на производственном предприятии. Решение позволяет организовать единую информационную систему для управления деятельностью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ониторинг и анализ показателей деятельност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правл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финанса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FRP, P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персоналом, с расчетом заработной платы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отношениями с покупателями  и поставщик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родаж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закупка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кладом (запасам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ITS, WM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производство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C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7. основными средствами и планированием ремонтов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62AA-06AD-48F9-BAC6-8AF629F93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пример построения Единого  информационного пространства, построенного на базе 1С:Управление производственным предприятием и других решениях системы «1С:Предприятие 8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вне дирекции возможно использовать специальный инструментарий «Монитор эффективности» для контроля важных финансовых и количественных показателей бизнеса, а так же совмест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Система сбалансированных показ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инансовой службы и Планового отдела в конфигурации предусмотрены инструменты управления денежными средствами (казначейство) и бюджетир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1С:Консолидация позволяет консолидировать ключевые показатели деятельности, бюджеты и потоки денежных средств, данные отчетности по РСБУ и МСФО. Совместное использование 1С:Консолидации с 1С:Управление производственным предприятием позволяет реализовывать эффективную систему контроллинга и управлять группами компаний на современном 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обеспечит поддержку системы документооборота предприя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приятий, занимающихся проектной деятельностью, подойдет отраслевое решение 1С:Управление проект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отчетности по международным стандартам может использовать функционал МСФО в 1С:Управление производственным предприятием или специализированное решение 1С:Управление корпоративными финансами с расширенными возможностями по МСФО и бюджетиро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хгалтерия получит весь необходимый инструментарий для регламентированного учета и расчета заработной платы и Информационно-технологическое сопровождение Фирмы «1С». Продукт 1С:Инвентаризация позволит существенно упростить процедуры контроля за сохранностью имущества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кадров может использовать подсистему Управления персоналом и совместное решение 1С:Оценка персонала.  Отдел труда и заработной платы получает расширенный функционал по нормированию трудовых расценок, для автоматизации данных работ есть возможность совместного использования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й отдел имеет возможность работы с договорами в едином информационном пространстве с другими службами, используя функции учета договоров в 1С:Управление производственным предприятием и обмена данными по договорам между 1С:Управление производственным предприятием и 1С:Докуменооб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ффективной работы ИТ службы рекомендуем использовать совместно с 1С:Управление производственным предприятием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формационными технологиями предприятия, разработанное полностью в среде управляемого приложения 1С:Предприятия 8.2 и позволяющее работать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из любой точки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отдела материально – технического снабжения предоставляются специальные инструменты для управления договорами, планирования и управления закупками, для крупных компаний предназначено решение 1С:МТО Материально-техническое обеспечение, поддерживающее управление закупочной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еятельность предприятия связана с лабораторной оценкой качества сырья, Лаборатория может отражать результаты замеров в подсистеме Сертификации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ладах можно использовать складской функционал 1С:Управление производственным предприятием, поддерживающий штрих-кодиро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I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ки, данные электронных весов и другие необходимые для современной организации учета технологии. Решение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огистика:Управление складом позволяет максимально эффективно организовать адресное хранение материалов и управление складской логист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ирование деятельности производства, осуществляемое в отделе главного технолога и главного конструктора, может осуществляться на должном уровне с использованием единого классификатора структуры изделий в 1С:Управление производственным предприятием и специализированного решения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правление инженерными данными, позволяющего реализовать систему управления жизненным циклом изделия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Для предприятий, использующих множество информационных систем как на базе 1С:Предприятия так и на других платформах, будет полезно решение 1С:Управление нормативно-справочной информацией (1С:НС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Документооборот может использоваться как связующее звено управленческих процессов между всеми службам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Автоматизированного управления технологическими процессами и контрольно-измерительными приборами и отдел метрологии по достоинству оценят развитые средства интеграции, поддерживаемые 1С:Предприятием 8.2 и позволяющие получать данные в 1С:Управление производственным предприятием практически с любого оборудования, имеющего интерфейс передачи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оизводстве в цехах и в производственно-диспетчерском отделе можно использовать функции объемно-календарного и посменного планирования в 1С:Управление производственным предприятием, а также функции управления производством и его диспетчеризации, реализованные в режиме тонкого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, что позволяет использовать данно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е даже на устаревшей технике, установленной в цехах и цеховых кладов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у хода выполнения производственных процессов в решении отведено ключевое место, от диспетчеризации до пооперационного контроля и отражения выполнения технологических операций, выпуска полуфабрикатов и готовых изделий в управленческом и регламентированном учет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технического контроля осуществляет проверку качества произведенной продукции и вносит соответствующую информацию в подсистему управления сертификацией продукции в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женерные службы, включая Отделы Главного механика и Главного энергетика, могут использовать возможности 1С:Управление производственным предприятием по управлению основными средствами и специализированное решение 1С:ТОИР Управление ремонтами и обслуживанием оборудования. Для многих служб предприятия будет полезным использование решения 1С:Инвентаризация и управление имущ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отметить, что планирование продаж, производства и снабжения осуществляется в единой подсистеме планирования 1С:Управление производственным предприятием с использованием информации со всех подразделений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ое внимание уделяется установлению и поддержке информативных контактов с клиентами. Автоматизировать данную деятельность позволит подсисте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ходящая в состав решения, а при необходимости расширения ее функционала – специализированное решение 1С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того, как продукция произведена, она поступает на склад и отдел сбыта может осуществлять ее продажи. Отдел сбыта использует возможности управления договорами в 1С:Управление производственным предприятием, а так же подсистему Управления продаж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местное использование 1С:Управление производственным предприятием и перечисленных ранее логистических и транспортных решений позволяет осуществлять управление цепочками постав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меет свою розничную сеть, рекомендуется совместно с 1С:Управление производственным предприятием использовать фронт-офис решения 1С:Розница, при этом конфигурация будет выполнять роль хэд-офиса и бэк-оф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осуществляет сервисное обслуживание своих потребителей, оно может использовать решение 1С:Управление сервисным цент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астую предприятия используют удаленные склады, работу которых удобно автоматизировать в единой базе на основе 1С:Управление производственным предприятием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жники предприятия могут работать с ограниченным доступом к системе, использу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лиента 1С:Предприятия 8.2: это позволяет с одной стороны организовать эффективную систему электронной коммерции, с другой стороны избежать рисков доступа к конфиденциальной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едприятие использует автотранспорт, можно использовать решение 1С-Логистика: Управление перевозками. Для транспортного цеха рекомендуется использовать решение 1С:Управление автотранспортом, позволяющее оптимизировать расходы на ГСМ и решение 1С:Спутниковый мониторинг ГЛОНАСС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ее в оперативном режиме контролировать работу транспортного пар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деле капитального строительства может использоваться решение 1С:Управление строительно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эксплуатации может использовать решение 1С:Аренда и управление недвижимостью, интегрирующееся в 1С:Управление производственным предприятием и автоматизирующее на современном уровне работу данной служ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е предприятия, использующие продукты 1С, могут автоматизировать деятельность заводских гостиницы и столовой с помощью решений 1С:Отель, 1С:Общепит, 1С:Ресто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охраны может воспользоваться решением 1С:Пульт централизованного наблю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хеме приведены только основные решения для бизнеса, их спектр шире, учитывая десятки отраслевых и специализированных разработ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на практике можно подобрать решение практически для любого подразделения или службы предприятия и интегрировать его в единое информационно-управленческое пространство 1С:Предприятия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каждом предприятии выполняется два основных вида процессов: производственные (технологические) и бизнес-процессы (офисные). В контур управления наравне с внутренними процедурами предприятия вовлечены процессы взаимодействия с поставщиками и заказчиками. Они призваны улучшить обслуживание клиентов за счет своевременного исполнения поставок, регулировать количество запасов, устраняя их дефицит и залеживание. Составными частями бизнес-процессов являются события, документы и сотрудники, исполняющие отдельные работы, сгруппированные по функциональным задачам. Необходимо регламентировать действия пользователей при работе с информационной системой в рамках настроенных бизнес-правил, включая потоки движени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лизующим инструментом выступают системы планирования, учета, контроля и анализа, представленные в конфигурации 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включает комплекс средств, позволяющих поставить заботу о клиентах на индустриальную основу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тслеживать кажд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эффективно использовать каждый контак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троить систему взаимоотношений, оптимально организовывая работу с различными категориями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6EE-56C9-4404-8C25-36881994DB16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3.png"/><Relationship Id="rId3" Type="http://schemas.openxmlformats.org/officeDocument/2006/relationships/image" Target="../media/image144.png"/><Relationship Id="rId4" Type="http://schemas.openxmlformats.org/officeDocument/2006/relationships/image" Target="../media/image144.png"/><Relationship Id="rId5" Type="http://schemas.openxmlformats.org/officeDocument/2006/relationships/image" Target="../media/image14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3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5.png"/><Relationship Id="rId3" Type="http://schemas.openxmlformats.org/officeDocument/2006/relationships/image" Target="../media/image156.jpeg"/><Relationship Id="rId4" Type="http://schemas.openxmlformats.org/officeDocument/2006/relationships/image" Target="../media/image15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wmf"/><Relationship Id="rId16" Type="http://schemas.openxmlformats.org/officeDocument/2006/relationships/hyperlink" Target="http://www.idc.com/home.jhtml;jsessionid=YVSITK5CPRVFWCQJAFDCFFAKBEAVAIWD" TargetMode="External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3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1.png"/><Relationship Id="rId3" Type="http://schemas.openxmlformats.org/officeDocument/2006/relationships/image" Target="../media/image1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5.png"/><Relationship Id="rId3" Type="http://schemas.openxmlformats.org/officeDocument/2006/relationships/image" Target="../media/image166.png"/><Relationship Id="rId4" Type="http://schemas.openxmlformats.org/officeDocument/2006/relationships/image" Target="../media/image167.png"/><Relationship Id="rId5" Type="http://schemas.openxmlformats.org/officeDocument/2006/relationships/image" Target="../media/image1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jpeg"/><Relationship Id="rId21" Type="http://schemas.openxmlformats.org/officeDocument/2006/relationships/image" Target="../media/image33.png"/><Relationship Id="rId22" Type="http://schemas.openxmlformats.org/officeDocument/2006/relationships/image" Target="../media/image34.jpe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jpeg"/><Relationship Id="rId27" Type="http://schemas.openxmlformats.org/officeDocument/2006/relationships/image" Target="../media/image39.png"/><Relationship Id="rId28" Type="http://schemas.openxmlformats.org/officeDocument/2006/relationships/image" Target="../media/image40.jpe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82.png"/><Relationship Id="rId49" Type="http://schemas.openxmlformats.org/officeDocument/2006/relationships/image" Target="../media/image91.png"/><Relationship Id="rId50" Type="http://schemas.openxmlformats.org/officeDocument/2006/relationships/image" Target="../media/image92.png"/><Relationship Id="rId51" Type="http://schemas.openxmlformats.org/officeDocument/2006/relationships/image" Target="../media/image93.png"/><Relationship Id="rId52" Type="http://schemas.openxmlformats.org/officeDocument/2006/relationships/image" Target="../media/image94.png"/><Relationship Id="rId53" Type="http://schemas.openxmlformats.org/officeDocument/2006/relationships/image" Target="../media/image95.png"/><Relationship Id="rId54" Type="http://schemas.openxmlformats.org/officeDocument/2006/relationships/image" Target="../media/image96.png"/><Relationship Id="rId55" Type="http://schemas.openxmlformats.org/officeDocument/2006/relationships/image" Target="../media/image97.png"/><Relationship Id="rId56" Type="http://schemas.openxmlformats.org/officeDocument/2006/relationships/image" Target="../media/image98.png"/><Relationship Id="rId57" Type="http://schemas.openxmlformats.org/officeDocument/2006/relationships/image" Target="../media/image99.png"/><Relationship Id="rId58" Type="http://schemas.openxmlformats.org/officeDocument/2006/relationships/image" Target="../media/image100.png"/><Relationship Id="rId59" Type="http://schemas.openxmlformats.org/officeDocument/2006/relationships/image" Target="../media/image101.png"/><Relationship Id="rId60" Type="http://schemas.openxmlformats.org/officeDocument/2006/relationships/image" Target="../media/image102.png"/><Relationship Id="rId61" Type="http://schemas.openxmlformats.org/officeDocument/2006/relationships/image" Target="../media/image103.png"/><Relationship Id="rId62" Type="http://schemas.openxmlformats.org/officeDocument/2006/relationships/image" Target="../media/image104.png"/><Relationship Id="rId63" Type="http://schemas.openxmlformats.org/officeDocument/2006/relationships/image" Target="../media/image105.png"/><Relationship Id="rId64" Type="http://schemas.openxmlformats.org/officeDocument/2006/relationships/image" Target="../media/image106.png"/><Relationship Id="rId65" Type="http://schemas.openxmlformats.org/officeDocument/2006/relationships/image" Target="../media/image107.png"/><Relationship Id="rId66" Type="http://schemas.openxmlformats.org/officeDocument/2006/relationships/image" Target="../media/image108.png"/><Relationship Id="rId67" Type="http://schemas.openxmlformats.org/officeDocument/2006/relationships/image" Target="../media/image109.png"/><Relationship Id="rId68" Type="http://schemas.openxmlformats.org/officeDocument/2006/relationships/image" Target="../media/image110.png"/><Relationship Id="rId69" Type="http://schemas.openxmlformats.org/officeDocument/2006/relationships/image" Target="../media/image111.png"/><Relationship Id="rId70" Type="http://schemas.openxmlformats.org/officeDocument/2006/relationships/image" Target="../media/image112.png"/><Relationship Id="rId71" Type="http://schemas.openxmlformats.org/officeDocument/2006/relationships/image" Target="../media/image113.png"/><Relationship Id="rId72" Type="http://schemas.openxmlformats.org/officeDocument/2006/relationships/image" Target="../media/image114.png"/><Relationship Id="rId73" Type="http://schemas.openxmlformats.org/officeDocument/2006/relationships/image" Target="../media/image115.png"/><Relationship Id="rId74" Type="http://schemas.openxmlformats.org/officeDocument/2006/relationships/image" Target="../media/image116.png"/><Relationship Id="rId75" Type="http://schemas.openxmlformats.org/officeDocument/2006/relationships/image" Target="../media/image117.png"/><Relationship Id="rId76" Type="http://schemas.openxmlformats.org/officeDocument/2006/relationships/image" Target="../media/image118.png"/><Relationship Id="rId77" Type="http://schemas.openxmlformats.org/officeDocument/2006/relationships/image" Target="../media/image119.png"/><Relationship Id="rId78" Type="http://schemas.openxmlformats.org/officeDocument/2006/relationships/image" Target="../media/image120.png"/><Relationship Id="rId79" Type="http://schemas.openxmlformats.org/officeDocument/2006/relationships/image" Target="../media/image121.png"/><Relationship Id="rId80" Type="http://schemas.openxmlformats.org/officeDocument/2006/relationships/image" Target="../media/image122.png"/><Relationship Id="rId81" Type="http://schemas.openxmlformats.org/officeDocument/2006/relationships/image" Target="../media/image123.png"/><Relationship Id="rId82" Type="http://schemas.openxmlformats.org/officeDocument/2006/relationships/image" Target="../media/image124.png"/><Relationship Id="rId83" Type="http://schemas.openxmlformats.org/officeDocument/2006/relationships/image" Target="../media/image125.png"/><Relationship Id="rId84" Type="http://schemas.openxmlformats.org/officeDocument/2006/relationships/image" Target="../media/image126.png"/><Relationship Id="rId85" Type="http://schemas.openxmlformats.org/officeDocument/2006/relationships/image" Target="../media/image127.png"/><Relationship Id="rId86" Type="http://schemas.openxmlformats.org/officeDocument/2006/relationships/image" Target="../media/image128.png"/><Relationship Id="rId87" Type="http://schemas.openxmlformats.org/officeDocument/2006/relationships/image" Target="../media/image129.png"/><Relationship Id="rId88" Type="http://schemas.openxmlformats.org/officeDocument/2006/relationships/slideLayout" Target="../slideLayouts/slideLayout3.xml"/><Relationship Id="rId8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2.wmf"/><Relationship Id="rId28" Type="http://schemas.openxmlformats.org/officeDocument/2006/relationships/slideLayout" Target="../slideLayouts/slideLayout3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91040" y="54975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ERP-решения Фирмы «1С»</a:t>
            </a:r>
            <a:br>
              <a:rPr sz="2000"/>
            </a:b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для Генерального директора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90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ьзовани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спользуя подсистему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RM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ы не будете зависеть от «записей в блокнотах» менеджеров по продажам. Отношения с клиентами станут достоянием компании, а не конкретных сотрудников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ы сможет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любой момент получить контактную информацию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идеть всю историю взаимоотношений с клиентом, планируемые и фактические сделки, встречи, письма, звонк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е пропустите важных встреч с клиентами, дней рождения и других знаменательных дат важных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лучить обратную связь от Ваших клиентов, используя подсистемы анкетирования и почтовых рассылок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ролировать работу менеджеров и построить систему мотивации, основанную на оценке качества работы с клиентам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1640" y="-108360"/>
            <a:ext cx="5972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правление производством </a:t>
            </a:r>
            <a:br>
              <a:rPr sz="1700"/>
            </a:b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Многоуровневые взаимосвязанные планы</a:t>
            </a:r>
            <a:endParaRPr b="1" lang="en-US" sz="1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7320" y="1198080"/>
            <a:ext cx="6581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6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На основе стратегического бизнес-плана предприятия и имеющихся заказов формируются с учетом различных параметров планы продаж, используемые в дальнейшем остальными подсистемами планирования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329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34800" y="2589120"/>
            <a:ext cx="8474400" cy="3732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rcRect l="0" t="0" r="69240" b="0"/>
          <a:stretch/>
        </p:blipFill>
        <p:spPr>
          <a:xfrm>
            <a:off x="334800" y="2589120"/>
            <a:ext cx="2606760" cy="3732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rcRect l="30596" t="0" r="34731" b="0"/>
          <a:stretch/>
        </p:blipFill>
        <p:spPr>
          <a:xfrm>
            <a:off x="2927520" y="2589120"/>
            <a:ext cx="2938320" cy="373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rcRect l="65196" t="0" r="-109" b="0"/>
          <a:stretch/>
        </p:blipFill>
        <p:spPr>
          <a:xfrm>
            <a:off x="5859360" y="2589120"/>
            <a:ext cx="2959200" cy="373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325440" y="1557360"/>
          <a:ext cx="49672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557360"/>
                    <a:ext cx="49672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1041480" y="217440"/>
            <a:ext cx="58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НСИ (инженерными данными)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92720" y="1773360"/>
            <a:ext cx="360036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Обеспечение комплексного управления данными об изделии, включая его технологию, на всех этапах жизненного цик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Поддержка современных методов управления конструкторско-технологической подготовкой производства (КТПП), применяемых на передовых производств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Повышение прозрачности, управляемости и эффективности КТПП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Организация единого комплекса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PLM+ERP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  <a:ea typeface="Arial"/>
              </a:rPr>
              <a:t>и создание единой управленческой систем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24000" y="1522440"/>
          <a:ext cx="4968720" cy="480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522440"/>
                    <a:ext cx="496872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830160" y="1622520"/>
          <a:ext cx="3889440" cy="29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0160" y="1622520"/>
                    <a:ext cx="3889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68360" y="1959120"/>
          <a:ext cx="1673280" cy="81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959120"/>
                    <a:ext cx="16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43280" y="1949400"/>
          <a:ext cx="3197160" cy="118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3280" y="1949400"/>
                    <a:ext cx="31971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125800" y="1969920"/>
          <a:ext cx="174132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5800" y="1969920"/>
                    <a:ext cx="174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332000" y="3097080"/>
          <a:ext cx="1676160" cy="816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3097080"/>
                    <a:ext cx="16761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987640" y="3087720"/>
          <a:ext cx="1324080" cy="817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87640" y="3087720"/>
                    <a:ext cx="1324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701800" y="4005360"/>
          <a:ext cx="150840" cy="484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01800" y="4005360"/>
                    <a:ext cx="1508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42920" y="50760"/>
            <a:ext cx="5618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производство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9360" y="2554200"/>
            <a:ext cx="81406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Основные функциональные возможности подсистемы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5400" y="2981160"/>
            <a:ext cx="535140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правление данными об изделиях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остроение укрупненного,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точненного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 посменного плана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Генерация сменно–суточных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заданий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Управление затратами и расчет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ебестоимости продукции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ценарное, скользящее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 проектное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ланирование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роизводства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  <a:p>
            <a:pPr lvl="1" marL="361800" indent="-182520">
              <a:lnSpc>
                <a:spcPct val="80000"/>
              </a:lnSpc>
              <a:spcBef>
                <a:spcPts val="213"/>
              </a:spcBef>
              <a:spcAft>
                <a:spcPts val="638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Интеграция планирования продаж,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роизводства и снабжения </a:t>
            </a:r>
            <a:br>
              <a:rPr sz="1700"/>
            </a:b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с подсистемой бюджетирования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6120" y="1117440"/>
            <a:ext cx="6664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33"/>
                </a:solidFill>
                <a:latin typeface="Arial"/>
              </a:rPr>
              <a:t>Подсистема управления производством предназначена для планирования производственных процессов и материальных потоков в производстве, отражения процессов производственной деятельности предприятия и построения нормативной системы управления производством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414680" y="3071880"/>
            <a:ext cx="4318200" cy="30351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36800" y="50760"/>
            <a:ext cx="5618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оответствие методологии учета российскому законодательству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840" y="1201320"/>
            <a:ext cx="6210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81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Заложенные в систему возможности ведения бухгалтерского и налогового учетов призваны обеспечить наиболее полное соответствие как российскому законодательству, так и потребностям реального бизнеса. Принятая методология является дальнейшим развитием учетных решений, реализованных в продуктах системы 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«1С:Предприятие»,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ставших индустриальным стандартом в стран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7120" indent="-181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решении фирмы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«1С»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автоматизация бухгалтерского учета поставлена на высокий технологический уровень: возможность гибкой настройки плана счетов без переконфигурирования, задание непосредственно в документах корреспонденции счетов, формирование проводок по документу и другие возможност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69160" y="1822320"/>
            <a:ext cx="782640" cy="936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886440" y="3000240"/>
            <a:ext cx="1800360" cy="1193760"/>
          </a:xfrm>
          <a:prstGeom prst="rect">
            <a:avLst/>
          </a:prstGeom>
          <a:ln w="50760">
            <a:solidFill>
              <a:srgbClr val="f9e383"/>
            </a:solidFill>
            <a:miter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6886440" y="4481640"/>
            <a:ext cx="1800360" cy="1193760"/>
          </a:xfrm>
          <a:prstGeom prst="rect">
            <a:avLst/>
          </a:prstGeom>
          <a:ln w="50760">
            <a:solidFill>
              <a:srgbClr val="f9e383"/>
            </a:solidFill>
            <a:miter/>
          </a:ln>
        </p:spPr>
      </p:pic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49400" y="85680"/>
            <a:ext cx="56181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правление финансами учет по международным стандартам (МСФО)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00" y="1179360"/>
            <a:ext cx="867888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Если предприятие ставит перед собой задачу выхода на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международные рынки или повышение инвестиционной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ивлекательности, прозрачность организации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 применением МСФО — важный фактор в решении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этой задачи. Продукт включает в себя отдельный план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четов в соответствии с МСФО, который может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астраиваться пользователем, обеспечивает:</a:t>
            </a:r>
            <a:br>
              <a:rPr sz="1600"/>
            </a:b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едение финансового учета и подготовку как индивидуальной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так и консолидированной финансовой отчет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трансляцию (перенос) большей части учетных записей (проводок) из подсистемы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араллельное ведение учета по российским и международным стандартам по отдельным участка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lvl="1" marL="154080" indent="-152640">
              <a:lnSpc>
                <a:spcPct val="90000"/>
              </a:lnSpc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ведение собственных регламентных документов, а также внесение корректирующих записей в «ручном» режиме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900840" y="1943280"/>
            <a:ext cx="1800360" cy="1247760"/>
          </a:xfrm>
          <a:prstGeom prst="rect">
            <a:avLst/>
          </a:prstGeom>
          <a:ln w="38160">
            <a:solidFill>
              <a:srgbClr val="f9e383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260280" y="5435640"/>
            <a:ext cx="8636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 методологическим вопросам реализации отчетности по МСФО консультационную поддержку осуществляет всемирно известная аудиторско-консалтинговая компания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PricewaterhouseCoopers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сширение возможностей  специализированными решениям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4320" y="2720880"/>
            <a:ext cx="85294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Функциональные возможности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могут быть расширены за счет интеграции с другими программными продуктами              на единой платформе «1С:Предприятие 8»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2120" y="3681360"/>
            <a:ext cx="457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Консолидац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Документооборо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корпоративными финанса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PDM Управление инженерными данным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MDM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Управление нормативно-справочной информацией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ТОИР Управление ремонтами и обслуживанием оборудования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МТО Материально-техническое обеспече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проектным офис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2240" y="2370240"/>
            <a:ext cx="5248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Специализированные программные продукты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72080" y="3701880"/>
            <a:ext cx="4260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Инвентаризация и управление имуществ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Аренда и управление недвижимостью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CRM ПРОФ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складом (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W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-Логистика:Управление перевозками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(TMS)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Управление Автотранспортом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1С:Центр спутникового мониторинга ГЛОНАСС/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GPS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С: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ITIL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Управление информационными технологиями предприятия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1219320"/>
            <a:ext cx="882036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ля использования функционала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с учетом законодательства различных стран предназначены локализованные версии для Украины, Казахстана и Беларуси.                                                                                              Для англоязычных сотрудников разработана версия с интерфейсом на английском языке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3680" y="930240"/>
            <a:ext cx="556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Локализация под национальные законодательств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63800" y="114480"/>
            <a:ext cx="54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ширение возможностей отраслевыми решениями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920" y="1959120"/>
            <a:ext cx="436392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ашиностроение                  программно–методический комплекс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оект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троительной организацие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ремон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ранспорт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роцессное производство. Химия 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Горно-добывающая промышленность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Фарм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сельскохозяйственным предприятием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тицефабрикой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Спиртов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икероводочный и винный 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иво-безалкогольный 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С:Рыбопереработк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Лесозаво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7280" y="1001880"/>
            <a:ext cx="8177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ущественное сокращение сроков внедрения и снижение совокупной           стоимости владения возможно при использовании отраслевых решений, созданных на базе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600" y="6573960"/>
            <a:ext cx="5194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Выпущенные и запланированные к выпуску до конца 2012 г. продукты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35520" y="1957320"/>
            <a:ext cx="39574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олокозавод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Мясокомбинат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мукомольно-крупя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Хлебобулочное и кондитерское производство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Полиграф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Девелопмент и управление недвижимостью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Риэлтор. Управление продажами недвижим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Энергетика. Управление распределительной сетевой компание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теплосетью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водоканало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редприятием ЖК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Управление переработкой отходов и вторсырь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84320" indent="-18432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1С:Комбинат ЖБ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576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зможности и преимущества платформы 1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 8, версия 8.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51680" y="1082520"/>
            <a:ext cx="298764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ючевые характеристики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оддержка нескольких СУБД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кластера в операционных системах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Windows</a:t>
            </a: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lang="ru-RU" sz="1500" spc="-1" strike="noStrike">
                <a:solidFill>
                  <a:srgbClr val="1c1c1c"/>
                </a:solidFill>
                <a:latin typeface="Arial"/>
              </a:rPr>
              <a:t>Linux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тказоустойчивость за счет резервирования кластер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Оптимизация быстродействия за счет динамической балансировки нагруз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Тонкий 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Веб–клиен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Работа в разных часовых поясах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Прогрессивный инструментарий </a:t>
            </a:r>
            <a:br>
              <a:rPr sz="1500"/>
            </a:br>
            <a:r>
              <a:rPr b="0" lang="ru-RU" sz="1500" spc="-1" strike="noStrike">
                <a:solidFill>
                  <a:srgbClr val="1c1c1c"/>
                </a:solidFill>
                <a:latin typeface="Arial"/>
              </a:rPr>
              <a:t>и средства отладк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5516640"/>
            <a:ext cx="38163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3300"/>
                </a:solidFill>
                <a:latin typeface="Arial"/>
              </a:rPr>
              <a:t>В результат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Создание систем высокой сложности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еративное разверты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462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1c1c1c"/>
                </a:solidFill>
                <a:latin typeface="Arial"/>
              </a:rPr>
              <a:t>Оптимизация затрат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16000" y="1052640"/>
            <a:ext cx="5833800" cy="444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36800" y="-6480"/>
            <a:ext cx="54021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ехнологические достоинства продукта.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роение территориально–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аспределенных сист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520" y="1206360"/>
            <a:ext cx="85662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Универсальный механизм обмена данными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 формате XML. Он предназначен как для создания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территориально распределенных систем на основе </a:t>
            </a:r>
            <a:br>
              <a:rPr sz="1800"/>
            </a:b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«1С:Предприятия 8»,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так и для организации обмена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анными с другими информационными системами.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При этом в одном прикладном решении может быть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оздано несколько независимых схем обмена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 различными системами. Поддерживается не только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классическая структура распределенных систем (типа «звезда»), но и более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ложные многоуровневые структуры типа «снежинка»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  <a:p>
            <a:pPr marL="1440" indent="-14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озможность построения на основе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С:Управления производственным предприятием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решения для предприятий сетевой или холдинговой структуры, позволяющее эффективно управлять бизнесом и видеть картину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«в целом» с необходимой для принятия решений оперативностью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899400" y="1922400"/>
            <a:ext cx="1800000" cy="1244520"/>
          </a:xfrm>
          <a:prstGeom prst="rect">
            <a:avLst/>
          </a:prstGeom>
          <a:ln w="38160">
            <a:solidFill>
              <a:srgbClr val="f9e383"/>
            </a:solidFill>
            <a:miter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102200" y="3090960"/>
          <a:ext cx="344160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2200" y="3090960"/>
                    <a:ext cx="3441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068480" y="-27000"/>
            <a:ext cx="58086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С:Предприятие 8 на рынке систем управления предприятием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8280" y="5403960"/>
            <a:ext cx="8353440" cy="10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0000"/>
                </a:solidFill>
                <a:latin typeface="Arial"/>
              </a:rPr>
              <a:t>Доля решений фирмы «1С» на рынке систем управления предприятием в России в денежном выражении по итогам 2010 года составляет 26%. Фиксируется устойчивый рост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DC</a:t>
            </a:r>
            <a:r>
              <a:rPr b="0" lang="ru-RU" sz="1400" spc="-1" strike="noStrike">
                <a:solidFill>
                  <a:srgbClr val="cc3300"/>
                </a:solidFill>
                <a:latin typeface="Arial Black"/>
              </a:rPr>
              <a:t>*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ботает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30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лет, более 700 аналитиков в 43 странах мира, в России с 1995г.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IDC — ведущий поставщик надежной информации, помогающей Клиентам понять тенденции развития технологий и электронного бизнеса и разрабатывать надежные стратегии ведения бизнеса.</a:t>
            </a:r>
            <a:r>
              <a:rPr b="0" i="1" lang="ru-RU" sz="12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210960" y="912960"/>
          <a:ext cx="3305160" cy="21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10960" y="912960"/>
                    <a:ext cx="3305160" cy="21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990800" y="927000"/>
          <a:ext cx="3284640" cy="21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90800" y="927000"/>
                    <a:ext cx="32846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214880" y="892080"/>
          <a:ext cx="3324240" cy="21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892080"/>
                    <a:ext cx="33242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-272880" y="3112920"/>
          <a:ext cx="3423960" cy="224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272880" y="3112920"/>
                    <a:ext cx="34239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832440" y="2814480"/>
          <a:ext cx="2040120" cy="2694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32440" y="2814480"/>
                    <a:ext cx="204012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812960" y="3159000"/>
          <a:ext cx="3594240" cy="216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2960" y="3159000"/>
                    <a:ext cx="359424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262320" y="479736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5760" y="48132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000" y="254160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6200" y="257004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01600" y="2563920"/>
            <a:ext cx="6447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13" name="Picture 13" descr="IDC - Home">
            <a:hlinkClick r:id="rId16"/>
          </p:cNvPr>
          <p:cNvPicPr/>
          <p:nvPr/>
        </p:nvPicPr>
        <p:blipFill>
          <a:blip r:embed="rId17"/>
          <a:srcRect l="5968" t="-1890" r="55425" b="0"/>
          <a:stretch/>
        </p:blipFill>
        <p:spPr>
          <a:xfrm>
            <a:off x="7684920" y="4552920"/>
            <a:ext cx="689040" cy="4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8"/>
          <a:srcRect l="0" t="1909" r="7130" b="0"/>
          <a:stretch/>
        </p:blipFill>
        <p:spPr>
          <a:xfrm>
            <a:off x="7377120" y="3129120"/>
            <a:ext cx="84456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6421320" y="852480"/>
          <a:ext cx="3389400" cy="2224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1320" y="852480"/>
                    <a:ext cx="33894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11960" y="4795920"/>
            <a:ext cx="966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80320" y="2558880"/>
            <a:ext cx="63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936880" y="2646360"/>
            <a:ext cx="620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троллинг и анализ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оказателей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дприятия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9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394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78375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нутренний контрол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4000" y="1052640"/>
            <a:ext cx="6408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учение прибыли, рациональная организация денежных потоков и действенная административная структура являются критически важными элементами экономической состоятельности предприятия.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ет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324000" y="2478240"/>
            <a:ext cx="739296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блюдение законодательных требований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анные в информационной системе характеризуются надежностью и доступностью для проверк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ются условия для внутреннего контроля, формируется прозрачная финансовая сред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тет уровень внутрикорпоративного доверия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41120" indent="-1411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нижается уровень риск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4000" y="5218200"/>
            <a:ext cx="8597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ешение создает добавленную стоимость в стратегическом управлении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1640" y="0"/>
            <a:ext cx="5815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ценка ключевых показателей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и работы предприят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24000" y="1052640"/>
            <a:ext cx="66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д эффективностью бизнеса понимаем соотношение прибыли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 произведенных затрат. Специализированный инструмент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24000" y="2492280"/>
            <a:ext cx="37731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из более чем 60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9680" indent="-139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148280" y="2100240"/>
            <a:ext cx="4570200" cy="432612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148280" y="2428920"/>
            <a:ext cx="457020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6659640" y="3068640"/>
            <a:ext cx="2160360" cy="1871640"/>
          </a:xfrm>
          <a:prstGeom prst="wedgeRectCallout">
            <a:avLst>
              <a:gd name="adj1" fmla="val -79902"/>
              <a:gd name="adj2" fmla="val -50509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едусмотрена настройка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и оценка работы 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1C:Управление производственным предприятием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зволяет оценить и сопоставить работу менеджеров,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твечающих за продажи и работу с клиентами, 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 целому ряду показателей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ыполнению плана продаж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 полноте заполнения базы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данны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актной информацией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личеству контактов с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купателям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эффициенту удержания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окупателей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личеству выполненных заказов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бъемам продаж и принесенной прибыли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3200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-10656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й балан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209520" y="1238400"/>
            <a:ext cx="36003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й продукт позволяет с необходимой детализацией прогнозировать результаты финансово-экономической деятельности предприятия.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чет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грегированный аналитический баланс»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можно рассчитать результаты при различных сценариях развития экономической действительност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казатели фактической деятельности предприятия («взгляд в прошлое»)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з эффективности принимаемых решений на основании запланированных данных («оценка будущего»)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  <a:p>
            <a:pPr marL="122400" indent="-122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279360" y="3838680"/>
            <a:ext cx="32734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254160" y="5076720"/>
            <a:ext cx="3249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854520" y="1773360"/>
            <a:ext cx="4417920" cy="463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5834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ые коэффициен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24000" y="1052640"/>
            <a:ext cx="655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25360" y="4765680"/>
            <a:ext cx="29656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225360" y="2192400"/>
            <a:ext cx="3051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225360" y="2957400"/>
            <a:ext cx="3013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225360" y="3946680"/>
            <a:ext cx="2965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370320" y="226224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367080" y="2876400"/>
            <a:ext cx="5384880" cy="2211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3370320" y="321948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3368520" y="371160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955960" y="2646360"/>
            <a:ext cx="61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Создание конкурентных преимуществ для бизнеса </a:t>
            </a:r>
            <a:br>
              <a:rPr sz="3200"/>
            </a:b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26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429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52640" y="-23760"/>
            <a:ext cx="582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жидаемый эффект от внедрения системы оперативного управления производством </a:t>
            </a:r>
            <a:br>
              <a:rPr sz="1800"/>
            </a:b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на базе 1С:Управление производственным предприятием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84360" y="1844640"/>
          <a:ext cx="763272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844640"/>
                    <a:ext cx="7632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84360" y="4038480"/>
          <a:ext cx="763272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038480"/>
                    <a:ext cx="76327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4313160" y="3192480"/>
          <a:ext cx="398520" cy="9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3160" y="3192480"/>
                    <a:ext cx="398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920" y="-130680"/>
            <a:ext cx="5626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. Часть 1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066680" y="-1440"/>
            <a:ext cx="10800" cy="763560"/>
            <a:chOff x="1066680" y="-1440"/>
            <a:chExt cx="10800" cy="763560"/>
          </a:xfrm>
        </p:grpSpPr>
        <p:sp>
          <p:nvSpPr>
            <p:cNvPr id="440" name=""/>
            <p:cNvSpPr/>
            <p:nvPr/>
          </p:nvSpPr>
          <p:spPr>
            <a:xfrm>
              <a:off x="10666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7748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800" y="2060640"/>
            <a:ext cx="84312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ООО «ЮЖНЫЙ ЗАВОД ГИДРАВЛИЧЕСКИХ МАШИН»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500"/>
            </a:b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(Торговая марка «ЮЖГИДРОМАШ») – предприятие, производящее насосное оборудование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Директор ООО «Южный завод гидравлических машин» </a:t>
            </a: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Телегуз Эдуард Николаевич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: </a:t>
            </a:r>
            <a:br>
              <a:rPr sz="1500"/>
            </a:b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«…. полученная в результате достоверная «нормативка» позволила полностью перестроить все процессы планирования на предприятии. Теперь изменения в конструкторской документации «пересчитываются» в изменения плановой себестоимости в течение нескольких минут (иногда прямо в ходе телефонного разговора с покупателем), хотя раньше на это могла уходить половина рабочего дня. Составление плана закупок перестало быть ритуалом группы «жрецов» отдела снабжения, а превратилось в рутинную процедуру расчета потребностей на основании плана производства…»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http://v8.1c.ru/news/newsAbout.jsp?id=3403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6520" y="1268280"/>
            <a:ext cx="374328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920" y="77760"/>
            <a:ext cx="58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т конкурентных преимуществ предприяти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 данны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PICS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дл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P-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стем и статистике проектов 1С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41200" y="1773360"/>
          <a:ext cx="8701200" cy="4633920"/>
        </p:xfrm>
        <a:graphic>
          <a:graphicData uri="http://schemas.openxmlformats.org/drawingml/2006/table">
            <a:tbl>
              <a:tblPr/>
              <a:tblGrid>
                <a:gridCol w="7112160"/>
                <a:gridCol w="158904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заказное производство)</a:t>
                      </a:r>
                      <a:endParaRPr b="0" lang="en-US" sz="18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Запасы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ов материальных запас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0-4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затрат на приобретение и хранение сырья и материал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доли несвоевременных поставок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80-9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объема незавершенного производств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3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боротные средств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нижение объема привлечения краткосрочных финансовых ресурс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10-1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Увеличение оборачиваемости денежных средст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3-5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перативность и эффективность 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качества информации для принятия решений, сокращение рисков несвоевременных и неверных решений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2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документов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60 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времени подготовки регламентированной отчетност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3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ыночная стоимость компани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окращение налоговых рисков 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до 5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Повышение лояльности клиентов (</a:t>
                      </a: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CRM)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20-50%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Снижение стоимости привлечения капитал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от 1% ставки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Рост капитализации и инвестиционной привлекательности бизнеса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40000"/>
                          </a:solidFill>
                          <a:latin typeface="Arial"/>
                        </a:rPr>
                        <a:t>…</a:t>
                      </a:r>
                      <a:endParaRPr b="0" lang="en-US" sz="1000" spc="-1" strike="noStrike">
                        <a:solidFill>
                          <a:srgbClr val="5f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06080" y="-106560"/>
            <a:ext cx="5257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рганизации, использующие 1С:Управление производственным предприятием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133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152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158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161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74400" y="44280"/>
            <a:ext cx="72327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. Часть 2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066680" y="-1440"/>
            <a:ext cx="10800" cy="763560"/>
            <a:chOff x="1066680" y="-1440"/>
            <a:chExt cx="10800" cy="763560"/>
          </a:xfrm>
        </p:grpSpPr>
        <p:sp>
          <p:nvSpPr>
            <p:cNvPr id="448" name=""/>
            <p:cNvSpPr/>
            <p:nvPr/>
          </p:nvSpPr>
          <p:spPr>
            <a:xfrm>
              <a:off x="10666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748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95280" y="2205000"/>
            <a:ext cx="7720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468360" y="1357200"/>
            <a:ext cx="762120" cy="847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95280" y="2349360"/>
            <a:ext cx="835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33"/>
                </a:solidFill>
                <a:latin typeface="Arial"/>
              </a:rPr>
              <a:t>ОАО «Конструкция»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— специализированное предприятие по производству металлоконструкций и металлоизделий для строительства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Внедрение программного комплекса на базе «1С: Предприятие 8«позволило минимизировать сроки исполнения производственных заказов на 15 – 20%, снизить производственные издержки на 7–10%, более эффективно организовать работу персонала компании и существенно снизить количество ошибок при составлении регламентированной отчетности.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Заместитель директора по финансам ОАО «Конструкция» Поважнюк Елена Николаевна: </a:t>
            </a:r>
            <a:br>
              <a:rPr sz="1500"/>
            </a:br>
            <a:br>
              <a:rPr sz="1500"/>
            </a:br>
            <a:r>
              <a:rPr b="0" i="1" lang="ru-RU" sz="1500" spc="-1" strike="noStrike">
                <a:solidFill>
                  <a:srgbClr val="cc3300"/>
                </a:solidFill>
                <a:latin typeface="Arial"/>
              </a:rPr>
              <a:t>«Система «1С:Предприятие 8» в эксплуатации оказалась очень удобной и отвечающей нашим требованиям. Мы хотели получить программу, дающую полную и достоверную информацию. Сейчас мы ее имеем и можем оперативно реагировать на любые изменения ситуации…»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spcAft>
                <a:spcPts val="938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33"/>
                </a:solidFill>
                <a:latin typeface="Arial"/>
              </a:rPr>
              <a:t>http://v8.1c.ru/news/newsAbout.jsp?id=3143</a:t>
            </a:r>
            <a:endParaRPr b="0" lang="en-US" sz="15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59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462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28680" y="1106640"/>
            <a:ext cx="4128840" cy="2511360"/>
            <a:chOff x="328680" y="1106640"/>
            <a:chExt cx="4128840" cy="251136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360360" y="1152360"/>
              <a:ext cx="4083120" cy="23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flipV="1">
              <a:off x="336600" y="1106640"/>
              <a:ext cx="191880" cy="193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680" y="3392640"/>
              <a:ext cx="190440" cy="193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275000" y="1143000"/>
              <a:ext cx="160560" cy="122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972200">
              <a:off x="4234320" y="3399120"/>
              <a:ext cx="217440" cy="1843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7280" y="5322960"/>
            <a:ext cx="847584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1760" indent="-13176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Решения «1С» распространяются через сеть фирм-партнеров в 600 городах России и СНГ.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  <a:p>
            <a:pPr marL="131760" indent="-13176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Из них особенно важны 1С:Франчайзи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—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сеть предприятий, осуществляющих комплексные услуги по автоматизации учетной и офисной работы. </a:t>
            </a:r>
            <a:endParaRPr b="0" lang="en-US" sz="16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71720" y="0"/>
            <a:ext cx="4384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артнерская сеть «1С»</a:t>
            </a:r>
            <a:endParaRPr b="0" lang="en-US" sz="20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7360" y="1177920"/>
            <a:ext cx="3998880" cy="2338560"/>
          </a:xfrm>
          <a:prstGeom prst="roundRect">
            <a:avLst>
              <a:gd name="adj" fmla="val 4824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74760" y="1468440"/>
            <a:ext cx="3621240" cy="579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76200" y="2109960"/>
            <a:ext cx="4131000" cy="282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04920" y="2171880"/>
            <a:ext cx="5624640" cy="14079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2259000"/>
            <a:ext cx="5581440" cy="24638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25360" y="2303640"/>
            <a:ext cx="955800" cy="1652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2840" y="2301840"/>
            <a:ext cx="3043080" cy="26589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80920" y="1874880"/>
            <a:ext cx="490680" cy="490320"/>
            <a:chOff x="880920" y="1874880"/>
            <a:chExt cx="490680" cy="490320"/>
          </a:xfrm>
        </p:grpSpPr>
        <p:sp>
          <p:nvSpPr>
            <p:cNvPr id="182" name=""/>
            <p:cNvSpPr/>
            <p:nvPr/>
          </p:nvSpPr>
          <p:spPr>
            <a:xfrm>
              <a:off x="880920" y="1874880"/>
              <a:ext cx="490680" cy="4903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32760" y="1900800"/>
              <a:ext cx="388800" cy="35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rcRect l="0" t="1909" r="7130" b="0"/>
            <a:stretch/>
          </p:blipFill>
          <p:spPr>
            <a:xfrm>
              <a:off x="912600" y="1973880"/>
              <a:ext cx="417240" cy="296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5" name=""/>
          <p:cNvGraphicFramePr/>
          <p:nvPr/>
        </p:nvGraphicFramePr>
        <p:xfrm>
          <a:off x="376200" y="3156120"/>
          <a:ext cx="917892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6200" y="3156120"/>
                    <a:ext cx="91789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195880" y="1663560"/>
          <a:ext cx="2470320" cy="120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95880" y="1663560"/>
                    <a:ext cx="2470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905360" y="1200240"/>
            <a:ext cx="238140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f7fd">
                  <a:alpha val="50196"/>
                </a:srgbClr>
              </a:gs>
              <a:gs pos="100000">
                <a:srgbClr val="65c7e5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43480" y="1162080"/>
            <a:ext cx="15717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ahoma"/>
              </a:rPr>
              <a:t>Франчайзи </a:t>
            </a:r>
            <a:r>
              <a:rPr b="0" lang="ru-RU" sz="1400" spc="-1" strike="noStrike">
                <a:solidFill>
                  <a:srgbClr val="333333"/>
                </a:solidFill>
                <a:latin typeface="Tahoma"/>
              </a:rPr>
              <a:t>более 7000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02560" y="2944800"/>
            <a:ext cx="211428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f7fd">
                  <a:alpha val="50196"/>
                </a:srgbClr>
              </a:gs>
              <a:gs pos="100000">
                <a:srgbClr val="65c7e5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73920" y="2954160"/>
            <a:ext cx="183816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ahoma"/>
              </a:rPr>
              <a:t>Центры компетенции: </a:t>
            </a: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производство 600 строительство 180 торговля 350 бюджет 220</a:t>
            </a:r>
            <a:endParaRPr b="0" lang="en-US" sz="14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36880" y="2646360"/>
            <a:ext cx="620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Ключевые возможности</a:t>
            </a:r>
            <a:endParaRPr b="0" lang="en-US" sz="4000" spc="-1" strike="noStrike">
              <a:solidFill>
                <a:srgbClr val="5f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195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87480" y="5724360"/>
            <a:ext cx="6964560" cy="747720"/>
            <a:chOff x="1887480" y="5724360"/>
            <a:chExt cx="6964560" cy="747720"/>
          </a:xfrm>
        </p:grpSpPr>
        <p:sp>
          <p:nvSpPr>
            <p:cNvPr id="198" name=""/>
            <p:cNvSpPr/>
            <p:nvPr/>
          </p:nvSpPr>
          <p:spPr>
            <a:xfrm>
              <a:off x="2139840" y="6105240"/>
              <a:ext cx="671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87480" y="5724360"/>
              <a:ext cx="6958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С:Управление производственным предприятием </a:t>
              </a:r>
              <a:endParaRPr b="0" lang="en-US" sz="16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значение продук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дукт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                                                предприятием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омплексная информационная                                                    система класса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RP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, охватывающая основные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контуры управления и учета на производственном предприятии. Решение позволяет организовать единую информационную систему для управления деятельностью предприятия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Мониторинг и анализ показателе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еятельности предприятия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P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Управление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финанс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FRP,P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ерсоналом, включая расчет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заработной платы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HCM, HR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тношениями с покупателями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 поставщик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CR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даж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SCM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закупкам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SCM, SRS, D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кладом (запасами)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ITS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производство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(APS,SFC,TPS, FCRP, RCCP, MRP, MPS, SO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основными средствами и планированием ремонт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AM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203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f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65040" y="5354640"/>
            <a:ext cx="8655120" cy="1163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47760" y="2651040"/>
            <a:ext cx="8667720" cy="263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66840" y="984240"/>
            <a:ext cx="8654760" cy="1639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87440" y="87480"/>
            <a:ext cx="72597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Единая информационно-управленческая система, построенная на 1С:Управление производственным предприятием и других решениях системы «1С:Предприятие 8»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320" y="1276200"/>
            <a:ext cx="226800" cy="119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8160" y="3121200"/>
            <a:ext cx="353880" cy="1195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6600" y="5272200"/>
            <a:ext cx="338040" cy="1428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38280" y="1038240"/>
            <a:ext cx="608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423720" y="1609560"/>
            <a:ext cx="1049400" cy="455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28760" y="2100240"/>
            <a:ext cx="733320" cy="21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33440" y="2343240"/>
            <a:ext cx="2506680" cy="21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1514520" y="1609560"/>
            <a:ext cx="1395360" cy="21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2919240" y="1609560"/>
            <a:ext cx="857520" cy="223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3805200" y="1609560"/>
            <a:ext cx="1187640" cy="2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5"/>
          <a:stretch/>
        </p:blipFill>
        <p:spPr>
          <a:xfrm>
            <a:off x="5043600" y="1609560"/>
            <a:ext cx="1903320" cy="21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6"/>
          <a:stretch/>
        </p:blipFill>
        <p:spPr>
          <a:xfrm>
            <a:off x="7010280" y="1609560"/>
            <a:ext cx="1062000" cy="216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7"/>
          <a:stretch/>
        </p:blipFill>
        <p:spPr>
          <a:xfrm>
            <a:off x="8101080" y="1616040"/>
            <a:ext cx="860400" cy="216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8"/>
          <a:stretch/>
        </p:blipFill>
        <p:spPr>
          <a:xfrm>
            <a:off x="1514520" y="1852560"/>
            <a:ext cx="140004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9"/>
          <a:stretch/>
        </p:blipFill>
        <p:spPr>
          <a:xfrm>
            <a:off x="1195560" y="2100240"/>
            <a:ext cx="3315960" cy="21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0"/>
          <a:stretch/>
        </p:blipFill>
        <p:spPr>
          <a:xfrm>
            <a:off x="2928960" y="185256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1"/>
          <a:stretch/>
        </p:blipFill>
        <p:spPr>
          <a:xfrm>
            <a:off x="3795840" y="1852560"/>
            <a:ext cx="1190520" cy="216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2"/>
          <a:stretch/>
        </p:blipFill>
        <p:spPr>
          <a:xfrm>
            <a:off x="5048280" y="1847880"/>
            <a:ext cx="105408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3"/>
          <a:stretch/>
        </p:blipFill>
        <p:spPr>
          <a:xfrm>
            <a:off x="6143760" y="1847880"/>
            <a:ext cx="798480" cy="455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7015320" y="1857240"/>
            <a:ext cx="195264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5"/>
          <a:stretch/>
        </p:blipFill>
        <p:spPr>
          <a:xfrm>
            <a:off x="4557600" y="2090880"/>
            <a:ext cx="428760" cy="217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6"/>
          <a:stretch/>
        </p:blipFill>
        <p:spPr>
          <a:xfrm>
            <a:off x="3762360" y="2347920"/>
            <a:ext cx="1230480" cy="2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7"/>
          <a:stretch/>
        </p:blipFill>
        <p:spPr>
          <a:xfrm>
            <a:off x="1671480" y="1066680"/>
            <a:ext cx="104328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8"/>
          <a:stretch/>
        </p:blipFill>
        <p:spPr>
          <a:xfrm>
            <a:off x="3100320" y="1052640"/>
            <a:ext cx="503280" cy="51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9"/>
          <a:stretch/>
        </p:blipFill>
        <p:spPr>
          <a:xfrm>
            <a:off x="4010040" y="1076400"/>
            <a:ext cx="784080" cy="51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0"/>
          <a:stretch/>
        </p:blipFill>
        <p:spPr>
          <a:xfrm>
            <a:off x="5195880" y="1028880"/>
            <a:ext cx="84600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1"/>
          <a:stretch/>
        </p:blipFill>
        <p:spPr>
          <a:xfrm>
            <a:off x="6286680" y="1028880"/>
            <a:ext cx="420480" cy="514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2"/>
          <a:stretch/>
        </p:blipFill>
        <p:spPr>
          <a:xfrm>
            <a:off x="7272360" y="1057320"/>
            <a:ext cx="52848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3"/>
          <a:stretch/>
        </p:blipFill>
        <p:spPr>
          <a:xfrm>
            <a:off x="8105760" y="1066680"/>
            <a:ext cx="824040" cy="515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4"/>
          <a:stretch/>
        </p:blipFill>
        <p:spPr>
          <a:xfrm>
            <a:off x="442800" y="5743440"/>
            <a:ext cx="1249560" cy="21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5"/>
          <a:stretch/>
        </p:blipFill>
        <p:spPr>
          <a:xfrm>
            <a:off x="442800" y="5996160"/>
            <a:ext cx="2484720" cy="21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6"/>
          <a:stretch/>
        </p:blipFill>
        <p:spPr>
          <a:xfrm>
            <a:off x="433440" y="6243480"/>
            <a:ext cx="2495520" cy="216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7"/>
          <a:stretch/>
        </p:blipFill>
        <p:spPr>
          <a:xfrm>
            <a:off x="1719360" y="5415120"/>
            <a:ext cx="939600" cy="515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8"/>
          <a:stretch/>
        </p:blipFill>
        <p:spPr>
          <a:xfrm>
            <a:off x="733320" y="2671920"/>
            <a:ext cx="468360" cy="515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9"/>
          <a:stretch/>
        </p:blipFill>
        <p:spPr>
          <a:xfrm>
            <a:off x="409680" y="3200400"/>
            <a:ext cx="1073160" cy="216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0"/>
          <a:stretch/>
        </p:blipFill>
        <p:spPr>
          <a:xfrm>
            <a:off x="404640" y="3438360"/>
            <a:ext cx="1076400" cy="21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1"/>
          <a:stretch/>
        </p:blipFill>
        <p:spPr>
          <a:xfrm>
            <a:off x="390600" y="3681360"/>
            <a:ext cx="1093680" cy="2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2"/>
          <a:stretch/>
        </p:blipFill>
        <p:spPr>
          <a:xfrm>
            <a:off x="399960" y="391968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3"/>
          <a:stretch/>
        </p:blipFill>
        <p:spPr>
          <a:xfrm>
            <a:off x="585720" y="4448160"/>
            <a:ext cx="755640" cy="51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4"/>
          <a:stretch/>
        </p:blipFill>
        <p:spPr>
          <a:xfrm>
            <a:off x="1500120" y="3200400"/>
            <a:ext cx="1057320" cy="216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5"/>
          <a:stretch/>
        </p:blipFill>
        <p:spPr>
          <a:xfrm>
            <a:off x="2685960" y="321948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6"/>
          <a:stretch/>
        </p:blipFill>
        <p:spPr>
          <a:xfrm>
            <a:off x="2681280" y="3686040"/>
            <a:ext cx="4268880" cy="21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7"/>
          <a:stretch/>
        </p:blipFill>
        <p:spPr>
          <a:xfrm>
            <a:off x="4886280" y="3205080"/>
            <a:ext cx="2060640" cy="45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8"/>
          <a:stretch/>
        </p:blipFill>
        <p:spPr>
          <a:xfrm>
            <a:off x="7048440" y="320976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9"/>
          <a:stretch/>
        </p:blipFill>
        <p:spPr>
          <a:xfrm>
            <a:off x="8113680" y="3448080"/>
            <a:ext cx="858960" cy="2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0"/>
          <a:stretch/>
        </p:blipFill>
        <p:spPr>
          <a:xfrm>
            <a:off x="4886280" y="3924360"/>
            <a:ext cx="20700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1"/>
          <a:stretch/>
        </p:blipFill>
        <p:spPr>
          <a:xfrm>
            <a:off x="2685960" y="3457440"/>
            <a:ext cx="2184480" cy="216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2"/>
          <a:stretch/>
        </p:blipFill>
        <p:spPr>
          <a:xfrm>
            <a:off x="7058160" y="3448080"/>
            <a:ext cx="1030320" cy="21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3"/>
          <a:stretch/>
        </p:blipFill>
        <p:spPr>
          <a:xfrm>
            <a:off x="8118360" y="3209760"/>
            <a:ext cx="844560" cy="21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4"/>
          <a:stretch/>
        </p:blipFill>
        <p:spPr>
          <a:xfrm>
            <a:off x="7048440" y="3924360"/>
            <a:ext cx="1924200" cy="21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5"/>
          <a:stretch/>
        </p:blipFill>
        <p:spPr>
          <a:xfrm>
            <a:off x="2676600" y="3924360"/>
            <a:ext cx="218736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6"/>
          <a:stretch/>
        </p:blipFill>
        <p:spPr>
          <a:xfrm>
            <a:off x="1509840" y="3919680"/>
            <a:ext cx="106344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7"/>
          <a:stretch/>
        </p:blipFill>
        <p:spPr>
          <a:xfrm>
            <a:off x="1500120" y="3433680"/>
            <a:ext cx="106848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8"/>
          <a:stretch/>
        </p:blipFill>
        <p:spPr>
          <a:xfrm>
            <a:off x="7048440" y="4176720"/>
            <a:ext cx="1922400" cy="21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9"/>
          <a:stretch/>
        </p:blipFill>
        <p:spPr>
          <a:xfrm>
            <a:off x="7058160" y="3686040"/>
            <a:ext cx="1035000" cy="21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0"/>
          <a:stretch/>
        </p:blipFill>
        <p:spPr>
          <a:xfrm>
            <a:off x="7029360" y="4981680"/>
            <a:ext cx="1949400" cy="215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1"/>
          <a:stretch/>
        </p:blipFill>
        <p:spPr>
          <a:xfrm>
            <a:off x="4000680" y="2700360"/>
            <a:ext cx="752400" cy="515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2"/>
          <a:stretch/>
        </p:blipFill>
        <p:spPr>
          <a:xfrm>
            <a:off x="2814480" y="2705040"/>
            <a:ext cx="784440" cy="515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3"/>
          <a:stretch/>
        </p:blipFill>
        <p:spPr>
          <a:xfrm>
            <a:off x="5562720" y="2690640"/>
            <a:ext cx="7776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4"/>
          <a:stretch/>
        </p:blipFill>
        <p:spPr>
          <a:xfrm>
            <a:off x="8220240" y="2681280"/>
            <a:ext cx="61092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5"/>
          <a:stretch/>
        </p:blipFill>
        <p:spPr>
          <a:xfrm>
            <a:off x="7362720" y="26719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6"/>
          <a:stretch/>
        </p:blipFill>
        <p:spPr>
          <a:xfrm>
            <a:off x="1838160" y="2681280"/>
            <a:ext cx="457200" cy="512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7"/>
          <a:stretch/>
        </p:blipFill>
        <p:spPr>
          <a:xfrm>
            <a:off x="2876400" y="4157640"/>
            <a:ext cx="77796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8"/>
          <a:stretch/>
        </p:blipFill>
        <p:spPr>
          <a:xfrm>
            <a:off x="3967200" y="4181400"/>
            <a:ext cx="741240" cy="513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9"/>
          <a:stretch/>
        </p:blipFill>
        <p:spPr>
          <a:xfrm>
            <a:off x="5257800" y="4176720"/>
            <a:ext cx="48276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0"/>
          <a:stretch/>
        </p:blipFill>
        <p:spPr>
          <a:xfrm>
            <a:off x="6238800" y="4172040"/>
            <a:ext cx="425520" cy="517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1"/>
          <a:stretch/>
        </p:blipFill>
        <p:spPr>
          <a:xfrm>
            <a:off x="1690560" y="4443480"/>
            <a:ext cx="719280" cy="512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2"/>
          <a:stretch/>
        </p:blipFill>
        <p:spPr>
          <a:xfrm>
            <a:off x="4390920" y="4772160"/>
            <a:ext cx="966960" cy="215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3"/>
          <a:stretch/>
        </p:blipFill>
        <p:spPr>
          <a:xfrm>
            <a:off x="4390920" y="5024520"/>
            <a:ext cx="984240" cy="215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4"/>
          <a:stretch/>
        </p:blipFill>
        <p:spPr>
          <a:xfrm>
            <a:off x="3514680" y="4729320"/>
            <a:ext cx="827280" cy="515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5"/>
          <a:stretch/>
        </p:blipFill>
        <p:spPr>
          <a:xfrm>
            <a:off x="5424480" y="4743360"/>
            <a:ext cx="766800" cy="513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6"/>
          <a:stretch/>
        </p:blipFill>
        <p:spPr>
          <a:xfrm>
            <a:off x="8244000" y="4424400"/>
            <a:ext cx="630000" cy="517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7"/>
          <a:stretch/>
        </p:blipFill>
        <p:spPr>
          <a:xfrm>
            <a:off x="7048440" y="4414680"/>
            <a:ext cx="11700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8"/>
          <a:stretch/>
        </p:blipFill>
        <p:spPr>
          <a:xfrm>
            <a:off x="3009960" y="5986440"/>
            <a:ext cx="125712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9"/>
          <a:stretch/>
        </p:blipFill>
        <p:spPr>
          <a:xfrm>
            <a:off x="4362480" y="5986440"/>
            <a:ext cx="1120680" cy="457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0"/>
          <a:stretch/>
        </p:blipFill>
        <p:spPr>
          <a:xfrm>
            <a:off x="5591160" y="5996160"/>
            <a:ext cx="1862280" cy="215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1"/>
          <a:stretch/>
        </p:blipFill>
        <p:spPr>
          <a:xfrm>
            <a:off x="7605720" y="5977080"/>
            <a:ext cx="1370160" cy="457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2"/>
          <a:stretch/>
        </p:blipFill>
        <p:spPr>
          <a:xfrm>
            <a:off x="5595840" y="6234120"/>
            <a:ext cx="900360" cy="216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3"/>
          <a:stretch/>
        </p:blipFill>
        <p:spPr>
          <a:xfrm>
            <a:off x="6696000" y="5400720"/>
            <a:ext cx="619200" cy="514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4"/>
          <a:stretch/>
        </p:blipFill>
        <p:spPr>
          <a:xfrm>
            <a:off x="8039160" y="5415120"/>
            <a:ext cx="463320" cy="514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5"/>
          <a:stretch/>
        </p:blipFill>
        <p:spPr>
          <a:xfrm>
            <a:off x="5786280" y="5410080"/>
            <a:ext cx="625680" cy="514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6"/>
          <a:stretch/>
        </p:blipFill>
        <p:spPr>
          <a:xfrm>
            <a:off x="4300560" y="5410080"/>
            <a:ext cx="1320840" cy="514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7"/>
          <a:stretch/>
        </p:blipFill>
        <p:spPr>
          <a:xfrm>
            <a:off x="2752560" y="5410080"/>
            <a:ext cx="1505160" cy="514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78920" y="6581880"/>
            <a:ext cx="522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Схема охвата зон автоматизации с учетом выпущенных продуктов на начало 2012 г. </a:t>
            </a:r>
            <a:endParaRPr b="0" lang="en-US" sz="1000" spc="-1" strike="noStrike">
              <a:solidFill>
                <a:srgbClr val="5f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236520" y="2009880"/>
          <a:ext cx="860112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520" y="2009880"/>
                    <a:ext cx="86011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1079640" y="149400"/>
            <a:ext cx="5762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нтеграция производственных подразделений 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единую систему управления предприятием</a:t>
            </a:r>
            <a:endParaRPr b="0" lang="en-US" sz="18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98720" y="2711520"/>
          <a:ext cx="5226120" cy="31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98720" y="2711520"/>
                    <a:ext cx="522612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244600" y="4038480"/>
          <a:ext cx="476892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4600" y="4038480"/>
                    <a:ext cx="4768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23960" y="2441520"/>
            <a:ext cx="6085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0000"/>
                </a:solidFill>
                <a:latin typeface="Arial"/>
              </a:rPr>
              <a:t>Централизованные подразделения (корпоративный уровень)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16320" y="4443480"/>
            <a:ext cx="457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0000"/>
                </a:solidFill>
                <a:latin typeface="Arial"/>
              </a:rPr>
              <a:t>Цеховые подразделения (производственный уровень)</a:t>
            </a:r>
            <a:endParaRPr b="0" lang="en-US" sz="1200" spc="-1" strike="noStrike">
              <a:solidFill>
                <a:srgbClr val="5f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419640" y="2716200"/>
          <a:ext cx="23097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16200"/>
                    <a:ext cx="23097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098800" y="2724120"/>
          <a:ext cx="2562120" cy="61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8800" y="2724120"/>
                    <a:ext cx="2562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095560" y="3156120"/>
          <a:ext cx="2558880" cy="799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95560" y="3156120"/>
                    <a:ext cx="2558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483000" y="3156120"/>
          <a:ext cx="1176480" cy="798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83000" y="3156120"/>
                    <a:ext cx="11764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610160" y="3156120"/>
          <a:ext cx="1176120" cy="799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10160" y="3156120"/>
                    <a:ext cx="117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605480" y="3151080"/>
          <a:ext cx="2476440" cy="798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05480" y="3151080"/>
                    <a:ext cx="24764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614840" y="2717640"/>
          <a:ext cx="2451240" cy="619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614840" y="2717640"/>
                    <a:ext cx="2451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147760" y="4694400"/>
          <a:ext cx="4991400" cy="36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47760" y="4694400"/>
                    <a:ext cx="499140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135160" y="5081760"/>
          <a:ext cx="4991040" cy="3632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5160" y="5081760"/>
                    <a:ext cx="49910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125800" y="5446800"/>
          <a:ext cx="4991040" cy="363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25800" y="5446800"/>
                    <a:ext cx="49910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4818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правление отношениями с клиентами (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16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Эффективная работа с клиентами — один из ключевых факторов повышения рентабельности и надежности бизнеса в условиях высокой конкуренц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включает комплекс средств, позволяющих поставить заботу о клиентах на индустриальную основу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слеживать каждое обращение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эффективно использовать каждый контакт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троить систему взаимоотношений, оптимально организовывая работу с различными категориями клиентов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Система позволяет оперативно реагировать на запросы клиентов, четко планировать взаимодействие с ними, оценивать результаты различных маркетинговых и рекламных акций по привлечению клиенто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7T06:18:31Z</dcterms:modified>
  <cp:revision>560</cp:revision>
  <dc:subject/>
  <dc:title>1С:Предприятие 8   Управление производственным предприятием</dc:title>
</cp:coreProperties>
</file>