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7.png" ContentType="image/png"/>
  <Override PartName="/ppt/media/image20.wmf" ContentType="image/x-wmf"/>
  <Override PartName="/ppt/media/image11.png" ContentType="image/png"/>
  <Override PartName="/ppt/media/image48.png" ContentType="image/png"/>
  <Override PartName="/ppt/media/image57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4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75.png" ContentType="image/png"/>
  <Override PartName="/ppt/media/image72.png" ContentType="image/png"/>
  <Override PartName="/ppt/media/image60.png" ContentType="image/png"/>
  <Override PartName="/ppt/media/image71.jpeg" ContentType="image/jpeg"/>
  <Override PartName="/ppt/media/image61.png" ContentType="image/png"/>
  <Override PartName="/ppt/media/image26.png" ContentType="image/png"/>
  <Override PartName="/ppt/media/image25.wmf" ContentType="image/x-wmf"/>
  <Override PartName="/ppt/media/image68.png" ContentType="image/png"/>
  <Override PartName="/ppt/media/image2.jpeg" ContentType="image/jpeg"/>
  <Override PartName="/ppt/media/image31.png" ContentType="image/png"/>
  <Override PartName="/ppt/media/image70.png" ContentType="image/png"/>
  <Override PartName="/ppt/media/image28.png" ContentType="image/png"/>
  <Override PartName="/ppt/media/image69.jpeg" ContentType="image/jpeg"/>
  <Override PartName="/ppt/media/image67.png" ContentType="image/png"/>
  <Override PartName="/ppt/media/image30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27.png" ContentType="image/png"/>
  <Override PartName="/ppt/media/image24.png" ContentType="image/png"/>
  <Override PartName="/ppt/media/image73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.wmf" ContentType="image/x-wmf"/>
  <Override PartName="/ppt/media/image35.wmf" ContentType="image/x-wmf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jpeg" ContentType="image/jpe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39.png" ContentType="image/png"/>
  <Override PartName="/ppt/media/image13.png" ContentType="image/png"/>
  <Override PartName="/ppt/media/image32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4C7-5C68-470C-8105-52841EF1E9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P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Фирмы «1С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ля целей внутреннего ауди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персональных данных (152-Ф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ована функциональность зада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eak Protec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гистрация аутентификации и отказа в аутент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регистрация изменений прав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егистрация фактов отказа в доступ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егистрация доступа к защищаемым ресурс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imes New Roman"/>
              </a:rPr>
              <a:t>Защищенный программно-аппаратный комплек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cc3300"/>
                </a:solidFill>
                <a:latin typeface="Times New Roman"/>
              </a:rPr>
              <a:t>«1С: Предприятие, версии 8.2z»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тифицирован на соответствие требованиям руководящи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. по защите от НСД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5 класс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. по уровню контроля отсутствия НДВ  -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 4 уровню контроля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. подтверждена возможность использования при построении АС д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класса 1Г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. подтверждена возможность использования для защиты информации в ИСПДн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до К1 включительно</a:t>
            </a:r>
            <a:r>
              <a:rPr b="0" lang="ru-RU" sz="12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3300"/>
                </a:solidFill>
                <a:latin typeface="Times New Roman"/>
              </a:rPr>
              <a:t>Получен сертификат соответствия ФСТЭК РФ № 2137 от 20.07.2010 (срок действия до 20.07.20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онные мероприятия в рамках внутреннего аудита должны препятствовать возникновению и существованию факторов, способных привести к умышленному или непреднамеренному искажению оценки исходных данных при организации учетных 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темы данного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сполнение законодательных требова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нтроль за состоянием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оступность данных обязательному ауди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«1С:Управление производственным предприятием»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обеспечивает автоматизацию следующих видов учета на предприятии: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Учет ОС и Н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2.   Учет банковских и кассовы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3.   Учет расчетов с контрагента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4.   Расчет зарплаты и учет расчетов с персоналом, бюдже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5.   Учет материалов, полуфабрикатов, брака, тары, готов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6.   Учет незавершенного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7.   Учет затрат и расчет себестоим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8.   Учет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9.   Учет торговых операций, в том числе в розничной и комиссионной торгов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10.  Определение финансового результата деятельности для целей налогооб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организации учетных действий в рамках предприятия определяющим документом является «Учетная политика предприятия». Данный документ нашел свое прямое воплощение в 1С:Управление производственным предприяти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грамме поддерживаются различные системы налогообло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щий режи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Упрощенная система налогообложения (УСН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Единый налог на вмененный доход (ЕНВ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формационная база настраивается под конкретные потребности предприятия, в результате обязательства по обеспечению законодательных требований берет на себя программа, «направляя» действия пользова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и 1С:Управление производственным предприятием применяется План счетов бухгалтерского учета, соответствующий Приказу Минфина РФ «Об утверждении плана счетов бухгалтерского учета финансово-хозяйственной деятельности организации и инструкции по его применению» от 31.10.2000 № 94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применения Плана счетов налогового уче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 счетов налогового учета законодательно не регламентируется, является частью методики ведения учета в данном реше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ежду Планами счетов бухгалтерского и налогового учета применяется «зеркальная» кодировка с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лагается прозрачный и доступный для самостоятельной настройки пользователем механизм задания соответствия счетов бухгалтерского и налогового уч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выполнение требований ПБУ 18/02 «Учет расчетов по налогу на прибыль» по выделению временных и постоянных разниц в оценке активов и пасси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сех первичных документов обеспечена возможность контроля ключевой расчетной формулы соответствия регламентированных видов учета: БУ=НУ+ВР+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бухгалтерского и налогового учета регистрируются одновременно в момент проведения первичного документа, происходит автоматическая регистрация постоянных и временных разниц в оценке активов и обязатель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нкционал по исчислению налога на добавленную стоимость (НД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учет НДС реализован в соответствии с нормами гл. 21 НК 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втоматизировано заполнение Книги покупок и Книги прода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ля целей учета НДС ведется раздельный учет операций, облагаемых НДС и не подлежащих налогообложению согласно ст. 149 НК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исполнении организацией обязанностей налогового аг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 реализован принцип нормативного управления производством, основанный на широких возможностях ведения нормативно-справочной информации о структуре изделия.  Представлены инструменты управления составом затрат, включаемых в себестоимость конкрет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ормирование прямых материальных затрат выполняется по спецификациям номенклатуры выпускаемых изделий или услуг. Удобство восприятия обеспечивает визуальное представление спецификации изделия в виде дерева специфик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ческие карты производства описывают нормирование труда в разрезе технологических опер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рианты выбора базы распределения косвенных расходов позволяют гибко управлять себестоимостью выпускаем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дополнение к учетной политике в 1С:Управление производственным предприятием существует ряд механизмов обеспечивающих контрольные мероприятия, подтверждающие достоверность учетных данных в информационной систем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инвентаризация ОС и Н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вентаризация остатков на склад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нвентаризация незавершенного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нвентаризация и анализ дебиторской и кредиторской задолж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контроль кассовой и банковской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формирование и предоставление публичной отчет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 аудиторы действуют в интересах собственников и руководства предприятия. «Добавочная стоимость» консультаций по развитию бизнеса способствуют экономическому успеху предприятия. Серьезную помощь в организации данных работ оказывает наличие на предприятии «правильной» информационной системы. Рассмотрим возможности редакции 1.3 конфигурации Управление производственным предприятием на платформе «1С:Предприятие 8.2», позволяющие сделать труд внутренних аудиторов более результатив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ы в рамках внутреннего аудита направлены на обеспечение качественных показателей в управленческих разреза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ие качества исходных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Методика и организация учетных действий – постановка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ценка эффективности процесс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став регламентированной отчетности, представленной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формы бухгалтерской отчет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налоговые декла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тчетность во внебюджетные социальные фон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формы статис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личные спра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формы отчетности соответствуют нормативным докум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ено предоставление отчетности в электронном виде в органы Федеральной налоговой службы и Пенсионного фонда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информационной базе на основе 1С:Управление производственным предприятием допустимо вести учет по нескольким организациям одновре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бухгалтерский и налоговый учет (в отличии от управленческого учета) по организациям, зарегистрированным в общей информационной базе, ведется раздельн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спользуемые в информационной базе Планы счетов бухгалтерского и налогового учета являются общими для всех организаций информационной баз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четная политика задается для каждой организации индивидуально, число организаций неограничен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внутри организации сохраняется свой порядок нумерации первичных докум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обеспечено ведение учета по филиалам, выделенным на самостоятельный балан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ввод документов выполняется с учетом часового поя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1С:Управление производственным предприятие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лены механизмы для оценки текущего состояния регламентированного учета. Они призваны облегчить рутинную работу бухгалтера по поиску и исправлению досадных «операторских» ошибок, а в целом повысить качество организации учетных 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ыявление технических бухгалтерских ошибок и анализ структуры аналитического учета выполняется отчетом «Анализ состояния бухгалтерского учет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а с отчетом начинается с задания необходимых настроек для анализа. Часть из них, как, например, эталонный План счетов, заданы по умолч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торую половину предварительных настроек в виде нежелательных проводок пользователь может указать самостоя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ы анализа выводятся на экран с необходимыми пояснениями, описывающими выявленную проблему. Для исправления предусмотрен непосредственный вызов из отчета карточки счета или формы операции с ошибочной провод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авильность расчета налога на прибыль при выполнении требований ПБУ 18/02 «Учет расчетов по налогу на прибыль» можно проанализировать отчетом «Анализ состояния налогового учета по налогу на прибыль». Отчет состоит из двух частей. Первая часть отражает структуру налогов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перехода ко второй части выберем раздел «Актив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отчета изменяется и показывается стоимость активов в разрезе основных компонент бухгалтерского и налогового учета (БУ, НУ, ВР. ПР). Наглядный и удобный механизм для проведения контроль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обходимость проведения обязательного аудита предъявляет требования по широкой доступности исходных данных для организации проверок. Обязательность аудита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требностями заинтересованных в нем пользователей, принимающих стратегические решения в интересах бизнеса (собственники, инвесторы, органы власти, общественность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трудненности прямого доступа к учетной и прочей информации организации в повседнев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нцип построения и механизмы реализации учетных действий, представленные в 1С:Управление производственным предприятием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еспечивают процедуру прохождения внешнего аудита максимально безболезненной для предприятия и прогнозируемой в качественном плане не только за счет соблюдения регламентирующих требований «на подсознательном уровне», но и возможности в любой момент «развернуть» информацию по дополнительным аналитик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этому следующий раздел нашей презентации посвящен анализу хозяйственной деятельности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Механизмы финансового анализ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истема мониторинг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Преимущества аналитических отче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тический баланс и анализ ликвидности и платежеспособ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чет о прибылях и убыт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Анализ оборачиваемости активов и пасс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Анализ доходности и рентабельности финансово-хозяйственной деятельности (ФХ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Анализ эффективности использования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отчеты представлены в рамках подсистемы «Бюджетировани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зрачность деятельности призвана обеспечить эффективность. Под эффективностью бизнеса мы понимаем соотношение прибыли и произведенных затрат. Специализированный инструмент «Монитор эффективности» ориентирован на оперативную оценку ключевых показателей эффективности работ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хват всего бизнеса «одним взглядом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своевременное выявление отклонений от плана, негативной динамики, точек рос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уточнение предоставляемой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использование предустановленного комплекта из более чем 60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разработка новых показателей эффектив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предусмотрена настройка вариантов отчета по видам деятельности, по участкам ответственности, под потребности конкретного заинтересованного л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имущества аналитических отчетов определяются следующими фактор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формация, предоставляемая дополнительными отчетами, позволяет более эффективно организовать систему первичного документооборо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настройки отчетов можно сохранять в информационной базе для повторного ис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Табло счетов предназначено для оперативного получения наиболее важной информации из бухгалтерских или налоговых итог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процессе управления мелочей не бывает, поэтому поиск внутренних резервов и раскрытие их потенциала во блага предприятия основной аспект работы внутреннего аудитора. Рассмотрим факторы, повышающие эффективность управления через инструменты информационной 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ддержка МСФО и широкие интеграционные возмож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нструменты оценки и контроля деятельности менедже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тодическая поддержка пользова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игурация Управление производственным предприятием охватывает основные информационные потоки предприятия. Организация управления и исполнение требований учетных действий находятся в неразрывном взаимодействии. Инструменты управленческого учета и возможности планирования формируют операционную деятельность предприятия, закладывая основу для учетны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RP-система, построенная на основании 1С:Управление производственным предприятием, создает информационное пространство, в котором интегрированы планирование и управление затратами, бюджетирование и расчет себестоимости, логистика, взаимоотношения с клиентами, управление персоналом, РСБУ и МСФ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инвестиционной привлекательности своего бизнеса - важнейшая задача собственника. Ведение МСФО обеспечивает формирование прозрачной, унифицированной, сопоставимой отчетности по принципам, принятым в международной практике с целью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ется инвестиционная привлекательность на рынке капитала. Обеспечивается выход на российские и международные фондовые рынки, привлечение зарубежных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ложенные в 1С:Управление производственным предприятием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по вертикали с продуктом 1С:Консолидация делает решение 1С:Управление производственным предприятием звеном комплексной системы финансового управления холдингов и промышленных груп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зможный вариант совместного использования представлен на рисунке. Под учетной единицей может выступать как отдельное подразделение (например, обособленное подразделение или филиал), так и организация или предприятие, входящие в холд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 позволяет оценить и сопоставить работу менеджеров, отвечающих за продажи и работу с клиентами, по целому ряду объективных показ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о полноте заполнения базы данных контактной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количеству контактов с покупател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эффициенту удержания покуп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количеству выполненных заказов, объемам продаж и принесенной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упные источники информации по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информация на сайте http://v8.1c.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1. обзор возможностей решений на 1С:Предприятие 8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2. ответы на часто задаваемые вопро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3. информация по внедр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чебные курс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курсы по конфигурированию, внедрению платформы и прикладных реш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очные и Интернет-к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ддержка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1. обновления платформы и конфигу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2. тестовые рели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Т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1. более 700 страниц информации, примеры разработки, полезные инстру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ниги, статьи, букл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1. для начинающих, для профессионалов, теоретические 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учебные версии П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1. для разработчика, для бухгалт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конкурентные преимущества программного продук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функциональные возможности мирового уровн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олное соответствие требованиям законодательства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оперативное сопровождение в условиях изменяющегося законода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консолидация и бизнес-анализ данн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адежная технологическая платформа «1С:Предприятие 8.2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мплексная система методической поддержки внедрения и подготовки специалис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привлекательное соотношение цена/каче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высокое доверие к продукту (реализовано более 14 000 комплект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й на его баз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более 350 000 клиентских лицензи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 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1C:Управление производственным предприятием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 в тесном сотрудничестве с партнерами, имеющими необходимые компетенц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Центры компетенции по производству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и внедр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«1С:Управление производственным предприятием»</a:t>
            </a:r>
            <a:r>
              <a:rPr b="0" lang="en-US" sz="12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 представлен по электронному адресу, который Вы видите на слай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@1c.r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Спасибо за внимание и приглашаем Вас к сотрудничеств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вый раздел посвящен инструментам обеспечения качества исходных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нутреннем аудите контрольные мероприятия должны проводиться не только по факту исполнения конкретной операции, а выполняться опережающим образом по процедурам генерации первичного документооборота в информационной ба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сматриваются следующее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Единый порядок регистрации событий и хозяйственных операций в систе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Использование аналитических разре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Механизмы организации доступа к дан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м способом регистрации хозяйственных операций в управленческом, бухгалтерском и налоговом учете является автоматическая генерация или ручной ввод в информационную базу первичных докумен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предустановленные операции с прописанными шаблонами проводок и необходимыми разрезами ана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и проведении документа проводки и учетные записи в регистрах накопления формируются автоматиче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личественные остатки в различных видах учета сопоставимы и управля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первичные документы регламентированного учета создаются на основании документов предшествующих операций с переносом необходимого состава аналитических разре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заполнение табличной части документов возможно путем подбора по данным справочников или с учетом участвующих в операции 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еденный пример показывает простой вариант приобретения материалов на основании предварительной договоренности с постав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говоренности с поставщиком фиксируются документом «Заказ поставщику»,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иходовании материалов на склад на основании документа «Заказ поставщику» создается документ «Поступление товаров и услуг», который отражает факт приобретения проводками в бухгалтерском и налоговом уче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ный документ «Поступление товаров и услуг» содержит всю необходимую по данной сделке информацию и может быть зафиксирован путем проведения в информационной систем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*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кумента «Поступление товаров и услуг» создается документ «Счет-фактура полученный», номер и дата данного документа указываются вручную, остальные данные автоматически берутся из документа, на основании которого он соз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ходящий НДС фиксируется в системе зависимым документом «Счет-фактура полученный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окумент «Требование-накладная», форма М-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документ «Товарная накладная», форма ТОРГ-1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*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документ «Счет-фактур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чественная документация является залогом спокойного проведения налоговых провер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нципы обеспечения аналитических разрезов в 1С:Управление производственным предприяти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данные по совершаемой хозяйственной операции заносятся один раз и в полном объеме аналитических разре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проводки содержат объем информации, соответствующий структуре аналитик Планов счетов БУ и 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хранение данных в виде учетных записей в регистрах накопления обеспечивает расширенную аналитику по совершаемым хозяйственным операциям, дополняющую возможности классического бухгалтерского уче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документы могут проводиться одновременно по управленческому, бухгалтерскому и налоговому уче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без потери качества исполнения генерация первичных документов может быть вынесена за пределы бухгалтерии и делегирована сотрудникам других служб организации, не имеющим специальных навыков в области бухгалтерского уч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конфигурации представлены инструменты обеспечения конфиденциальности хранимых в единой информационной системе дан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рсональная регистрация пользователя в системе обеспечив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возможность использования индивидуальных настрое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граничение доступа к определенным данным информационной базы, в т.ч. закрытие прошлых периодов от реда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контроль за действиями пользова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я  доступа пользователей к данным реализуется чере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назначение ролей и дополнительных пра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дание прав для групп пользов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использование заданных профи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кущее состояние настроек всегда доступно для контроля отчетом «Настройка прав доступ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316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47480" y="5060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41920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58316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47480" y="5976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264360" cy="126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160" y="5976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920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160" y="5060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9200" y="5976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7480" y="-360"/>
            <a:ext cx="57675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285560"/>
            <a:ext cx="8294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136440" indent="-1350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271440" indent="-1332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378000" indent="-105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493560" indent="-114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493560" indent="-114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493560" indent="-1141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5f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56600" y="6499080"/>
            <a:ext cx="75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B549-3B9C-48C6-9AD1-05541508CCF8}" type="slidenum">
              <a:rPr b="1" lang="ru-RU" sz="2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68480" y="-1440"/>
            <a:ext cx="9360" cy="763560"/>
            <a:chOff x="1068480" y="-1440"/>
            <a:chExt cx="9360" cy="763560"/>
          </a:xfrm>
        </p:grpSpPr>
        <p:sp>
          <p:nvSpPr>
            <p:cNvPr id="4" name=""/>
            <p:cNvSpPr/>
            <p:nvPr/>
          </p:nvSpPr>
          <p:spPr>
            <a:xfrm>
              <a:off x="1068480" y="-1440"/>
              <a:ext cx="0" cy="763560"/>
            </a:xfrm>
            <a:prstGeom prst="line">
              <a:avLst/>
            </a:prstGeom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7840" y="-1440"/>
              <a:ext cx="0" cy="7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1700280"/>
            <a:ext cx="6264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144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38240"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27288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379440" algn="ctr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5" marL="37944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lvl="6" marL="379440">
              <a:spcBef>
                <a:spcPts val="249"/>
              </a:spcBef>
              <a:buClr>
                <a:srgbClr val="5f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jpe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jpeg"/><Relationship Id="rId20" Type="http://schemas.openxmlformats.org/officeDocument/2006/relationships/image" Target="../media/image63.jpeg"/><Relationship Id="rId21" Type="http://schemas.openxmlformats.org/officeDocument/2006/relationships/image" Target="../media/image64.png"/><Relationship Id="rId22" Type="http://schemas.openxmlformats.org/officeDocument/2006/relationships/image" Target="../media/image65.jpeg"/><Relationship Id="rId23" Type="http://schemas.openxmlformats.org/officeDocument/2006/relationships/image" Target="../media/image66.jpe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jpeg"/><Relationship Id="rId27" Type="http://schemas.openxmlformats.org/officeDocument/2006/relationships/image" Target="../media/image70.png"/><Relationship Id="rId28" Type="http://schemas.openxmlformats.org/officeDocument/2006/relationships/image" Target="../media/image71.jpeg"/><Relationship Id="rId29" Type="http://schemas.openxmlformats.org/officeDocument/2006/relationships/image" Target="../media/image72.png"/><Relationship Id="rId30" Type="http://schemas.openxmlformats.org/officeDocument/2006/relationships/image" Target="../media/image73.jpeg"/><Relationship Id="rId3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image" Target="../media/image7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c.ru/rus/partners/ckp.jsp" TargetMode="External"/><Relationship Id="rId3" Type="http://schemas.openxmlformats.org/officeDocument/2006/relationships/hyperlink" Target="http://www.1c.ru/rus/partners/ckp.jsp" TargetMode="External"/><Relationship Id="rId4" Type="http://schemas.openxmlformats.org/officeDocument/2006/relationships/hyperlink" Target="http://www.1c.ru/rus/partners/ckp.jsp" TargetMode="External"/><Relationship Id="rId5" Type="http://schemas.openxmlformats.org/officeDocument/2006/relationships/hyperlink" Target="http://www.1c.ru/rus/partners/ckp.jsp" TargetMode="External"/><Relationship Id="rId6" Type="http://schemas.openxmlformats.org/officeDocument/2006/relationships/hyperlink" Target="http://www.1c.ru/rus/partners/ckp.jsp" TargetMode="External"/><Relationship Id="rId7" Type="http://schemas.openxmlformats.org/officeDocument/2006/relationships/hyperlink" Target="http://www.1c.ru/rus/partners/ckp.jsp" TargetMode="External"/><Relationship Id="rId8" Type="http://schemas.openxmlformats.org/officeDocument/2006/relationships/hyperlink" Target="http://www.1c.ru/rus/partners/ckp.jsp" TargetMode="External"/><Relationship Id="rId9" Type="http://schemas.openxmlformats.org/officeDocument/2006/relationships/hyperlink" Target="mailto:solutions@1c.ru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3"/>
          <p:cNvSpPr/>
          <p:nvPr/>
        </p:nvSpPr>
        <p:spPr>
          <a:xfrm>
            <a:off x="3198960" y="5680080"/>
            <a:ext cx="56163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0000"/>
                </a:solidFill>
                <a:latin typeface="Arial"/>
              </a:rPr>
              <a:t>ERP–</a:t>
            </a: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решения Фирмы «1С»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  <a:p>
            <a:pPr algn="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0000"/>
                </a:solidFill>
                <a:latin typeface="Arial"/>
              </a:rPr>
              <a:t>для целей внутреннего аудита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6381720"/>
            <a:ext cx="30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0000"/>
                </a:solidFill>
                <a:latin typeface="Arial"/>
              </a:rPr>
              <a:t>Редакция 1.3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90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967280"/>
            <a:ext cx="3429000" cy="18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щита персональных данных (152-ФЗ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2920" y="963720"/>
            <a:ext cx="80154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Реализована функциональность задач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LP (Data Leak Protection)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аутентификации и отказа в аутентифик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изменений прав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фактов отказа в доступ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79280" indent="-179280">
              <a:lnSpc>
                <a:spcPct val="7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егистрация доступа к защищаемым ресурс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lvl="1" marL="630360" indent="-181080">
              <a:lnSpc>
                <a:spcPct val="95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040" y="2629080"/>
            <a:ext cx="870444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Защищенный программно-аппаратный                                                                         комплекс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1С: Предприятие, версии 8.2z»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ертифицирован на соответствие требованиям                                                       руководящих документов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защите от НСД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5 клас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 уровню контроля отсутствия НДВ  -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по 4 уровню контро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при построении АС до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класса 1Г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дтверждена возможность использования для защиты информации в ИСПДн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0" i="1" lang="ru-RU" sz="1600" spc="-1" strike="noStrike">
                <a:solidFill>
                  <a:srgbClr val="cc3300"/>
                </a:solidFill>
                <a:latin typeface="Arial"/>
              </a:rPr>
              <a:t>до К1 включите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лучен сертификат соответствия ФСТЭК РФ № 2137 от 20.07.2010                      (срок действия до 20.07.2013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67400" y="1278000"/>
            <a:ext cx="2344680" cy="3305160"/>
            <a:chOff x="6467400" y="1278000"/>
            <a:chExt cx="2344680" cy="33051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467400" y="1290600"/>
              <a:ext cx="2344680" cy="329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2" name=""/>
            <p:cNvSpPr/>
            <p:nvPr/>
          </p:nvSpPr>
          <p:spPr>
            <a:xfrm>
              <a:off x="6467400" y="1278000"/>
              <a:ext cx="0" cy="328752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7400" y="127800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67400" y="4565520"/>
              <a:ext cx="2344680" cy="0"/>
            </a:xfrm>
            <a:prstGeom prst="line">
              <a:avLst/>
            </a:prstGeom>
            <a:ln w="12600">
              <a:solidFill>
                <a:srgbClr val="5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pic>
        <p:nvPicPr>
          <p:cNvPr id="145" name="Picture 4" descr="SERT"/>
          <p:cNvPicPr/>
          <p:nvPr/>
        </p:nvPicPr>
        <p:blipFill>
          <a:blip r:embed="rId3"/>
          <a:stretch/>
        </p:blipFill>
        <p:spPr>
          <a:xfrm>
            <a:off x="3583080" y="-333360"/>
            <a:ext cx="5383080" cy="740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беспечение достоверност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95200" y="1073160"/>
            <a:ext cx="65088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рганизационные мероприятия в рамках внутреннего аудита должны препятствовать возникновению и существованию факторов, способных привести к умышленному или непреднамеренному искажению оценки исходных данных при организации учетных действий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7800" y="278280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78280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85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втоматизируемые виды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66760" y="1090440"/>
            <a:ext cx="8707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беспечивает: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93840" y="1673280"/>
            <a:ext cx="836280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ОС и НМ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банковских и кассовых операц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расчетов с контрагентам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асчет зарплаты и учет расчетов с персоналом, бюджето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материалов, полуфабрикатов, брака, тары, готовой продук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незавершенного 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затрат и расчет себестоим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товар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торговых операций, в том числе в розничной и комиссионной торговле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ределение финансового результата деятельности для целей налогообложения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Исполнение законодательных требовани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4" name="Picture 11" descr="Учетная политика"/>
          <p:cNvPicPr/>
          <p:nvPr/>
        </p:nvPicPr>
        <p:blipFill>
          <a:blip r:embed="rId2"/>
          <a:stretch/>
        </p:blipFill>
        <p:spPr>
          <a:xfrm>
            <a:off x="403200" y="2379600"/>
            <a:ext cx="5262480" cy="4005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55" name="Rectangle 6"/>
          <p:cNvSpPr/>
          <p:nvPr/>
        </p:nvSpPr>
        <p:spPr>
          <a:xfrm>
            <a:off x="276120" y="1119240"/>
            <a:ext cx="8602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 организации учетных действий в рамках предприяти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пределяющим документом является «Учетная политика». Данный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кумент нашел свое прямое воплощение в конфигурации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формационная база настраивается под конкретные потребности предприятия: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2371680"/>
            <a:ext cx="2733840" cy="3067200"/>
          </a:xfrm>
          <a:prstGeom prst="wedgeRectCallout">
            <a:avLst>
              <a:gd name="adj1" fmla="val -98314"/>
              <a:gd name="adj2" fmla="val 14078"/>
            </a:avLst>
          </a:prstGeom>
          <a:solidFill>
            <a:srgbClr val="f8f44e">
              <a:alpha val="5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сле выбора  системы налогообложения:        общий режим или              УСН, ЕНВД – обязательства по обеспечению законодательных требований берет на себя программа, «направляя» действия пользовате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ланы счетов бухгалтерского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налог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8" name="Picture 24" descr="План счетов БУ_2"/>
          <p:cNvPicPr/>
          <p:nvPr/>
        </p:nvPicPr>
        <p:blipFill>
          <a:blip r:embed="rId2"/>
          <a:stretch/>
        </p:blipFill>
        <p:spPr>
          <a:xfrm>
            <a:off x="396720" y="2549520"/>
            <a:ext cx="7186680" cy="2612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59" name="Picture 25" descr="План счетов НУ_2"/>
          <p:cNvPicPr/>
          <p:nvPr/>
        </p:nvPicPr>
        <p:blipFill>
          <a:blip r:embed="rId3"/>
          <a:stretch/>
        </p:blipFill>
        <p:spPr>
          <a:xfrm>
            <a:off x="2222640" y="3800520"/>
            <a:ext cx="6499080" cy="2496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60" name="Rectangle 26"/>
          <p:cNvSpPr/>
          <p:nvPr/>
        </p:nvSpPr>
        <p:spPr>
          <a:xfrm>
            <a:off x="307800" y="1192320"/>
            <a:ext cx="85568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ERP-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ешении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дприятием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меняется План счетов бухгалтерского учета,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оответствующий Приказу Минфина РФ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</a:t>
            </a:r>
            <a:r>
              <a:rPr b="0" i="1" lang="ru-RU" sz="1600" spc="-1" strike="noStrike">
                <a:solidFill>
                  <a:srgbClr val="140000"/>
                </a:solidFill>
                <a:latin typeface="Arial"/>
              </a:rPr>
              <a:t>Об утверждении плана счетов бухгалтерского учета финансово-хозяйственной деятельности организации и инструкции по его применению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»</a:t>
            </a:r>
            <a:r>
              <a:rPr b="0" i="1" lang="ru-RU" sz="1600" spc="-1" strike="noStrike">
                <a:solidFill>
                  <a:srgbClr val="140000"/>
                </a:solidFill>
                <a:latin typeface="Arial"/>
              </a:rPr>
              <a:t> от 31.10.2000 № 94н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0600" y="4676760"/>
            <a:ext cx="2305080" cy="1781280"/>
          </a:xfrm>
          <a:prstGeom prst="wedgeRectCallout">
            <a:avLst>
              <a:gd name="adj1" fmla="val 50000"/>
              <a:gd name="adj2" fmla="val -91532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конодательно не регламентируется, является частью методики ведения учета в данном реше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2409840"/>
            <a:ext cx="1971720" cy="1066680"/>
          </a:xfrm>
          <a:prstGeom prst="wedgeRectCallout">
            <a:avLst>
              <a:gd name="adj1" fmla="val -59337"/>
              <a:gd name="adj2" fmla="val 89583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меняется «зеркальная» кодировка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58760" y="-11628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ответствие счетов БУ и НУ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1120680"/>
            <a:ext cx="6553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едлагается прозрачный и доступный для самостоятельной настройки пользователем механизм соответствия счетов бухгалтерского и налогового учет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65" name="Picture 15" descr="Соответствие счетов БУ и НУ_3"/>
          <p:cNvPicPr/>
          <p:nvPr/>
        </p:nvPicPr>
        <p:blipFill>
          <a:blip r:embed="rId2"/>
          <a:stretch/>
        </p:blipFill>
        <p:spPr>
          <a:xfrm>
            <a:off x="1130400" y="1859040"/>
            <a:ext cx="6939000" cy="4484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0640" y="1106280"/>
            <a:ext cx="53215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0" algn="ctr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0000"/>
                </a:solidFill>
                <a:latin typeface="Arial"/>
              </a:rPr>
              <a:t>БУ = НУ + ВР +ПР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85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ддержка требований ПБУ 18/0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14280" y="5873760"/>
            <a:ext cx="8535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конфигурации при проведении документа предусмотрена автоматическая регистрация постоянных и временных разниц в оценке активов и обязательст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47800" y="1727280"/>
          <a:ext cx="7448400" cy="41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1727280"/>
                    <a:ext cx="74484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НДС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79360" y="1179360"/>
            <a:ext cx="855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270000" y="1247760"/>
            <a:ext cx="838836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 НДС реализован в соответствии с нормами гл. 21 НК 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втоматизировано заполнение Книги покупок и Книги продаж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целей учета НДС ведется раздельный учет операций, облагаемых НДС и не подлежащих налогообложению согласно ст. 149 НК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слеживаются сложные хозяйственные ситуации в учете НДС при реализации с применением ставки НДС 0 %, при строительстве хозяйственным способом, а также при исполнении организацией обязанностей налогового аген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уммы НДС по косвенным расходам в соответствии со ст. 170 НК РФ могут быть распределены по операциям реализации, облагаемым НДС и освобожденным от уплаты НД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7320" indent="-1573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79360" y="4668840"/>
            <a:ext cx="8656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чество учетных мероприятий является предсказуемой величино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85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мативное управление производство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14280" y="1008000"/>
            <a:ext cx="85154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16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едоставляет широкие возможности ведения нормативно-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правочной информации о структуре изделия и позволяет </a:t>
            </a:r>
            <a:br>
              <a:rPr sz="1600"/>
            </a:br>
            <a:r>
              <a:rPr b="0" lang="ru-RU" sz="1600" spc="-1" strike="noStrike" u="sng">
                <a:solidFill>
                  <a:srgbClr val="140000"/>
                </a:solidFill>
                <a:uFillTx/>
                <a:latin typeface="Arial"/>
              </a:rPr>
              <a:t>объективно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управлять составом включаемых в его себестоимость затра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279360" y="2146320"/>
            <a:ext cx="34257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ормирование прямых материальных затрат выполняется по спецификациям номенклатуры выпускаемых изделий или услуг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93960" y="2281320"/>
            <a:ext cx="5180040" cy="3844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9" name="Rectangle 18"/>
          <p:cNvSpPr/>
          <p:nvPr/>
        </p:nvSpPr>
        <p:spPr>
          <a:xfrm>
            <a:off x="266760" y="3718080"/>
            <a:ext cx="34257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ехнологические карты производства описывают нормирование труда в разрезе технологических операций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289080" y="5016600"/>
            <a:ext cx="35398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арианты выбора базы распределения косвенных расходов позволяют гибко управлять себестоимостью выпускаемой продукци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693960" y="2662200"/>
            <a:ext cx="5183280" cy="3121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82" name="Picture 14" descr="Учетная политика_ОХР"/>
          <p:cNvPicPr/>
          <p:nvPr/>
        </p:nvPicPr>
        <p:blipFill>
          <a:blip r:embed="rId4"/>
          <a:stretch/>
        </p:blipFill>
        <p:spPr>
          <a:xfrm>
            <a:off x="3695760" y="3032280"/>
            <a:ext cx="5181480" cy="3384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беспечение достоверности учетных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ействий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66760" y="1192320"/>
            <a:ext cx="654696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дополнение к учетной политике в конфигур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существует ряд механизмов обеспечивающих контрольные мероприятия, подтверждающие достоверность учетных данных в информационной системе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79360" y="2581200"/>
            <a:ext cx="8569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ОС и НМ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остатков на складах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незавершенного производ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нвентаризация и анализ дебиторской и кредиторской задолжен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кассовой и банковской дисциплин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Формирование и предоставление публичной отчетност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58400" y="171000"/>
            <a:ext cx="80852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пецифика внутреннего аудит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97000" y="2720880"/>
            <a:ext cx="857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Рассмотрим возможнос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дакции 1.3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на платформ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1С:Предприятие 8.2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, позволяющие сделать труд внутренних аудиторов более результативным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840" y="1103400"/>
            <a:ext cx="67104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" indent="-936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нутренние аудиторы действуют в интересах собственников и руководства предприятия. «Добавочная стоимость» консультаций по развитию бизнеса способствуют экономическому успеху предприятия. Серьезную помощь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 организации данных работ оказывает наличие на предприятии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«правильной» информационной системы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63600" y="3546360"/>
            <a:ext cx="842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аботы в рамках внутреннего аудита направлены на обеспечение качественных показателей в управленческих разрезах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47800" y="4608360"/>
          <a:ext cx="7448400" cy="15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4608360"/>
                    <a:ext cx="74484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58400" y="-19440"/>
            <a:ext cx="80758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Регламентированная отчетность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7" name="Picture 11" descr="Отчетность_список"/>
          <p:cNvPicPr/>
          <p:nvPr/>
        </p:nvPicPr>
        <p:blipFill>
          <a:blip r:embed="rId2"/>
          <a:stretch/>
        </p:blipFill>
        <p:spPr>
          <a:xfrm>
            <a:off x="2901960" y="1839960"/>
            <a:ext cx="5580000" cy="4608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88" name="Rectangle 12"/>
          <p:cNvSpPr/>
          <p:nvPr/>
        </p:nvSpPr>
        <p:spPr>
          <a:xfrm>
            <a:off x="277920" y="1160640"/>
            <a:ext cx="834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К регламентированной отчетности в конфигурации относятся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76200" y="1574640"/>
            <a:ext cx="25052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бухгалтерской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логовые декла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ность во внебюджетные социальные фонд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формы статисти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80000"/>
              </a:lnSpc>
              <a:spcBef>
                <a:spcPts val="550"/>
              </a:spcBef>
              <a:spcAft>
                <a:spcPts val="1375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личные справки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360" y="4848120"/>
            <a:ext cx="1676520" cy="1600200"/>
          </a:xfrm>
          <a:prstGeom prst="wedgeRectCallout">
            <a:avLst>
              <a:gd name="adj1" fmla="val 116759"/>
              <a:gd name="adj2" fmla="val -43847"/>
            </a:avLst>
          </a:prstGeom>
          <a:solidFill>
            <a:srgbClr val="ffff66">
              <a:alpha val="5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се формы отчетности соответствуют нормативным документа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0" y="3067200"/>
            <a:ext cx="3171600" cy="1685880"/>
          </a:xfrm>
          <a:prstGeom prst="wedgeRectCallout">
            <a:avLst>
              <a:gd name="adj1" fmla="val 32583"/>
              <a:gd name="adj2" fmla="val -84370"/>
            </a:avLst>
          </a:prstGeom>
          <a:solidFill>
            <a:srgbClr val="ffff99">
              <a:alpha val="8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еспечено предоставление отчетности в электронном виде в органы Федеральной налоговой службы и Пенсионного фонда Росс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8760" y="0"/>
            <a:ext cx="8066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Учет деятельности нескольких организаций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 одной базе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89080" y="1373040"/>
            <a:ext cx="655308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Бухгалтерский и налоговый учет (в отличии от управленческого учета)  по организациям, зарегистрированным в общей информационной базе, ведется раздельно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уемые в информационной базе Планы счетов бухгалтерского и налогового учета являются общими для всех организаций информационной баз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Учетная политика задается для каждой организации индивидуаль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нутри организации сохраняется свой порядок нумерации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Число организаций неограниченн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о ведение учета по филиалам, выделенным на самостоятельный балан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значительной территориальной удаленности выделенных подразделений ввод первичных документов выполняется с учетом часового пояс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Анализ БУ_эталонный ПС"/>
          <p:cNvPicPr/>
          <p:nvPr/>
        </p:nvPicPr>
        <p:blipFill>
          <a:blip r:embed="rId2"/>
          <a:stretch/>
        </p:blipFill>
        <p:spPr>
          <a:xfrm>
            <a:off x="1200240" y="2119320"/>
            <a:ext cx="6435720" cy="4043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000760" y="4238640"/>
            <a:ext cx="2257200" cy="1438200"/>
          </a:xfrm>
          <a:prstGeom prst="wedgeRectCallout">
            <a:avLst>
              <a:gd name="adj1" fmla="val -107032"/>
              <a:gd name="adj2" fmla="val -159824"/>
            </a:avLst>
          </a:prstGeom>
          <a:solidFill>
            <a:srgbClr val="ffff99">
              <a:alpha val="80000"/>
            </a:srgbClr>
          </a:solidFill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отчета присутствуе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эталонный план сче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96" name="Picture 11" descr="Анализ БУ_параметры анализа"/>
          <p:cNvPicPr/>
          <p:nvPr/>
        </p:nvPicPr>
        <p:blipFill>
          <a:blip r:embed="rId3"/>
          <a:stretch/>
        </p:blipFill>
        <p:spPr>
          <a:xfrm>
            <a:off x="1184400" y="2124000"/>
            <a:ext cx="6451560" cy="4040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СОСТОЯН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ухгалтерский учет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87280" y="1060560"/>
            <a:ext cx="8452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явление технических бухгалтерских ошибок и анализ структуры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аналитического учета выполняется отче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Анализ состояния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бухгалтерского учета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705200"/>
            <a:ext cx="2686320" cy="1609920"/>
          </a:xfrm>
          <a:prstGeom prst="wedgeRectCallout">
            <a:avLst>
              <a:gd name="adj1" fmla="val -101361"/>
              <a:gd name="adj2" fmla="val -93884"/>
            </a:avLst>
          </a:prstGeom>
          <a:solidFill>
            <a:srgbClr val="ffff99">
              <a:alpha val="8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стройках указаны недопустимые или требующие исключительного применения провод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0" name="Picture 13" descr="Анализ БУ_отчет"/>
          <p:cNvPicPr/>
          <p:nvPr/>
        </p:nvPicPr>
        <p:blipFill>
          <a:blip r:embed="rId4"/>
          <a:stretch/>
        </p:blipFill>
        <p:spPr>
          <a:xfrm>
            <a:off x="1163520" y="1874880"/>
            <a:ext cx="6810480" cy="4546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5200560" y="4705200"/>
            <a:ext cx="3676680" cy="1600200"/>
          </a:xfrm>
          <a:prstGeom prst="wedgeRectCallout">
            <a:avLst>
              <a:gd name="adj1" fmla="val -92356"/>
              <a:gd name="adj2" fmla="val -5396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ля исправления нежелательных ситуаций  предусмотрен непосредственный вызов карточки счета или формы операции с ошибочной проводко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состояния налогового учета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68200" y="1085760"/>
            <a:ext cx="6567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авильность расчета налога на прибыль при выполнении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требований ПБУ 18/02 «Учет расчетов по налогу на прибыль» можно проанализировать отчетом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Анализ состояния налогового учета по налогу на прибыль»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4" name="Picture 13" descr="Анализ НУ_структура_1"/>
          <p:cNvPicPr/>
          <p:nvPr/>
        </p:nvPicPr>
        <p:blipFill>
          <a:blip r:embed="rId2"/>
          <a:stretch/>
        </p:blipFill>
        <p:spPr>
          <a:xfrm>
            <a:off x="1054080" y="2106720"/>
            <a:ext cx="6593040" cy="4460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6219720" y="3581280"/>
            <a:ext cx="1200240" cy="371520"/>
          </a:xfrm>
          <a:prstGeom prst="roundRect">
            <a:avLst>
              <a:gd name="adj" fmla="val 42310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7840" y="2533680"/>
            <a:ext cx="1895760" cy="743040"/>
          </a:xfrm>
          <a:prstGeom prst="wedgeRectCallout">
            <a:avLst>
              <a:gd name="adj1" fmla="val -57787"/>
              <a:gd name="adj2" fmla="val 10299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пример, выберем актив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07" name="Picture 15" descr="Анализ НУ_оценка_1"/>
          <p:cNvPicPr/>
          <p:nvPr/>
        </p:nvPicPr>
        <p:blipFill>
          <a:blip r:embed="rId3"/>
          <a:stretch/>
        </p:blipFill>
        <p:spPr>
          <a:xfrm>
            <a:off x="1055520" y="2103480"/>
            <a:ext cx="6589800" cy="442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200640" y="4915080"/>
            <a:ext cx="2372040" cy="1581120"/>
          </a:xfrm>
          <a:prstGeom prst="wedgeRectCallout">
            <a:avLst>
              <a:gd name="adj1" fmla="val -53277"/>
              <a:gd name="adj2" fmla="val -10642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наглядной форме представлены величины налоговых компонент  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(НУ, ВР, ПР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remove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8400" y="-11628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СТАНОВКА УЧЕТА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оступность обязательному аудиту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317520" y="1263600"/>
            <a:ext cx="6508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 макроэкономическом уровне обязательный аудит является элементом рыночной инфраструктуры, необходимость функционирования которого определяется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289080" y="2171880"/>
            <a:ext cx="859464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требностями заинтересованных в нем пользователей, принимающих стратегические решения в интересах бизнеса (собственники, инвесторы, органы власти, общественность)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28520" indent="-12852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трудненности прямого доступа к учетной и прочей информации организации в повседневных условия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276120" y="3797280"/>
            <a:ext cx="85885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нцип построения и механизмы реализации учетных действий, представленные в решении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ивают процедуру прохождения внешнего аудита максимально безболезненной для предприятия и прогнозируемой в качественном плане не только за счет соблюдения регламентирующих требований «на подсознательном уровне», но и возможности в любой момент «развернуть» информацию по дополнительным аналитикам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8480" y="-106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ХОЗЯЙСТВЕННОЙ ДЕЯТЕЛЬНОСТИ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нать и управлят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272880" y="1274760"/>
            <a:ext cx="644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итуацией владеют те, кто наладил не только сбор и систематизацию данных о своем бизнесе, но и настроил механизмы упреждающего реагирования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47800" y="269712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69712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ХОЗЯЙСТВЕННОЙ ДЕЯТЕЛЬНОСТИ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Финансовые показатели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87280" y="1090440"/>
            <a:ext cx="6540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 основании данных информационной базы рассчитываются показатели, описывающие текущую структуру средств и источников финансирования предприятия, его операционную деятельность: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89080" y="2205000"/>
            <a:ext cx="30319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тический баланс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ликвидности и платежеспособ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чет о прибылях и убытка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оборачиваемости активов и пассив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доходности и рентабельности ФХД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анализ эффективности использования капитал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422520" y="1998720"/>
            <a:ext cx="5380200" cy="2720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421080" y="2617920"/>
            <a:ext cx="5381640" cy="2832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417840" y="3206880"/>
            <a:ext cx="5384880" cy="2211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421080" y="3549600"/>
            <a:ext cx="5381640" cy="2152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3419640" y="3995640"/>
            <a:ext cx="5381640" cy="2371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З ХОЗЯЙСТВЕННОЙ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ониторинг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85840" y="1066680"/>
            <a:ext cx="65865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Эффективность бизнеса — это способность устойчиво генерировать денежные потоки. Специализированный инструмен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Монитор эффективности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ориентирован на оперативную оценку ключевых показателей эффективности работы предприятия: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04920" y="2471760"/>
            <a:ext cx="384336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хват всего бизнеса «одним взглядом»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своевременное выявление отклонений от плана, негативной динамики, точек рост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уточнение предоставляемой информаци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спользование предустановленного комплекта показателей эффективност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разработка новых показателей эффектив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настройка несколько вариантов отчета по видам деятельности, по участкам ответствен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314960" y="2176560"/>
            <a:ext cx="4419360" cy="418284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8480" y="-106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НАЛИЗ ХОЗЯЙСТВЕННОЙ ДЕЯТЕЛЬНОСТИ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е отчет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22200" y="1179360"/>
            <a:ext cx="656748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беспечена работа с отчетом как с интерактивным документом — можно изменять его параметры, перестраивать, сформировать дополнительный отчет на основании отдельных документов уже сформированного от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формация, предоставляемая дополнительными отчетами, позволяет более эффективно организовать систему первичного документооборо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стройки отчетов можно сохранять в информационной базе для повторного использ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Табло счетов предназначено для оперативного получения наиболее важной информации из бухгалтерских или налоговых итогов</a:t>
            </a:r>
            <a:r>
              <a:rPr b="0" lang="en-US" sz="2000" spc="-1" strike="noStrike">
                <a:solidFill>
                  <a:srgbClr val="5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7880" y="4583160"/>
            <a:ext cx="8277480" cy="1801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«Копейка рубль бережет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91960" y="1216080"/>
            <a:ext cx="6505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 процессе управления мелочей не бывает, поэтому поиск внутренних резервов и раскрытие их потенциала во блага предприятия основной аспект работы внутреннего аудитора. Рассмотрим факторы, повышающие эффективность управления через инструменты информационной системы.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47800" y="290664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90664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0560" y="104400"/>
            <a:ext cx="5473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хема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идов подсисте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6200" y="1747800"/>
            <a:ext cx="7780320" cy="4521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18041" t="0" r="18079" b="67562"/>
          <a:stretch/>
        </p:blipFill>
        <p:spPr>
          <a:xfrm>
            <a:off x="2049480" y="1747800"/>
            <a:ext cx="4970520" cy="146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32479" r="0" b="52731"/>
          <a:stretch/>
        </p:blipFill>
        <p:spPr>
          <a:xfrm>
            <a:off x="646200" y="3216240"/>
            <a:ext cx="7780320" cy="6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0" t="47114" r="52311" b="0"/>
          <a:stretch/>
        </p:blipFill>
        <p:spPr>
          <a:xfrm>
            <a:off x="646200" y="3878280"/>
            <a:ext cx="3709800" cy="23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rcRect l="52315" t="47310" r="-270" b="17981"/>
          <a:stretch/>
        </p:blipFill>
        <p:spPr>
          <a:xfrm>
            <a:off x="4716360" y="3887640"/>
            <a:ext cx="3730680" cy="15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rcRect l="52315" t="81994" r="-1045" b="12234"/>
          <a:stretch/>
        </p:blipFill>
        <p:spPr>
          <a:xfrm>
            <a:off x="4716360" y="5454720"/>
            <a:ext cx="3791160" cy="261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rcRect l="52315" t="87709" r="-270" b="-252"/>
          <a:stretch/>
        </p:blipFill>
        <p:spPr>
          <a:xfrm>
            <a:off x="4716360" y="5713560"/>
            <a:ext cx="373248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СФО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47680" y="1004760"/>
            <a:ext cx="6673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ля представления учетных данных в целях составления отчетности по МСФО в конфигурац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уществует отдельный План счетов МСФ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ограммно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ддерживаются следующие варианты автоматизации подготовки отчетности МСФО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76120" y="2992320"/>
            <a:ext cx="858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Совместное использовани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ограммных проду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Консолидация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зволяет сформировать полноценную отчетность МСФО, отвечающую всем требованиям международных финансовых институтов как для отдельного предприятия, так и в рамках холдинговой структур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276120" y="4338720"/>
            <a:ext cx="8580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ложенные в конфигурац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принципы работы с данными соответствуют требованиям закона Сарбейнса-Оксли, обязательного законодательного акта для компаний, ценные бумаги которых зарегистрированы Комиссией по ценным бумагам и биржам США. Обеспечение финансовой прозрачности и аудируемости всех операций, составление корпоративной финансовой отчетности и формирование корпоративной ответственности – это шаг  к новым стандартам ведения бизнеса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96840" y="2664000"/>
            <a:ext cx="250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Трансляц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2166840" y="2657520"/>
            <a:ext cx="4214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Частичный параллельный учет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ОНТРОЛЬ КЛЮЧЕВЫХ ПОКАЗАТЕЛЕЙ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СФО — Интеграция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285840" y="1062000"/>
            <a:ext cx="6538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нтеграция по вертикали с продукт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Консолидация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делает решени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звеном комплексной системы финансового управления холдингов и промышленных групп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320760" y="6164280"/>
            <a:ext cx="4943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ЦФО – центр финансовой ответственност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28800" y="2149560"/>
          <a:ext cx="7126200" cy="40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2149560"/>
                    <a:ext cx="712620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онтроль и оценка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неджеров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287280" y="1130400"/>
            <a:ext cx="78850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br>
              <a:rPr sz="1600"/>
            </a:b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зволяет оценить и сопоставить работу менеджеров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твечающих за продажи и работу с клиентами, </a:t>
            </a:r>
            <a:br>
              <a:rPr sz="1600"/>
            </a:b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целому ряду показателей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85840" y="2530440"/>
            <a:ext cx="78152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 полноте заполнения базы данных контактной информаци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контактов с покупателям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эффициенту удержания покуп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личеству выполненных заказов, объемам продаж и принесенной прибыл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89080" y="4243320"/>
            <a:ext cx="74707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Эти оценки могут использоваться для построения объективной системы мотивации персонала, отражающей специфику задач, решаемых различными категориями менеджеров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58400" y="-12564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ФФЕКТИВНОСТЬ УПРАВЛЕНИЯ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тодическая поддержка пользователей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43080" y="1106640"/>
            <a:ext cx="5676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Источники информации: 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422280" y="1803240"/>
            <a:ext cx="46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зор всего, что есть в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«1С:Предприятии 8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тветы на часто задаваемые вопро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информация по внедрениям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192240" y="146520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8.1c.ru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021280" y="1523880"/>
            <a:ext cx="1995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ТС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305320" y="1835280"/>
            <a:ext cx="3506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более 700 страниц информ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римеры разработ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полезные инструмент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179280" y="3056040"/>
            <a:ext cx="2487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курс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441360" y="3400560"/>
            <a:ext cx="42116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курсы по конфигурированию, внедрению и адаптации платформы и прикладных решени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2920" indent="-1429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чные и Интернет-курс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013360" y="3157560"/>
            <a:ext cx="322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ниги, статьи, буклеты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354640" y="3481560"/>
            <a:ext cx="34034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начинающи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профессионал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оретические зн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5079960" y="4803840"/>
            <a:ext cx="3225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Учебные версии ПО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5369040" y="5192640"/>
            <a:ext cx="28670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разработчик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для бухгалтер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195120" y="4797360"/>
            <a:ext cx="3867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держка пользователей</a:t>
            </a:r>
            <a:endParaRPr b="0" lang="en-US" sz="18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436680" y="5205240"/>
            <a:ext cx="42116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обновления платформы и конфигурац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тестовые релизы    (предварительная публикация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атко о главном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264960" y="1155600"/>
            <a:ext cx="80726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Ключевые конкурентные преимуществ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программного </a:t>
            </a:r>
            <a:br>
              <a:rPr sz="1600"/>
            </a:b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продукт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79360" y="1996920"/>
            <a:ext cx="858060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функциональные возможности мирового уровн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олное соответствие требованиям законодательства РФ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оперативное сопровождение в условиях изменяющегося законодательств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нсолидация и бизнес-анализ данных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дежная технологическая платформ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1С:Предприятие 8.2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омплексная система методической поддержки внедрения и подготовки специалис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влекательное соотношение цена/качество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ысокое доверие к продукту (реализовано более 14 000 комплекто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решений на его баз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 более 350 000 клиентских лицензий)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7280" y="1236600"/>
            <a:ext cx="8569440" cy="518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781200" cy="517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337440" y="1616040"/>
            <a:ext cx="352440" cy="660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597800" y="2176560"/>
            <a:ext cx="1012680" cy="584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6492960" y="2230560"/>
            <a:ext cx="1003320" cy="595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423720" y="1731960"/>
            <a:ext cx="2225520" cy="304920"/>
            <a:chOff x="423720" y="1731960"/>
            <a:chExt cx="2225520" cy="304920"/>
          </a:xfrm>
        </p:grpSpPr>
        <p:pic>
          <p:nvPicPr>
            <p:cNvPr id="274" name="" descr=""/>
            <p:cNvPicPr/>
            <p:nvPr/>
          </p:nvPicPr>
          <p:blipFill>
            <a:blip r:embed="rId6"/>
            <a:stretch/>
          </p:blipFill>
          <p:spPr>
            <a:xfrm>
              <a:off x="423720" y="1731960"/>
              <a:ext cx="4910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>
              <a:off x="968040" y="1891080"/>
              <a:ext cx="1681200" cy="14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95280" y="2381400"/>
            <a:ext cx="1897200" cy="223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6172200" y="3654360"/>
            <a:ext cx="896760" cy="379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7904160" y="4789440"/>
            <a:ext cx="822240" cy="1200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363600" y="4884840"/>
            <a:ext cx="2546280" cy="3445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27160" y="5392800"/>
            <a:ext cx="3033720" cy="828720"/>
            <a:chOff x="227160" y="5392800"/>
            <a:chExt cx="3033720" cy="828720"/>
          </a:xfrm>
        </p:grpSpPr>
        <p:sp>
          <p:nvSpPr>
            <p:cNvPr id="281" name=""/>
            <p:cNvSpPr/>
            <p:nvPr/>
          </p:nvSpPr>
          <p:spPr>
            <a:xfrm>
              <a:off x="762120" y="5583240"/>
              <a:ext cx="24987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3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ОАО «Пантелеймоновский</a:t>
              </a:r>
              <a:br>
                <a:rPr sz="1200"/>
              </a:br>
              <a:r>
                <a:rPr b="1" lang="ru-RU" sz="1200" spc="-1" strike="noStrike">
                  <a:solidFill>
                    <a:srgbClr val="4d4d4d"/>
                  </a:solidFill>
                  <a:latin typeface="Arial"/>
                </a:rPr>
                <a:t>  огнеупорный завод»</a:t>
              </a:r>
              <a:r>
                <a:rPr b="0" lang="ru-RU" sz="12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2"/>
            <a:stretch/>
          </p:blipFill>
          <p:spPr>
            <a:xfrm>
              <a:off x="227160" y="5392800"/>
              <a:ext cx="79524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236520" y="4245120"/>
            <a:ext cx="1614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краина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16560" y="4245120"/>
            <a:ext cx="258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азахстан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9240" y="1147680"/>
            <a:ext cx="149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оссия:</a:t>
            </a:r>
            <a:endParaRPr b="0" lang="en-US" sz="24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3187800" y="5551560"/>
            <a:ext cx="1700280" cy="45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64040" y="5979960"/>
            <a:ext cx="477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.. и еще более 12 000 других.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4"/>
          <a:stretch/>
        </p:blipFill>
        <p:spPr>
          <a:xfrm>
            <a:off x="4537080" y="2978280"/>
            <a:ext cx="878040" cy="396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5"/>
          <a:stretch/>
        </p:blipFill>
        <p:spPr>
          <a:xfrm>
            <a:off x="5729400" y="2948040"/>
            <a:ext cx="2879640" cy="426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6"/>
          <a:stretch/>
        </p:blipFill>
        <p:spPr>
          <a:xfrm>
            <a:off x="1452600" y="2949480"/>
            <a:ext cx="1665360" cy="4636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7"/>
          <a:stretch/>
        </p:blipFill>
        <p:spPr>
          <a:xfrm>
            <a:off x="7292880" y="3630600"/>
            <a:ext cx="1308240" cy="425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8"/>
          <a:stretch/>
        </p:blipFill>
        <p:spPr>
          <a:xfrm>
            <a:off x="3659040" y="3639960"/>
            <a:ext cx="2289240" cy="408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9"/>
          <a:stretch/>
        </p:blipFill>
        <p:spPr>
          <a:xfrm>
            <a:off x="3413160" y="2227320"/>
            <a:ext cx="884160" cy="479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0"/>
          <a:stretch/>
        </p:blipFill>
        <p:spPr>
          <a:xfrm>
            <a:off x="2467080" y="2193840"/>
            <a:ext cx="787320" cy="66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1"/>
          <a:stretch/>
        </p:blipFill>
        <p:spPr>
          <a:xfrm>
            <a:off x="4959360" y="1763640"/>
            <a:ext cx="1235160" cy="336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2"/>
          <a:stretch/>
        </p:blipFill>
        <p:spPr>
          <a:xfrm>
            <a:off x="3905280" y="1665360"/>
            <a:ext cx="798480" cy="434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3"/>
          <a:stretch/>
        </p:blipFill>
        <p:spPr>
          <a:xfrm>
            <a:off x="5649840" y="2233440"/>
            <a:ext cx="544680" cy="509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4"/>
          <a:stretch/>
        </p:blipFill>
        <p:spPr>
          <a:xfrm>
            <a:off x="3432240" y="2928960"/>
            <a:ext cx="792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355680" y="3621240"/>
            <a:ext cx="1608120" cy="447480"/>
            <a:chOff x="355680" y="3621240"/>
            <a:chExt cx="1608120" cy="447480"/>
          </a:xfrm>
        </p:grpSpPr>
        <p:sp>
          <p:nvSpPr>
            <p:cNvPr id="300" name=""/>
            <p:cNvSpPr/>
            <p:nvPr/>
          </p:nvSpPr>
          <p:spPr>
            <a:xfrm>
              <a:off x="355680" y="3621240"/>
              <a:ext cx="1608120" cy="447480"/>
            </a:xfrm>
            <a:prstGeom prst="rect">
              <a:avLst/>
            </a:prstGeom>
            <a:gradFill rotWithShape="0">
              <a:gsLst>
                <a:gs pos="0">
                  <a:srgbClr val="4395af"/>
                </a:gs>
                <a:gs pos="100000">
                  <a:srgbClr val="479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5"/>
            <a:stretch/>
          </p:blipFill>
          <p:spPr>
            <a:xfrm>
              <a:off x="406440" y="3670200"/>
              <a:ext cx="1517760" cy="35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6"/>
          <a:stretch/>
        </p:blipFill>
        <p:spPr>
          <a:xfrm>
            <a:off x="2185920" y="3600360"/>
            <a:ext cx="1249560" cy="487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7"/>
          <a:stretch/>
        </p:blipFill>
        <p:spPr>
          <a:xfrm>
            <a:off x="387360" y="2862360"/>
            <a:ext cx="752400" cy="528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8"/>
          <a:stretch/>
        </p:blipFill>
        <p:spPr>
          <a:xfrm>
            <a:off x="2965320" y="4756320"/>
            <a:ext cx="1724040" cy="4968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478400" y="2292480"/>
            <a:ext cx="985680" cy="466560"/>
            <a:chOff x="4478400" y="2292480"/>
            <a:chExt cx="985680" cy="466560"/>
          </a:xfrm>
        </p:grpSpPr>
        <p:sp>
          <p:nvSpPr>
            <p:cNvPr id="306" name=""/>
            <p:cNvSpPr/>
            <p:nvPr/>
          </p:nvSpPr>
          <p:spPr>
            <a:xfrm>
              <a:off x="4478400" y="2292480"/>
              <a:ext cx="985680" cy="466560"/>
            </a:xfrm>
            <a:prstGeom prst="rect">
              <a:avLst/>
            </a:prstGeom>
            <a:solidFill>
              <a:srgbClr val="1a5c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9"/>
            <a:stretch/>
          </p:blipFill>
          <p:spPr>
            <a:xfrm>
              <a:off x="4539600" y="2341080"/>
              <a:ext cx="8629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5078520" y="5054760"/>
            <a:ext cx="3173400" cy="769680"/>
            <a:chOff x="5078520" y="5054760"/>
            <a:chExt cx="3173400" cy="769680"/>
          </a:xfrm>
        </p:grpSpPr>
        <p:pic>
          <p:nvPicPr>
            <p:cNvPr id="309" name="" descr=""/>
            <p:cNvPicPr/>
            <p:nvPr/>
          </p:nvPicPr>
          <p:blipFill>
            <a:blip r:embed="rId30"/>
            <a:stretch/>
          </p:blipFill>
          <p:spPr>
            <a:xfrm>
              <a:off x="5078520" y="5054760"/>
              <a:ext cx="90792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757840" y="5189400"/>
              <a:ext cx="24940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АО «Казахстанский электролизный завод»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72960" y="4724280"/>
            <a:ext cx="44704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91040" y="4721040"/>
            <a:ext cx="3768840" cy="46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" y="1563840"/>
            <a:ext cx="63658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1068480" y="-106200"/>
            <a:ext cx="8075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рганизации, использующие                                               1С:Управление производственным 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едприятием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58760" y="-360"/>
            <a:ext cx="80661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тзывы пользователей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276120" y="1030320"/>
            <a:ext cx="66582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Эффективность использовани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1С:Управление производственным предприятием </a:t>
            </a:r>
            <a:r>
              <a:rPr b="1" lang="en-US" sz="1600" spc="-1" strike="noStrike">
                <a:solidFill>
                  <a:srgbClr val="140000"/>
                </a:solidFill>
                <a:latin typeface="Arial"/>
              </a:rPr>
              <a:t>подтверждена многочисленными отзывами пользователей данного решения. Вот некоторые из них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276120" y="4592520"/>
            <a:ext cx="40546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0000"/>
                </a:solidFill>
                <a:latin typeface="Arial"/>
              </a:rPr>
              <a:t>«Установив систему мы получили возможность хранить все необходимые для производственного процесса данные в единой базе. Кроме того, все сотрудники смогли получить оперативный доступ к необходимой для работы информации, о чем мы раньше и не мечтали</a:t>
            </a: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4414680" y="4498920"/>
            <a:ext cx="45450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0000"/>
                </a:solidFill>
                <a:latin typeface="Arial"/>
              </a:rPr>
              <a:t>«В программе нас, в первую очередь, заинтересовала возможность детальной автоматизации документооборота на предприятии. Это, в частности, новые возможности работы со списанием и распределением затрат. Благодаря внедрению автоматизированной системы нам удалось оптимизировать многие процессы в нашей деятельности.» 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272880" y="4071960"/>
            <a:ext cx="3888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Измайлова Яна Анатольевна,   Финансовый директор «TORPAL»</a:t>
            </a:r>
            <a:endParaRPr b="0" lang="en-US" sz="14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4440240" y="4081320"/>
            <a:ext cx="3811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енко Нина Анатольевна,  Главный бухгалтер ОАО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ПЗЭО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»</a:t>
            </a:r>
            <a:r>
              <a:rPr b="0" i="1" lang="ru-RU" sz="2000" spc="-1" strike="noStrike">
                <a:solidFill>
                  <a:srgbClr val="14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576760" y="2149560"/>
            <a:ext cx="2332080" cy="1780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200400" y="2824200"/>
            <a:ext cx="1855800" cy="7840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393840" y="2155680"/>
            <a:ext cx="2279520" cy="1785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3114720" y="2108160"/>
            <a:ext cx="203832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58400" y="0"/>
            <a:ext cx="80758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глашаем Вас к сотрудничеству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76120" y="1630440"/>
            <a:ext cx="85932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рекомендует осуществлять внедрени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C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 в тесном сотрудничестве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с партнерами, имеющими необходимые компетенции.</a:t>
            </a:r>
            <a:r>
              <a:rPr b="0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олее 600 партнеров сет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ы компетенции по производству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(ЦКП) оказывают услуги по консалтингу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недрению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С:Управление производственным предприятием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и отраслевых решений на его основе в 140 городах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Актуальный перечень центров компетенции: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://www.1c.ru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partners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8"/>
              </a:rPr>
              <a:t>ckp.jsp</a:t>
            </a:r>
            <a:r>
              <a:rPr b="0" i="1" lang="ru-RU" sz="1600" spc="-1" strike="noStrike">
                <a:solidFill>
                  <a:srgbClr val="5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85840" y="4713120"/>
            <a:ext cx="85708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В случаях, когда выбор на основе данных списка ЦКП затруднен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Фирма «1С»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консультирует клиентов по вопросу выбора партнера. Для получения рекомендаций можно обратиться по электронному адресу: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solutions@1c.ru</a:t>
            </a:r>
            <a:r>
              <a:rPr b="0" lang="en-US" sz="1600" spc="-1" strike="noStrike">
                <a:solidFill>
                  <a:srgbClr val="5f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600120" y="3792600"/>
            <a:ext cx="8031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5440" indent="-4194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иглашаем Вас к сотрудничеству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487680" y="181764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5f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8823240" y="5303880"/>
            <a:ext cx="7920" cy="1553760"/>
            <a:chOff x="8823240" y="5303880"/>
            <a:chExt cx="7920" cy="1553760"/>
          </a:xfrm>
        </p:grpSpPr>
        <p:sp>
          <p:nvSpPr>
            <p:cNvPr id="331" name=""/>
            <p:cNvSpPr/>
            <p:nvPr/>
          </p:nvSpPr>
          <p:spPr>
            <a:xfrm>
              <a:off x="8823240" y="5303880"/>
              <a:ext cx="0" cy="1553760"/>
            </a:xfrm>
            <a:prstGeom prst="line">
              <a:avLst/>
            </a:prstGeom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31160" y="5303880"/>
              <a:ext cx="0" cy="155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887480" y="5724360"/>
            <a:ext cx="6964560" cy="749160"/>
            <a:chOff x="1887480" y="5724360"/>
            <a:chExt cx="6964560" cy="749160"/>
          </a:xfrm>
        </p:grpSpPr>
        <p:sp>
          <p:nvSpPr>
            <p:cNvPr id="334" name=""/>
            <p:cNvSpPr/>
            <p:nvPr/>
          </p:nvSpPr>
          <p:spPr>
            <a:xfrm>
              <a:off x="2139840" y="6105240"/>
              <a:ext cx="67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Фирма «1С», 2012 г.</a:t>
              </a: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87480" y="5724360"/>
              <a:ext cx="695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f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«Танцуем от печки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66760" y="1127160"/>
            <a:ext cx="6562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внутреннем аудите контрольные мероприятия должны проводиться не только по факту исполнения конкретной операции, а опережающим образом по процедурам генерации первичного документооборота в информационной базе.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47800" y="2820960"/>
          <a:ext cx="7448400" cy="32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800" y="2820960"/>
                    <a:ext cx="744840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Единый порядок регистрации в системе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120" y="1109520"/>
            <a:ext cx="853452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сновным способом регистрации хозяйственных операций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 управленческом, бухгалтерском и налоговом учете является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автоматическая генерация или ручной ввод в информационную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азу первичных документ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Формы заполнения первичных документов предлагают пользователю список предустановленных операций, для которых заранее прописаны шаблоны проводок и все необходимые разрезы аналитики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и проведении документа проводки и учетные записи в регистрах накопления формируются автоматическ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личественные остатки в различных видах учета сопоставимы и управляемы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едставлены средства создания первичных документов регламентированного учета на основании документов предшествующих операций управленческого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регламентированного учета с переносом необходимого состава аналитических разрез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Заполнение табличной части документов возможно путем подбора по данным справочников или с учетом участвующих в операции остатк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Заказ поставщику"/>
          <p:cNvPicPr/>
          <p:nvPr/>
        </p:nvPicPr>
        <p:blipFill>
          <a:blip r:embed="rId2"/>
          <a:stretch/>
        </p:blipFill>
        <p:spPr>
          <a:xfrm>
            <a:off x="378000" y="1792440"/>
            <a:ext cx="7148160" cy="4410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477040" y="2400480"/>
            <a:ext cx="3324240" cy="3095280"/>
          </a:xfrm>
          <a:prstGeom prst="wedgeRectCallout">
            <a:avLst>
              <a:gd name="adj1" fmla="val -111078"/>
              <a:gd name="adj2" fmla="val -62305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Договоренности с поставщиком фиксируются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Заказ поставщику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не является первичным документом регламентированного учета, но позволяет указать всю аналитику по хозяйственной операции, планируемой к  исполнению на его основании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15" name="Picture 9" descr="Заказ поставщику_выбор действия"/>
          <p:cNvPicPr/>
          <p:nvPr/>
        </p:nvPicPr>
        <p:blipFill>
          <a:blip r:embed="rId3"/>
          <a:stretch/>
        </p:blipFill>
        <p:spPr>
          <a:xfrm>
            <a:off x="1801800" y="2266920"/>
            <a:ext cx="2102040" cy="2544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16" name="Picture 10" descr="Заказ поставщику_выбор документа"/>
          <p:cNvPicPr/>
          <p:nvPr/>
        </p:nvPicPr>
        <p:blipFill>
          <a:blip r:embed="rId4"/>
          <a:stretch/>
        </p:blipFill>
        <p:spPr>
          <a:xfrm>
            <a:off x="3916440" y="2279520"/>
            <a:ext cx="2346120" cy="4221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800360" y="2009880"/>
            <a:ext cx="583920" cy="230040"/>
          </a:xfrm>
          <a:prstGeom prst="rect">
            <a:avLst/>
          </a:pr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24560" y="1933560"/>
            <a:ext cx="3267000" cy="2790720"/>
          </a:xfrm>
          <a:prstGeom prst="wedgeRectCallout">
            <a:avLst>
              <a:gd name="adj1" fmla="val -73759"/>
              <a:gd name="adj2" fmla="val 5932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При оприходовании материалов на склад на его основании создается документ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Поступление товаров и услуг»,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который отражает факт приобретения проводками в бухгалтерском и налоговом учет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19" name="Picture 13" descr="Заказ поставщику_поступление_1"/>
          <p:cNvPicPr/>
          <p:nvPr/>
        </p:nvPicPr>
        <p:blipFill>
          <a:blip r:embed="rId5"/>
          <a:stretch/>
        </p:blipFill>
        <p:spPr>
          <a:xfrm>
            <a:off x="592200" y="1936800"/>
            <a:ext cx="7405560" cy="45273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0" name="Picture 12" descr="Заказ поставщику_поступление_счет-фактура"/>
          <p:cNvPicPr/>
          <p:nvPr/>
        </p:nvPicPr>
        <p:blipFill>
          <a:blip r:embed="rId6"/>
          <a:stretch/>
        </p:blipFill>
        <p:spPr>
          <a:xfrm>
            <a:off x="4906800" y="1776240"/>
            <a:ext cx="3846600" cy="4757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00320" y="4362480"/>
            <a:ext cx="2514600" cy="1647720"/>
          </a:xfrm>
          <a:prstGeom prst="wedgeRectCallout">
            <a:avLst>
              <a:gd name="adj1" fmla="val 91856"/>
              <a:gd name="adj2" fmla="val -30828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ходящий НДС фиксируется в системе зависимым документом </a:t>
            </a:r>
            <a:r>
              <a:rPr b="0" i="1" lang="en-US" sz="1600" spc="-1" strike="noStrike">
                <a:solidFill>
                  <a:srgbClr val="140000"/>
                </a:solidFill>
                <a:latin typeface="Arial"/>
              </a:rPr>
              <a:t>«Счет-фактура полученный»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940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АЧЕСТВО ДАННЫХ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лнота отражени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—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ример «Покупка материалов»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9040" y="2014560"/>
            <a:ext cx="8372520" cy="31719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7840" y="-10656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ОБОРОТ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нифицированные формы первичных 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кументов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14280" y="1049400"/>
            <a:ext cx="6643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Все печатные формы созданных в информационной базе первичных документов регламентированного учета (бухгалтерского и налогового) соответствуют требованиям действующего законодательств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57640" y="2016000"/>
            <a:ext cx="5537160" cy="44323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7600" y="2692440"/>
            <a:ext cx="7049880" cy="37544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857840" y="2009880"/>
            <a:ext cx="2638440" cy="1342800"/>
          </a:xfrm>
          <a:prstGeom prst="wedgeRectCallout">
            <a:avLst>
              <a:gd name="adj1" fmla="val -124972"/>
              <a:gd name="adj2" fmla="val 43027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Качественная документация залог спокойствия при налоговой проверке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58760" y="-106560"/>
            <a:ext cx="805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налитические разрезы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93760" y="1163520"/>
            <a:ext cx="848988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анные по совершаемой хозяйственной операции заносятся один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раз</a:t>
            </a: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и в полном объеме аналитических разрезо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роводки в регламентированном учете содержат объем информации, соответствующий структуре аналитик Планов счетов БУ и Н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Хранение данных в виде учетных записей в регистрах накопления обеспечивает расширенную аналитику по совершаемым хозяйственным операциям, превышающую и дополняющую возможности классического бухгалтерского учета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Документы могут проводиться одновременно по управленческому, бухгалтерскому и налоговому учету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Без потери качества исполнения и снижения достоверности данных генерация первичных документов в системе может быть вынесена за пределы бухгалтерии и делегирована сотрудникам других служб организации, не имеющим специальных навыков в области бухгалтерского учета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58400" y="-106560"/>
            <a:ext cx="8075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АЧЕСТВО ДАННЫХ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рганизация доступа к данным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1960" y="1139760"/>
            <a:ext cx="7848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сональная регистрация пользователя в системе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еспечивает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72880" y="1665360"/>
            <a:ext cx="78566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возможность использования индивидуальных настроек 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ограничение доступа к определенным данным информационной базы, в т.ч. закрытие прошлых периодов от редактировани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47600" indent="-14760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контроль за действиями </a:t>
            </a:r>
            <a:br>
              <a:rPr sz="1600"/>
            </a:br>
            <a:r>
              <a:rPr b="0" lang="ru-RU" sz="1600" spc="-1" strike="noStrike">
                <a:solidFill>
                  <a:srgbClr val="140000"/>
                </a:solidFill>
                <a:latin typeface="Arial"/>
              </a:rPr>
              <a:t>пользователя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82600" y="3316320"/>
            <a:ext cx="4173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468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еханизмы организации 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оступа пользовател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 данным: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95200" y="4237200"/>
            <a:ext cx="340668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назначение ролей и дополнительных прав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задание прав для групп пользовате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  <a:p>
            <a:pPr marL="138240" indent="-1382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000"/>
                </a:solidFill>
                <a:latin typeface="Arial"/>
              </a:rPr>
              <a:t>использование заданных профилей</a:t>
            </a:r>
            <a:endParaRPr b="0" lang="en-US" sz="1600" spc="-1" strike="noStrike">
              <a:solidFill>
                <a:srgbClr val="5f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592440" y="2592360"/>
            <a:ext cx="5105520" cy="37591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Кислов А.С.</dc:creator>
  <dc:description/>
  <dc:language>en-US</dc:language>
  <cp:lastModifiedBy>Yakovlev_AV</cp:lastModifiedBy>
  <dcterms:modified xsi:type="dcterms:W3CDTF">2012-02-03T13:34:46Z</dcterms:modified>
  <cp:revision>811</cp:revision>
  <dc:subject/>
  <dc:title>1С:Предприятие 8   Управление производственным предприятием</dc:title>
</cp:coreProperties>
</file>