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jpeg" ContentType="image/jpeg"/>
  <Override PartName="/ppt/media/image11.png" ContentType="image/png"/>
  <Override PartName="/ppt/media/image48.png" ContentType="image/png"/>
  <Override PartName="/ppt/media/image66.jpeg" ContentType="image/jpeg"/>
  <Override PartName="/ppt/media/image4.wmf" ContentType="image/x-wmf"/>
  <Override PartName="/ppt/media/image27.wmf" ContentType="image/x-wmf"/>
  <Override PartName="/ppt/media/image5.wmf" ContentType="image/x-wmf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media/image64.png" ContentType="image/png"/>
  <Override PartName="/ppt/media/image32.wmf" ContentType="image/x-wmf"/>
  <Override PartName="/ppt/media/image62.jpeg" ContentType="image/jpeg"/>
  <Override PartName="/ppt/media/image60.png" ContentType="image/png"/>
  <Override PartName="/ppt/media/image29.png" ContentType="image/png"/>
  <Override PartName="/ppt/media/image63.jpeg" ContentType="image/jpeg"/>
  <Override PartName="/ppt/media/image25.png" ContentType="image/png"/>
  <Override PartName="/ppt/media/image65.png" ContentType="image/png"/>
  <Override PartName="/ppt/media/image28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31.wmf" ContentType="image/x-wmf"/>
  <Override PartName="/ppt/media/image61.jpeg" ContentType="image/jpeg"/>
  <Override PartName="/ppt/media/image8.wmf" ContentType="image/x-wmf"/>
  <Override PartName="/ppt/media/image40.png" ContentType="image/png"/>
  <Override PartName="/ppt/media/image24.png" ContentType="image/png"/>
  <Override PartName="/ppt/media/image22.png" ContentType="image/png"/>
  <Override PartName="/ppt/media/image6.wmf" ContentType="image/x-wmf"/>
  <Override PartName="/ppt/media/image12.png" ContentType="image/png"/>
  <Override PartName="/ppt/media/image49.png" ContentType="image/png"/>
  <Override PartName="/ppt/media/image19.wmf" ContentType="image/x-wmf"/>
  <Override PartName="/ppt/media/image7.wmf" ContentType="image/x-wmf"/>
  <Override PartName="/ppt/media/image13.png" ContentType="image/png"/>
  <Override PartName="/ppt/media/image33.png" ContentType="image/png"/>
  <Override PartName="/ppt/media/image54.jpeg" ContentType="image/jpeg"/>
  <Override PartName="/ppt/media/image14.png" ContentType="image/png"/>
  <Override PartName="/ppt/media/image9.wmf" ContentType="image/x-wmf"/>
  <Override PartName="/ppt/media/image30.png" ContentType="image/png"/>
  <Override PartName="/ppt/media/image34.jpeg" ContentType="image/jpeg"/>
  <Override PartName="/ppt/media/image37.png" ContentType="image/png"/>
  <Override PartName="/ppt/media/image35.png" ContentType="image/png"/>
  <Override PartName="/ppt/media/image36.png" ContentType="image/png"/>
  <Override PartName="/ppt/media/image38.png" ContentType="image/png"/>
  <Override PartName="/ppt/media/image39.png" ContentType="image/png"/>
  <Override PartName="/ppt/media/image41.jpeg" ContentType="image/jpe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46F-8713-4296-A4F9-44E1150E4E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ERP–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Собственника, Акцион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изнес должен быть построен так, чтобы наемные сотрудники не могли увести бизнес собственника, украсть его деньги и имущество. Внедрение информационной системы направлено на повышение исполнительской дисциплины сотрудников через инструменты взаимосвязанного контроля последовательно исполняемых действий и широкую сеть аналитических от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копленная и постоянно используемая в деятельности предприятия информация является полноценной составляющей общего капитала компании. Информационная система дает инструменты создания, хранения и распределения потоков данных, выступая неким хранилищем знаний бизнеса. Информация является достоянием компании, а не конкретного сотрудника, что облегчает вовлечение в бизнес новых сотрудников и обеспечивает преемственность персон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диное информационное пространство создает хорошие условия для работы службы внутреннего контр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онные мероприятия в рамках внутреннего аудита должны препятствовать возникновению и Деятельность службы внутреннего контроля направлена на обеспечение стабильного получения прибыли, рациональную организацию денежных потоков и создание действенной административной структуры – факторов, которые являются критически важными элементами экономической состоятельност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блюдение законодательных требов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анные в информационной системе характеризуются надежностью и доступностью для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оздаются условия для внутреннего контроля, формируется прозрачная финансовая сре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стет уровень внутрикорпоративного довер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снижается уровень рис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это создает добавленную стоимость бизнеса в стратегическом управл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это набор формализованных (структурированных, разложенных по полочкам и имеющих средства для поиска и представления) знаний бизнеса о самом себ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се данные являются собственностью компании и хранятся в информационной базе в справочниках и докумен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льзователю предлагаются развитые средства визуального представления данных. Например, конструктор спецификаций в удобной форме «дерева спецификаций» показывает данные о структуре издел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ализована многоуровневая система разграничения прав доступа к информации. Выполненные настройки можно контролировать отчетом «Настройка прав доступ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сохранность данных обеспечена современной технологической платформой «1С:Предприятие 8.2» и использованием известных баз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SQL 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ация на достижение поставленных целей бизнеса, исключение «человеческого» фактора в качестве принимаемых решений, снижение зависимости от ключевых сотрудни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централизация инструментов принятия реш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ламенты, положенные в основу функционирования системы, являются механизмами передачи зн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тсутствуют сотрудники - носители уникальных знаний о бизнес-процессах внутри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объективность системы мотивации сотрудников через измеряемые параметры результа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аличие специалистов требуемой квалификации на рынке по «разумным цена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методологическая поддержка учетных действий и комплексная система обучения и совершенствования пользователей, предлагаемая вендером – Фирмой «1С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нимательская среда всегда ориентирована на развитие. Единственный по-настоящему невосполнимый ресурс для предпринимателя – это время. Управление одним бизнесом ограничивает возможности собственника как предпринимателя. Современн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 не должна ставить границ на пути роста. Интеграционные возможности 1С:Управление производственным предприятием - это инвестиции в будущее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инвестиционная привлекательность дает предпосылки к развитию бизнеса и повышению его эфф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ущественное сокращение сроков внедрения и снижение совокупной стоимости владения возможно при использовании отраслевых решений, созданных на баз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ашиностроение программно–методический комплек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троитель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ремон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ранспор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роцессное производство. Хими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Горно-добывающая промыш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Фарм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ельскохозяйственным предприят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тицефабри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Спиртов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икероводочный и винный 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иво-безалкогольный 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Рыбопере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есозав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олоко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ясо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мукомольно-крупя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Хлебобулочное и кондитерск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оли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евелопмент и управление недвижим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Риэлтор. Управление продажами недвиж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Энергетика. Управление распределительной сетевой компан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еплосе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водокана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едприятием ЖК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ереработкой отходов и вторсыр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мбинат ЖБ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Times New Roman"/>
              </a:rPr>
              <a:t>Локализация под национальные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использования функционал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с учетом законодательства различных стран предназначены локализованные версии для Украины, Казахстана и Белару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англоязычных сотрудников разработана версия с интерфейсом на английск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Специализированные программные проду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Функциональные возмож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   могут быть расширены за счет интеграции с другими программными продуктами а единой платформе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нсолид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окументо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PDM Управление инженерными да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DM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Управление нормативно-справочн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ТОИР Управление ремонтами и обслуживанием оборуд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ТО Материально-техническое обеспе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ым офис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Инвентаризация и управление имуще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Аренда и управление недвижим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CRM ПРО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складом (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перевозками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 (T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Автотранспор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Центр спутникового мониторинга ГЛОНАСС/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TIL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Управление информационными технологиями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по вертикали с продуктом 1С:Консолидация делает решение 1С:Управление производственным предприятием звеном комплексной системы финансового управления холдингов и промышленных груп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зможный вариант совместного использования представлен на рисунке. Под учетной единицей может выступать как отдельное подразделение (например, обособленное подразделение или филиал), так и организация или предприятие, входящие в холдин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дение МСФО обеспечивает 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ется инвестиционная привлекательность на рынке капитала, обеспечивается выход на российские и международные фондовые рынки, привлечение зарубежных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ложенные в 1С:Управление производственным предприятием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оянный рост роли информационных технологий в обеспечении конкурентных преимуществ бизнеса повышает требования к объективности оценок отдачи вложенных в ИТ-структуру предприятия  финансовых ресурсов. Рассмотрение проекта внедрения комплексной информационной системы в качестве инвестиционного проекта позволяет оценить эффективность инвестиций в соответствии с общепризнанными критериями и показателями. ИТ-департамент перестает быть просто «просителем» средств, а превращается в инициатора эффективного инвестиционного проек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ие методы оценки эффективности инвестиционных проектов предполагают необходимость оценки «доходной» и «затратной» части проектов с последующей их интеграцией при расчете обобщенного «денежного потока» проекта. Оценка «затратной» части не представляет существенной сложности. Основная сложность - в оценке эффектов от реализации проекта внедрения, т. е. оценки «доходной» ч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м ключевые факторы экономической эффективности: доход (обеспечение роста в обеспечиваемых бизнес-процессах), низкие эксплуатационные и административно-управленческие затраты, снижение налоговых и внереализационных выплат, оптимизация потребности и рост оборачиваемости оборотного капитала, снижение капитальных затрат. При условии выделения отдельных ИТ-эффектов в значимые факторы эффективности дальнейшее построение «денежного потока» является делом техники инвестиционных аналит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емый пример создан на основе опыта выполнения проектов по нескольким десяткам машиностроительных предприятий и предприятий по производству строительных материалов. В силу ограничений на раскрытие информации данные были усреднены и интерполированы на выделенные по размеру группы предприятий. В настоящее время отсутствуют единые методы оценки финансового результата внедрения информационных систем, поэтому и наше рассмотрение носит рекомендательный характер. В реальных условиях внедрения необходимо учитывать особенности конкретного производства и сложившуюся в компании практику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ены пять групп предприятий по объему и сложности предполагаемого внедрения. Используются оценочные показат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 предприятия – количество сотрудников на предприятии в количестве человек (100-500-1000-5000-10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активных (конкурентных) пользователей – соответствует числу приобретенных клиентских лицензий при их 100% использовании (10-50-100-500-1000 соответственно масштабу предприятия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рованных рабочих мест пользователей – число рабочих мест, на которых установлено программное обеспечение и возможна работа с информационной базой (15-75-150-750-1500 соответственно масштабу предприят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месячный объем оборотных средств, млн. руб. – 300-225-375-2250-375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краткосрочных кредитов (20% оборотных средств), млн. руб. – 6-45-75-450-750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финансирования, все данные приводятся в млн. руб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покупку сервера. Как правило, имеющиеся на предприятии серверные ресурсы уже распределены между существующими задачами. Дополнительная нагрузка способна негативно сказаться на выполнении работ проекта внедрения и привести к сбою уже используемых механизмов. На этапе проектирования следует предусмотреть модернизацию или приобретение серверного и сетевого оборудования. В примере приведена ориентировочная стоимость моделей эконом-класса по состоянию на середину 2010 год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MS SQL Server. По статистике в большинстве проектов в роли СУБД выступают решения фир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оэтому их мы и выбрали для примера, используя данные прайса Фирмы «1С» за июль 2010 года. В настоящее время существует возможность приобретать и работать с СУБ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большинстве случаев выбор конкретной СУБД определяется доступностью квалифицированных кадров для ее поддержки и часто является исторически сложившимся на конкретном предприятии. В таком случае финансирование по данной статье может быть существенно минимизировано, так как все необходимые лицензии на предприятии уже присутствуют до начала выполнения про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+ лицензия на сервер. Приобретается основная поставка и набор необходимого числа лицензий. Для небольшой по масштабу компании (100 сотрудников) в нашем примере предусмотрено приобретение программного продукта единой поставкой с клиентскими лицензи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Предприятие 8. Клиентские лицензии. Для предприятий масштабом более 100 сотрудников данная статья выделяется отд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внедрение (аутсорсинг в ЦКП). Схема распределения работ в каждом конкретном случае может быть разной. Но практика показывает, что грамотная помощь со стороны партнера, имеющего статус Центра компетенции по производству, способна существенно повысить результативность и качество исполнения при снижении общего объема финансирования и главное - сроков внедрения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обучение. Обучение - задача, недостаточное внимание к которой способно существенно увеличить сроки внедрения и соответственно поставить под угрозу исполнение всего проекта. Это целая система разноцелевых по аудитории мероприятий, направленных на передачу знаний руководителям, пользователям и обслуживающим информационную базу специалистам из ИТ-подразделени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сопровождение системы на 3 года. Показатель, остающийся в тени обсуждения, но имеющий высокий потенциал применения для информационных систем, построенных на основании 1С:Управление производственным предприятием. Состав финансируемых статей по сопровождению и развитию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ление (подписка на ИТ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ка регулярных обнов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работка существующего функционала или разработка новог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валификации и обучение новых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рнизация и обслуживание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 раб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ими силами: расходы на специалистов в штате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: расходы на постоянных или разовых внешн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я всех показателей представлены в таблиц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изложенного подхода лежит разделение всех затрат на единовременные (собственно работы по запуску информационной системы в промышленную эксплуатацию) и текущие, к которым относятся затраты на эксплуатацию и сопровождение. Результат автоматизации можем определить как сумму полученных экономических эффектов минус общая стоимость затрат. Оценка эффективности инвестиционных вложений строится либо путем отношения результата к затратам, либо определяется как разница между результатом и 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ходя к оценке результатов внедрения, следует отметить, что влияние на денежные потоки и показатели реальных бизнес-процессов, изменяющихся в процессе внедрения, не имеет однозначных количественных оценок. Большинство  показателей носит качественный характер: в частности, повышение устойчивости работы программного обеспечения, снижение количества ошибок в данных, увеличение объема задач, которые решаются в единицу времени, повышение скорости прохождения документации и так далее. Количество этих факторов достаточно велико. Объединить их в единую расчетную модель, которая проецировала бы их на денежные потоки компании, непросто. Одним из наглядных и измеримых результатов является оптимизация потребности в привлечении и рост оборачиваемости оборотного капитала, который можно оценить с использованием коэффициента рентабельности инвестиций (ROI) - финансового показателя, характеризующего доходность инвестиционных в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потребности в оборотных средствах (млн. руб. в месяц) – 3,3-26-42-249-415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я за счет снижения объема привлеченных денег (при ставке 14% годовых) за 3 года (млн. руб.) – 1,6-12-20-119-198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 окупаемости инвестиций, лет – 1,8-1,7-1,7-1,0-1,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OI (отношение финансового выигрыша к сумме инвестиций) за 3 года – 1,94-1,98-1,97-3,52-3,42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бственник – это человек, вкладывающий собственные средства в предпринимательскую деятельность, и для него всегда актуальны следующие вопросы по организации бизне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здать ново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авлять соз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е потерять имеющее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звивать свой бизн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раммные продукты Фирмы «1С» предназначены для информационной поддержки успешной реализации каждой из этих задач. Флагманским решением линейки является конфигурация Управление производственным предприятием. Познакомимся с редакцией 1.3 на платформе «1С:Предприятие 8.2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результаты внедрения (для предприятий с позаказным типом производства) могут быть отражены показателями, приведенными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ые показатели сгруппированы в четыр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па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снижение объемов материальных запасов на 30-4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снижение доли несвоевременных поставок на 80-9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снижение объема незавершенного производства на 20-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оротные сред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увеличение оборачиваемости денежных средств на 3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казатели, характеризующие оперативность и эффектив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сокращение времени подготовки документов до 6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сокращение времени подготовки регламентированной отчетности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казатели, влияющие на рыночную стоимость компан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сокращение налоговых рисков до 50%, снижение стоимости привлечения капитала до 1% ст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акторы, обеспечивающие инвестиционную привлека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тратегия компании, бизнес-планы, понятные для инвесторов и креди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ффективная структура корпоративного управления, использующая достоверную и своевременную управленческую информац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алоговая политика и юридическая структура, не создающие повышенные р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ачественная финансовая отчетность, в том числе по международным стандар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пытный топ-менедж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 внедрений решений «1С» и статистика по проекта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(по данным APICS) позволяют выделить следующие достигаемые результаты при использовании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рок окупаемости проекта от 1 года до 2 л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вложенные в проект средства составляет значение в диапазоне от 2 до 3,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увеличение оборачиваемости денежных средств на 3-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нижение объема незавершенного производства на 20-3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окращение налоговых рисков в 2 раз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повышение лояльности клиентов на 20-5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«1С:Управление производственным предприятием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водя итоги по текущему выступлению еще раз отметим ключевые конкурентные преимущества 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программного продукта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1С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1. функциональные возможности мирового уровн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2. полное соответствие требованиям законодательства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3. оперативное сопровождение в условиях изменяющегося законода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4. консолидация и бизнес-анализ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5. надежная технологическая платформа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«1С:Предприятие 8.2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6. комплексная система методической поддержки внедрения и подготовки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7. привлекательное соотношение цена/каче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8. высокое доверие к продукту (реализовано более 14 000 комплектов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решений на его базе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Times New Roman"/>
              </a:rPr>
              <a:t>и более 350 000 клиентских лиценз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бизнес можно рассматривать как очередной инвестиционный проект. Бизнес интересен, пока он приносит определенную доходность на вложенный капитал. Постро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на основе решения 1С:Управление производственным предприятием закладывает надежную основу управляемости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апе создания бизнеса (предприятия) необходимо уделить внимание следующим задач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рганизация системы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становка регламентированн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шение кадрового во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Управление производственным предприятием охватывает основные информационные потоки предприятия. Организация управления и исполнение требований учетных действий находятся в неразрывном взаимодействии. Инструменты управленческого учета и возможности планирования формируют операционную деятельность предприятия, закладывая основу для учет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RP-система, построенная на основании 1С:Управление производственным предприятием, создает информационное пространство, в котором интегрированы планирование и управление затратами, бюджетирование и расчет себестоимости, логистика, взаимоотношения с клиентами, управление персоналом, РСБУ и МСФ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начнем с организации системы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у системы управления составляют устойчивые коммуникации между ключевыми менеджерами, обеспечивающие решение разноплановых задач. Представлены следующие инструменты обмена управленческой информаци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фиксация управленческих решений документами информационной базы. Например, достигнутые договоренности с поставщиком в информационной базе фиксируются документом «Заказ поставщику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 оприходовании товаров на склад на его основании создается документ «Поступление товаров и услуг», что показывает взаимосвязь документов регламентированного учета с ранее принятыми и зафиксированными управленческими решен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занесение нормативно-справочной информации по объектам учета и взаимодействия обеспечивает удобство создания документов. В нашем примере используются данные справочников «Контрагенты» и «Номенклатура», один из которых представлен на экран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шение обеспечивает широкие возможности задания аналитических разрезов. Например, карточка справочника «Контрагенты» содержит полные контактные данные клиента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рядок ведения учетных действий регламентируется законодательными документами: Налоговым Кодексом РФ (НК РФ), Правилами ведения бухгалтерского учета (ПБУ) и др. Выполнение их требований способствует укреплению экономической безопасности предприятия. 1С:Управление производственным предприятием предостав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спользование «зашитых» методик организации учетных действий определяется настройками учетной политики предприятия. Доступны все системы налогообложения и расчеты отдельных видов налог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и фиксации хозяйственных операций используются установленные формы первичных документов. Качественная документация обеспечивает спокойное проведение налоговых провер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 конфигурации представлен полный спектр регламентированной и обязательной отчетности. Все формы регламентированной и обязательной отчетности соответствуют нормативным докум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ладельцу нужно «видеть» весь бизнес, но нет необходимости все в нем контролировать. Достаточно выделить некие «несущие конструкции», каркас бизнеса, и контролировать именно их. 1С:Управление производственным предприятием ранжирует информацию по уровням принятия решений и предлагает пользователю следующие инструмен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Задание и отслеживание контрольных показателей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еспечение прозрачности деятельности через контроль информационных пото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втоматизация работы менеджеров с использованием мотивационных механизмов по объективным оценкам достиг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тический баланс и анализ ликвидности и платежеспособ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чет о прибылях и убыт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нализ оборачиваемости активов и пасс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Анализ доходности и рентабельности финансово-хозяйственной деятельности (ФХ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Анализ эффективности использования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отчеты представлены в рамках подсистемы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зрачность деятельности призвана обеспечить эффективность. Под эффективностью бизнеса мы понимаем соотношение прибыли и произведенных затрат. Специализированный инструмент «Монитор эффективности» ориентирован на оперативную оценку ключевых показателей эффективности работ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хват всего бизнеса «одним взглядо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воевременное выявление отклонений от плана, негативной динамики, точек ро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точнение предоставляемой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использование предустановленного комплекта из более чем 60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работка новых показателей эфф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усмотрена настройка вариантов отчета по видам деятельности, по участкам ответственности, под потребности конкретного заинтересованного лица (такого как собственник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96640"/>
            <a:ext cx="8746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140-1634-4C7F-AE39-416F9EE40A7C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jpe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image" Target="../media/image50.jpeg"/><Relationship Id="rId20" Type="http://schemas.openxmlformats.org/officeDocument/2006/relationships/image" Target="../media/image51.jpeg"/><Relationship Id="rId21" Type="http://schemas.openxmlformats.org/officeDocument/2006/relationships/image" Target="../media/image52.png"/><Relationship Id="rId22" Type="http://schemas.openxmlformats.org/officeDocument/2006/relationships/image" Target="../media/image53.jpeg"/><Relationship Id="rId23" Type="http://schemas.openxmlformats.org/officeDocument/2006/relationships/image" Target="../media/image54.jpeg"/><Relationship Id="rId24" Type="http://schemas.openxmlformats.org/officeDocument/2006/relationships/image" Target="../media/image55.png"/><Relationship Id="rId25" Type="http://schemas.openxmlformats.org/officeDocument/2006/relationships/image" Target="../media/image56.png"/><Relationship Id="rId26" Type="http://schemas.openxmlformats.org/officeDocument/2006/relationships/image" Target="../media/image57.jpeg"/><Relationship Id="rId27" Type="http://schemas.openxmlformats.org/officeDocument/2006/relationships/image" Target="../media/image58.png"/><Relationship Id="rId28" Type="http://schemas.openxmlformats.org/officeDocument/2006/relationships/image" Target="../media/image59.jpeg"/><Relationship Id="rId29" Type="http://schemas.openxmlformats.org/officeDocument/2006/relationships/image" Target="../media/image60.png"/><Relationship Id="rId30" Type="http://schemas.openxmlformats.org/officeDocument/2006/relationships/image" Target="../media/image61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–решения Фирмы «1С»</a:t>
            </a:r>
            <a:br>
              <a:rPr sz="2400"/>
            </a:b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для Собственника, Акционер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3949560"/>
            <a:ext cx="2952720" cy="258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Е ПОТЕРЯ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Осторожность разумного человек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0" y="1020600"/>
            <a:ext cx="89312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Бизнес должен быть построен так, чтобы наемные сотрудники не могли увести бизнес собственника, украсть его деньги и имущество. Внедрение информационной системы направлено на повышение исполнительской дисциплины сотрудников через инструменты взаимосвязанного контроля последовательно исполняемых действий и широкую сеть аналитических отче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2852640"/>
          <a:ext cx="744876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852640"/>
                    <a:ext cx="7448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1640" y="0"/>
            <a:ext cx="78375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Е ПОТЕРЯТЬ БИЗНЕС</a:t>
            </a: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нутренний контроль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24000" y="1052640"/>
            <a:ext cx="64087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учение прибыли, рациональная организация денежных потоков и действенная административная структура являются критически важными элементами экономической состоятельности предприятия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ивает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24000" y="2478240"/>
            <a:ext cx="73929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блюдение законодательных требова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анные в информационной системе характеризуются надежностью и доступностью для проверк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здаются условия для внутреннего контроля, формируется прозрачная финансовая сред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астет уровень внутрикорпоративного довер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нижается уровень риск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24000" y="5218200"/>
            <a:ext cx="85978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шение создает добавленную стоимость в стратегическом управлении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284720" y="1982880"/>
            <a:ext cx="4460760" cy="3284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Е ПОТЕРЯ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Информация – капитал компани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24000" y="1052640"/>
            <a:ext cx="6480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Информаци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— это набор формализованных (структурированных, разложенных по полочкам и имеющих средства для поиска и представления)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знаний бизнеса о самом себе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324000" y="2106720"/>
            <a:ext cx="388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се данные являются собственностью компании и хранятся в единой информационной базе в справочниках и документ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3141720"/>
            <a:ext cx="3743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ьзователю предлагаются развитые средства визуального представления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24000" y="3978360"/>
            <a:ext cx="3743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еализована многоуровневая система разграничения прав доступа к информ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4807080"/>
            <a:ext cx="38876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охранность данных обеспечена современной технологической платформой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1С:Предприятие 8.2»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и использованием известных баз данных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S SQL Server, Oracle Database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286160" y="2612880"/>
            <a:ext cx="4461120" cy="2922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289400" y="2963880"/>
            <a:ext cx="4457880" cy="3381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Е ПОТЕРЯТЬ БИЗНЕС</a:t>
            </a: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реемственность персонала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24000" y="1087560"/>
            <a:ext cx="6480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риентация на достижение поставленных целей бизнеса, исключение «человеческого» фактора в качестве принимаемых решений, снижение зависимости от ключевых сотрудников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324000" y="2048040"/>
            <a:ext cx="839628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централизация инструментов принятия решений в рамках информационной систем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ламенты, положенные в основу функционирования информационной системы, являются механизмами передачи зна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сутствуют сотрудники — носители уникальных знаний о бизнес-процессах внутри предприятия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ъективность системы мотивации сотрудников через измеряемые параметры результатив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аличие специалистов требуемой квалификации на рынке по «разумным ценам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методологическая поддержка учетных действий и комплексная система обучения и совершенствования пользователей, предлагаемая вендером —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Фирмой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ВИВ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Курс на развитие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24000" y="1071720"/>
            <a:ext cx="65530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Единственный по-настоящем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невосполнимый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есур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для предпринимателя —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это время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. Управление одним бизнесом ограничивает возможности собственника как предпринимателя. Современная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система не должна ставить границ на пути роста. Интеграционные возможност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— это инвестиции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в будущее Вашего предприятия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68320" y="2997360"/>
          <a:ext cx="744876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8320" y="2997360"/>
                    <a:ext cx="7448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отраслев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7920" y="1959120"/>
            <a:ext cx="43639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ашиностроение                  программно–методический комплекс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оект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троитель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ремон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ранспор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роцессное производство. Химия 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Горно-добывающая промышленность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Фарм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ельскохозяйственным предприятием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тицефабрико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Спиртов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икероводочный и винный 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иво-безалкогольный 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Рыбопереработ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есозаво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280" y="1001880"/>
            <a:ext cx="8177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ущественное сокращение сроков внедрения и снижение совокупной           стоимости владения возможно при использовании отраслевых решений, созданных на баз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35520" y="1957320"/>
            <a:ext cx="39574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олоко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ясо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мукомольно-крупя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Хлебобулочное и кондитерск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олиграф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Девелопмент и управление недвижимостью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Риэлтор. Управление продажами недвижим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Энергетика. Управление распределительной сетевой компан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еплосетью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водоканал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едприятием ЖК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ереработкой отходов и вторсырь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Комбинат ЖБ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ВИВ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Специализированные решения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4320" y="2720880"/>
            <a:ext cx="85294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Функциональные возможности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могут быть расширены за счет интеграции с другими программными продуктами              на единой платформе «1С:Предприятие 8»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2120" y="3681360"/>
            <a:ext cx="457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Консолидац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Документооборо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корпоративными финанса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PDM Управление инженерными данны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DM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Управление нормативно-справочной информацией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ТОИР Управление ремонтами и обслуживанием оборудования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МТО Материально-техническое обеспече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проектным офис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2240" y="2370240"/>
            <a:ext cx="5248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Специализированные программные продук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72080" y="3701880"/>
            <a:ext cx="4260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Инвентаризация и управление имуществ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Аренда и управление недвижимостью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CRM ПРОФ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складом (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W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перевозками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(T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Автотранспорт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Центр спутникового мониторинга ГЛОНАСС/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GPS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ITIL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Управление информационными технологиями предприят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1219320"/>
            <a:ext cx="8820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ля использования функционала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с учетом законодательства различных стран предназначены локализованные версии для Украины, Казахстана и Беларуси.                                                                                              Для англоязычных сотрудников разработана версия с интерфейсом на английском языке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680" y="930240"/>
            <a:ext cx="556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Локализация под национальные законодатель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ВИВ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Управление холдингом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324000" y="1062000"/>
            <a:ext cx="650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теграция по вертикали с продук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Консолидация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делает решени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звеном комплексной системы финансового управления холдингов и промышленных групп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20760" y="6165720"/>
            <a:ext cx="49435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ЦФО – центр финансовой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15920" y="2149560"/>
          <a:ext cx="7012080" cy="39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920" y="2149560"/>
                    <a:ext cx="701208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ВИВ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Инвестиционная привлекательность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324000" y="1019160"/>
            <a:ext cx="655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Летит время, Ваши деньги работают, и уже актуальным становится вопрос о выходе на </a:t>
            </a: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IPO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— необходима отчетность по международным стандартам. Отчетность по МСФО обеспечивает предприятию следующие конкурентные преимущества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324000" y="4500720"/>
            <a:ext cx="8424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ложенные в конфигурацию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— это шаг к новым стандартам ведения бизнеса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324000" y="2502000"/>
            <a:ext cx="842472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вестиционную привлекательность на рынке капитала (более выгодные условия привлечения кредитных средств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ход на российские и международные фондовые рынк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чение зарубежных инвестиц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-19080"/>
            <a:ext cx="57322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окупаемости инвестиций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информационную систему 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Условный пример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24000" y="1773360"/>
          <a:ext cx="8496000" cy="4576680"/>
        </p:xfrm>
        <a:graphic>
          <a:graphicData uri="http://schemas.openxmlformats.org/drawingml/2006/table">
            <a:tbl>
              <a:tblPr/>
              <a:tblGrid>
                <a:gridCol w="5365440"/>
                <a:gridCol w="568440"/>
                <a:gridCol w="617760"/>
                <a:gridCol w="580680"/>
                <a:gridCol w="695520"/>
                <a:gridCol w="66816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Масштаб предприятия, сотрудник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ичество активных (конкурентных) пользователей автоматизированных рабочих мест пользователе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 1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 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 1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 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 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еднемесячный объем оборотных средств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ъем краткосрочных кредитов (20% оборотных средств) 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траты на внедрение и владение ИС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4,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Расходы на покупку сервер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ПО MS SQL Server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Управление произв. предприятием + лицензия на сервер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Клиентские лиценз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1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внедрение (аутсорсинг в ЦКП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обучение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системы н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Финансовый результа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потребности в оборотных средствах (млн. руб. в месяц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3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4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Экономия за счет снижения объема привлеченных денег (при ставке 14% годовых)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1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9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ок окупаемости инвестиций, ле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ROI (отношение финансового выигрыша к сумме инвестиций) з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5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4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рганизационное обеспечение бизнес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24000" y="1305000"/>
            <a:ext cx="8238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человека, вкладывающего собственные средства в любую предпринимательскую деятельность, всегда актуальны следующие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опросы по организации бизнеса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24000" y="4514760"/>
            <a:ext cx="83534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успешной реализации каждой из этих задач предназначены программные продукты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рмы «1С»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лагманским решением линейки является конфигурация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знакомимся с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едакцией 1.3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на платформ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1С:Предприятие 8.2»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38360" y="2492280"/>
          <a:ext cx="7448400" cy="15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2492280"/>
                    <a:ext cx="74484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36720" y="2679840"/>
          <a:ext cx="1689120" cy="114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720" y="267984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22680" y="2681280"/>
          <a:ext cx="168912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22680" y="268128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08640" y="2671920"/>
          <a:ext cx="1689120" cy="114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8640" y="267192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294600" y="2671920"/>
          <a:ext cx="1688760" cy="1147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94600" y="2671920"/>
                    <a:ext cx="16887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-27360"/>
            <a:ext cx="59770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ост конкурентных преимуществ предприятия</a:t>
            </a:r>
            <a:br>
              <a:rPr sz="2000"/>
            </a:b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Данны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PICS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для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– систем и статистике проектов 1С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792440"/>
          <a:ext cx="8496000" cy="4633920"/>
        </p:xfrm>
        <a:graphic>
          <a:graphicData uri="http://schemas.openxmlformats.org/drawingml/2006/table">
            <a:tbl>
              <a:tblPr/>
              <a:tblGrid>
                <a:gridCol w="6944400"/>
                <a:gridCol w="1551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заказное производство)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начение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ов материальных запа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-4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трат на приобретение и хранение сырья и материал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доли несвоевременных поставок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0-9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а незавершенного произво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е сре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ижение объема привлечения краткосрочных финансовых ресур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Увеличение оборачиваемости денежных средст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-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перативность и эффективность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качества информации для принятия решений, сокращение рисков несвоевременных и неверных решени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2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документ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60 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регламентированной отчетност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ыночная стоимость компан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налоговых рисков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лояльности клиентов (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RM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стоимости привлечения капитал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т 1% ставк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ост капитализации и инвестиционной привлекательности бизнес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25360" y="-28440"/>
            <a:ext cx="5808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Факторы, обеспечивающие инвестиционную привлекательность</a:t>
            </a:r>
            <a:endParaRPr b="1" lang="en-US" sz="2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17520" y="1196640"/>
            <a:ext cx="676584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тратегия компании, бизнес-планы, понятные для инвесторов </a:t>
            </a:r>
            <a:br>
              <a:rPr sz="1600"/>
            </a:b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и кредито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Эффективная структура корпоративного управления, использующая достоверную и своевременную управленческую информацию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логовая политика и юридическая структура, не создающие повышенные рис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Качественная финансовая отчетность, в том числе по международным стандарт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Опытный топ-менеджмен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6107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ост капитализации бизнес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 реализации проекта 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18960" y="1344600"/>
            <a:ext cx="67741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Реализация проекта создания информационно-управленческой </a:t>
            </a:r>
            <a:br>
              <a:rPr sz="1600"/>
            </a:b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истемы на баз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повышает инвестиционную привлекательность и капитализацию компании за сче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01680" y="2530440"/>
            <a:ext cx="59943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троения качественной системы управления бизнес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прозрачности для инвест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сохранности конфиденциальных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ки стратегии развития бизнес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изкой совокупной стоимости влад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ысоких финансовых и экономических результа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привлечения краткосрочных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финансовых ресурс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величение оборачиваемости денежных средст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кращение затрат на приобретение и хранение сырь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 и материал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незавершенного производства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70480" y="4064040"/>
            <a:ext cx="2460600" cy="2191320"/>
          </a:xfrm>
          <a:prstGeom prst="rect">
            <a:avLst/>
          </a:prstGeom>
          <a:solidFill>
            <a:srgbClr val="ffff00">
              <a:alpha val="50000"/>
            </a:srgbClr>
          </a:solidFill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Быстрая окупаемость инвестиций в 1С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ERP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срок окупаемости проекта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года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лет </a:t>
            </a: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величина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ROI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на вложенные в проект средства составляет значение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200" y="6573960"/>
            <a:ext cx="8088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По данным международных консалтинговых компаний и проектов партнеров 1С по состоянию на Июль 2011 г.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232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251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257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260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                                              1С:Управление производственным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м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905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324000" y="932040"/>
            <a:ext cx="655308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 Вот некоторые из них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357120" y="4462560"/>
            <a:ext cx="37609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Темп производства таков, что я не могу тратить время на бесконечный сбор данных из разных служб и их структурирование. Теперь я могу получать необходимые мне сведения нажатием нескольких кнопок, при этом не сомневаться ни в их достоверности, ни в их актуальности»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356000" y="4451400"/>
            <a:ext cx="4330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…главное — то, что положительные изменения в управлении «ТМС Групп» ощутили на себе наши клиенты. Так, мы установили полный контроль над процессами расчета стоимости услуг и сумели на 60% увеличить скорость обработки документов и формирования документов для предъявления клиентам холдинга.»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324000" y="4005360"/>
            <a:ext cx="3551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Тамара Сергеевна Шушпанова, генеральный директор ЗАО ЦПТ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4376880" y="4005360"/>
            <a:ext cx="4427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Виталий Гатауллин, зам. директора по организационному развитию «ТМС Групп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7040" cy="1931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500720" y="1844640"/>
            <a:ext cx="2617560" cy="1928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7164360" y="1844640"/>
            <a:ext cx="1440000" cy="573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3059280" y="1916280"/>
            <a:ext cx="1037880" cy="11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атко о главно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297000" y="1260360"/>
            <a:ext cx="786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лючевые конкурентные преимуществ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ого продукт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24000" y="2025720"/>
            <a:ext cx="7360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ункциональные возможности мирового уровн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е соответствие требованиям законодательства РФ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еративное сопровождение в условиях изменяющегося законодательств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солидация и бизнес-анализ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дежная технологическая платформа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1С:Предприятие 8.2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мплексная система методической поддержки внедрения и подготовки специалис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кательное соотношение цена/каче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сокое доверие к продукту (реализовано более 14 000 компле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ешений на его баз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более 350 000 клиентских лиценз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285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288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ЗДАТЬ БИЗНЕС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Формирование основных бизнес–процессов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24000" y="1052640"/>
            <a:ext cx="6514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строение бизнеса — это инвестиционный проект, который изначально должен получить гарантии своей исполнимости и способности достижения заданных параметров. Построение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–системы на основе решения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закладывает надежную основу управляемости бизнеса в дальнейшем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2755800"/>
          <a:ext cx="764856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755800"/>
                    <a:ext cx="76485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ЗДАТЬ БИЗНЕС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Схема взаимодействия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2800" y="1766880"/>
            <a:ext cx="7780320" cy="452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18041" t="0" r="18079" b="67562"/>
          <a:stretch/>
        </p:blipFill>
        <p:spPr>
          <a:xfrm>
            <a:off x="2116080" y="1766880"/>
            <a:ext cx="497052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0" t="32479" r="0" b="52731"/>
          <a:stretch/>
        </p:blipFill>
        <p:spPr>
          <a:xfrm>
            <a:off x="712800" y="3235320"/>
            <a:ext cx="7780320" cy="669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0" t="47114" r="52311" b="0"/>
          <a:stretch/>
        </p:blipFill>
        <p:spPr>
          <a:xfrm>
            <a:off x="712800" y="3897360"/>
            <a:ext cx="3709800" cy="239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rcRect l="52315" t="47310" r="-270" b="17981"/>
          <a:stretch/>
        </p:blipFill>
        <p:spPr>
          <a:xfrm>
            <a:off x="4782960" y="3906720"/>
            <a:ext cx="3730680" cy="156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rcRect l="52315" t="81994" r="-1045" b="12234"/>
          <a:stretch/>
        </p:blipFill>
        <p:spPr>
          <a:xfrm>
            <a:off x="4782960" y="5473800"/>
            <a:ext cx="3791160" cy="26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rcRect l="52315" t="87709" r="-270" b="-252"/>
          <a:stretch/>
        </p:blipFill>
        <p:spPr>
          <a:xfrm>
            <a:off x="4782960" y="5732640"/>
            <a:ext cx="373248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ЗДАТЬ БИЗНЕС 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Организация системы управления</a:t>
            </a: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24000" y="2139840"/>
            <a:ext cx="309564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6160" indent="-1461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иксация управленческих решений документами информационной баз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24000" y="2941560"/>
            <a:ext cx="273528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 indent="-136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рганизация взаимосвязанного документооборота управленческого и регламентированного учет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24000" y="4440240"/>
            <a:ext cx="28400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 indent="-136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занесение нормативно-справочной информации по объектам учета и взаимодейств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24000" y="5522760"/>
            <a:ext cx="3087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 indent="-136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широкие возможности задания аналитических разрез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24000" y="1039680"/>
            <a:ext cx="6480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снову системы управления составляют устойчивые коммуникации между ключевыми менеджерами, обеспечивающие решение разноплановых задач. Инструменты обмена управленческой информацией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25" name="Рисунок 13" descr="Заказ поставщику.PNG"/>
          <p:cNvPicPr/>
          <p:nvPr/>
        </p:nvPicPr>
        <p:blipFill>
          <a:blip r:embed="rId2"/>
          <a:stretch/>
        </p:blipFill>
        <p:spPr>
          <a:xfrm>
            <a:off x="3236760" y="2209680"/>
            <a:ext cx="5510520" cy="358632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26" name="Picture 13" descr="Заказ поставщику_поступление_1"/>
          <p:cNvPicPr/>
          <p:nvPr/>
        </p:nvPicPr>
        <p:blipFill>
          <a:blip r:embed="rId3"/>
          <a:stretch/>
        </p:blipFill>
        <p:spPr>
          <a:xfrm>
            <a:off x="3236760" y="2639880"/>
            <a:ext cx="5504040" cy="347184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35320" y="3092400"/>
            <a:ext cx="5505480" cy="3413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03640" y="3645000"/>
            <a:ext cx="5513400" cy="2609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6588000" y="2492280"/>
            <a:ext cx="2160720" cy="1873440"/>
          </a:xfrm>
          <a:prstGeom prst="wedgeRectCallout">
            <a:avLst>
              <a:gd name="adj1" fmla="val -93643"/>
              <a:gd name="adj2" fmla="val -5889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пример, договоренности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 поставщиком фиксируются документом «Заказ поставщику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3141720"/>
            <a:ext cx="2160720" cy="1873080"/>
          </a:xfrm>
          <a:prstGeom prst="wedgeRectCallout">
            <a:avLst>
              <a:gd name="adj1" fmla="val -91439"/>
              <a:gd name="adj2" fmla="val -69574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 оприходовании товаров на склад на его основании создается документ «Поступление товаров и услуг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3789360"/>
            <a:ext cx="2160720" cy="1871640"/>
          </a:xfrm>
          <a:prstGeom prst="wedgeRectCallout">
            <a:avLst>
              <a:gd name="adj1" fmla="val -91365"/>
              <a:gd name="adj2" fmla="val -80111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 создании документов используются данные справочников «Контрагенты»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 «Номенклатура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437000"/>
            <a:ext cx="2160720" cy="1871640"/>
          </a:xfrm>
          <a:prstGeom prst="wedgeRectCallout">
            <a:avLst>
              <a:gd name="adj1" fmla="val -89601"/>
              <a:gd name="adj2" fmla="val -83250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правочник «Контрагенты» содержит полные контактные данные о клиентах компан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905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ЗДАТЬ БИЗНЕС</a:t>
            </a: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17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остановка регламентированного учета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14280" y="4221000"/>
            <a:ext cx="29116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0320" indent="-1303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ный спектр регламентированной и обязательной отчет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14280" y="2492280"/>
            <a:ext cx="283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«зашитых» методик организации учетных действ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14280" y="3573360"/>
            <a:ext cx="3233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становленные формы первичных докумен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24000" y="1039680"/>
            <a:ext cx="6696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рядок ведения учетных действий регламентируется законодательными документами: НК РФ, ПБУ и др. Выполнение их требований способствует укреплению экономической безопасности предприятия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предоставляет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38" name="Рисунок 11" descr="Учетная политика_виды учета.PNG"/>
          <p:cNvPicPr/>
          <p:nvPr/>
        </p:nvPicPr>
        <p:blipFill>
          <a:blip r:embed="rId2"/>
          <a:stretch/>
        </p:blipFill>
        <p:spPr>
          <a:xfrm>
            <a:off x="3492360" y="2395440"/>
            <a:ext cx="5278680" cy="347976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39" name="Рисунок 13" descr="Реализация_форма_1.PNG"/>
          <p:cNvPicPr/>
          <p:nvPr/>
        </p:nvPicPr>
        <p:blipFill>
          <a:blip r:embed="rId3"/>
          <a:stretch/>
        </p:blipFill>
        <p:spPr>
          <a:xfrm>
            <a:off x="3635280" y="2708280"/>
            <a:ext cx="5113440" cy="364320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08720" y="2421000"/>
            <a:ext cx="3238560" cy="3960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732720" y="2781360"/>
            <a:ext cx="2081160" cy="1455840"/>
          </a:xfrm>
          <a:prstGeom prst="wedgeRectCallout">
            <a:avLst>
              <a:gd name="adj1" fmla="val -127115"/>
              <a:gd name="adj2" fmla="val -71481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оступны все системы налогообложения и расчеты отдельных видов налог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4941720"/>
            <a:ext cx="1731960" cy="1455840"/>
          </a:xfrm>
          <a:prstGeom prst="wedgeRectCallout">
            <a:avLst>
              <a:gd name="adj1" fmla="val 86754"/>
              <a:gd name="adj2" fmla="val -70611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се формы отчетности соответствуют нормативным документ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941720"/>
            <a:ext cx="2081160" cy="1455840"/>
          </a:xfrm>
          <a:prstGeom prst="wedgeRectCallout">
            <a:avLst>
              <a:gd name="adj1" fmla="val -45500"/>
              <a:gd name="adj2" fmla="val -10888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Качественная документация залог спокойствия при налоговой проверк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ЯТЬ БИЗНЕСОМ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Основные требования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324000" y="1069920"/>
            <a:ext cx="65530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ладельцу нужно «видеть» весь бизнес, но нет необходимости все в нем контролировать. Достаточно выделить некие «несущие конструкции», каркас бизнеса, и контролировать именно их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нжирует информацию по уровням принятия решений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2708280"/>
          <a:ext cx="744876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708280"/>
                    <a:ext cx="7448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06560"/>
            <a:ext cx="80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ЯТЬ БИЗНЕСОМ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контрольные показатели бизнеса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24000" y="1090440"/>
            <a:ext cx="65404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325440" y="2205000"/>
            <a:ext cx="303228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тический балан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ликвидности и платежеспособ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 о прибылях и убытк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оборачиваемости активов и пассив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доходности и рентабельности ФХ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эффективности использования капитал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59240" y="1998720"/>
            <a:ext cx="5379840" cy="2720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457440" y="2617920"/>
            <a:ext cx="5381640" cy="2832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454560" y="3206880"/>
            <a:ext cx="5384520" cy="2211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457440" y="3549600"/>
            <a:ext cx="5381640" cy="2152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456000" y="3995640"/>
            <a:ext cx="5381640" cy="237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1640" y="0"/>
            <a:ext cx="5815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ЯТЬ БИЗНЕСОМ</a:t>
            </a: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розрачность деятельност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24000" y="1052640"/>
            <a:ext cx="66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д эффективностью бизнеса понимаем соотношение прибыли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 произведенных затрат. Специализированный инструмент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Монитор эффективности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ориентирован на оперативную оценку ключевых показателей эффективности работы предприятия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24000" y="2492280"/>
            <a:ext cx="377316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хват всего бизнеса «одним взглядом»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воевременное выявление отклонений от плана, негативной динамики, точек рост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точнение предоставляемой информаци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предустановленного комплекта из более чем 60 показателей эффективност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работка новых показателей эффектив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48280" y="2100240"/>
            <a:ext cx="4570200" cy="432612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148280" y="2428920"/>
            <a:ext cx="4570200" cy="3844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6659640" y="3068640"/>
            <a:ext cx="2160360" cy="1871640"/>
          </a:xfrm>
          <a:prstGeom prst="wedgeRectCallout">
            <a:avLst>
              <a:gd name="adj1" fmla="val -79902"/>
              <a:gd name="adj2" fmla="val -50509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едусмотрена настройка вариантов отчета по видам деятельности, по участкам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6T11:36:12Z</dcterms:modified>
  <cp:revision>909</cp:revision>
  <dc:subject/>
  <dc:title>Слайд 1</dc:title>
</cp:coreProperties>
</file>