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jpeg" ContentType="image/jpeg"/>
  <Override PartName="/ppt/media/image11.png" ContentType="image/png"/>
  <Override PartName="/ppt/media/image48.png" ContentType="image/png"/>
  <Override PartName="/ppt/media/image66.jpeg" ContentType="image/jpeg"/>
  <Override PartName="/ppt/media/image4.wmf" ContentType="image/x-wmf"/>
  <Override PartName="/ppt/media/image27.wmf" ContentType="image/x-wmf"/>
  <Override PartName="/ppt/media/image5.wmf" ContentType="image/x-wmf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64.png" ContentType="image/png"/>
  <Override PartName="/ppt/media/image32.wmf" ContentType="image/x-wmf"/>
  <Override PartName="/ppt/media/image62.jpeg" ContentType="image/jpeg"/>
  <Override PartName="/ppt/media/image60.png" ContentType="image/png"/>
  <Override PartName="/ppt/media/image29.png" ContentType="image/png"/>
  <Override PartName="/ppt/media/image63.jpeg" ContentType="image/jpeg"/>
  <Override PartName="/ppt/media/image25.png" ContentType="image/png"/>
  <Override PartName="/ppt/media/image65.png" ContentType="image/png"/>
  <Override PartName="/ppt/media/image28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wmf" ContentType="image/x-wmf"/>
  <Override PartName="/ppt/media/image61.jpeg" ContentType="image/jpeg"/>
  <Override PartName="/ppt/media/image8.wmf" ContentType="image/x-wmf"/>
  <Override PartName="/ppt/media/image40.png" ContentType="image/png"/>
  <Override PartName="/ppt/media/image24.png" ContentType="image/png"/>
  <Override PartName="/ppt/media/image22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13.png" ContentType="image/png"/>
  <Override PartName="/ppt/media/image33.png" ContentType="image/png"/>
  <Override PartName="/ppt/media/image54.jpeg" ContentType="image/jpeg"/>
  <Override PartName="/ppt/media/image14.png" ContentType="image/png"/>
  <Override PartName="/ppt/media/image9.wmf" ContentType="image/x-wmf"/>
  <Override PartName="/ppt/media/image30.png" ContentType="image/png"/>
  <Override PartName="/ppt/media/image34.jpeg" ContentType="image/jpeg"/>
  <Override PartName="/ppt/media/image37.png" ContentType="image/png"/>
  <Override PartName="/ppt/media/image35.png" ContentType="image/png"/>
  <Override PartName="/ppt/media/image36.png" ContentType="image/png"/>
  <Override PartName="/ppt/media/image38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C045-DB3A-4873-A8BC-BCEF92ACC9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–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Собственника, Акцион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изнес должен быть построен так, чтобы наемные сотрудники не могли увести бизнес собственника, украсть его деньги и имущество. Внедрение информационной системы направлено на повышение исполнительской дисциплины сотрудников через инструменты взаимосвязанного контроля последовательно исполняемых действий и широкую сеть аналитических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копленная и постоянно используемая в деятельности предприятия информация является полноценной составляющей общего капитала компании. Информационная система дает инструменты создания, хранения и распределения потоков данных, выступая неким хранилищем знаний бизнеса. Информация является достоянием компании, а не конкретного сотрудника, что облегчает вовлечение в бизнес новых сотрудников и обеспечивает преемственность персон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создает хорошие условия для работы службы внутреннего контр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онные мероприятия в рамках внутреннего аудита должны препятствовать возникновению и Деятельность службы внутреннего контроля направлена на обеспечение стабильного получения прибыли, рациональную организацию денежных потоков и создание действенной административной структуры – факторов, которые являются критически важными элементами экономической состоятель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блюд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анные в информационной системе характеризуются надежностью и доступностью для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ются условия для внутреннего контроля, формируется прозрачная финансовая сре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тет уровень внутрикорпоративного довер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нижается уровень рис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это создает добавленную стоимость бизнеса в стратегическом управл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то набор формализованных (структурированных, разложенных по полочкам и имеющих средства для поиска и представления) знаний бизнеса о самом себ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се данные являются собственностью компании и хранятся в информационной базе в справочниках и докумен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льзователю предлагаются развитые средства визуального представления данных. Например, конструктор спецификаций в удобной форме «дерева спецификаций» показывает данные о структуре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многоуровневая система разграничения прав доступа к информации. Выполненные настройки можно контролировать отчетом «Настройка прав доступ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охранность данных обеспечена современной технологической платформой «1С:Предприятие 8.2» и использованием известных баз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 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ация на достижение поставленных целей бизнеса, исключение «человеческого» фактора в качестве принимаемых решений, снижение зависимости от ключев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централизация инструментов принятия реш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ламенты, положенные в основу функционирования системы, являются механизмами передачи зн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тсутствуют сотрудники - носители уникальных знаний о бизнес-процессах внутри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бъективность системы мотивации сотрудников через измеряемые параметры результа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личие специалистов требуемой квалификации на рынке по «разумным цена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методологическая поддержка учетных действий и комплексная система обучения и совершенствования пользователей, предлагаемая вендером – Фирмой «1С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нимательская среда всегда ориентирована на развитие. Единственный по-настоящему невосполнимый ресурс для предпринимателя – это время. Управление одним бизнесом ограничивает возможности собственника как предпринимателя. Современн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 не должна ставить границ на пути роста. Интеграционные возможности 1С:Управление производственным предприятием - это инвестиции в будущее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инвестиционная привлекательность дает предпосылки к развитию бизнеса и повышению его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изложенного подхода лежит разделение всех затрат на единовременные (собственно работы по запуску информационной системы в промышленную эксплуатацию) и текущие, к которым относятся затраты на эксплуатацию и сопровождение. 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бственник – это человек, вкладывающий собственные средства в предпринимательскую деятельность, и для него всегда актуальны следующие вопросы по организации бизне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здать ново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ять соз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е потерять имеющее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звивать свой бизн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е продукты Фирмы «1С» предназначены для информационной поддержки успешной реализации каждой из этих задач. 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оры, обеспечивающие инвестиционную привлека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тратегия компании, бизнес-планы, понятные для инвесторов и креди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ая структура корпоративного управления, использующая достоверную и своевременную управленческую информ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логовая политика и юридическая структура, не создающие повышенные р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ачественная финансовая отчетность, в том числе по международным стандар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пытный топ-менедж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внедрений решений «1С» и статистика по проекта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(по данным APICS) позволяют выделить следующие достигаемые результаты при использова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рок окупаемости проекта от 1 года до 2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в диапазоне от 2 до 3,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величение оборачиваемости денежных средств на 3-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нижение объема незавершенного производства на 20-3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окращение налоговых рисков в 2 ра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повышение лояльности клиентов на 20-5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«1С:Управление производственным предприятием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водя итоги по текущему выступлению еще раз отметим ключевые конкурентные преимущества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программного продукт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5. надежная технологическая платформа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решений на его базе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бизнес можно рассматривать как очередной инвестиционный проект. Бизнес интересен, пока он приносит определенную доходность на вложенный капитал. Постро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на основе решения 1С:Управление производственным предприятием закладывает надежную основу управляемости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апе создания бизнеса (предприятия) необходимо уделить внимание следующим задач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рганизация системы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тановка регламентированн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шение кадрового во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начнем с организации системы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у системы управления составляют устойчивые коммуникации между ключевыми менеджерами, обеспечивающие решение разноплановых задач. Представлены следующие инструменты обмена управленческой информаци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иксация управленческих решений документами информационной базы. Например, достигнутые договоренности с поставщиком в информационной базе фиксируются документом «Заказ поставщику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 оприходовании товаров на склад на его основании создается документ «Поступление товаров и услуг», что показывает взаимосвязь документов регламентированного учета с ранее принятыми и зафиксированными управленческими решен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несение нормативно-справочной информации по объектам учета и взаимодействия обеспечивает удобство создания документов. В нашем примере используются данные справочников «Контрагенты» и «Номенклатура», один из которых представлен на экра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шение обеспечивает широкие возможности задания аналитических разрезов. Например, карточка справочника «Контрагенты» содержит полные контактные данные клиента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рядок ведения учетных действий регламентируется законодательными документами: Налоговым Кодексом РФ (НК РФ), Правилами ведения бухгалтерского учета (ПБУ) и др. Выполнение их требований способствует укреплению экономической безопасности предприятия. 1С:Управление производственным предприятием предостав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ование «зашитых» методик организации учетных действий определяется настройками учетной политики предприятия. Доступны все системы налогообложения и расчеты отдельных видов налог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 фиксации хозяйственных операций используются установленные формы первичных документов. Качественная документация обеспечивает спокойное проведение налоговых провер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 конфигурации представлен полный спектр регламентированной и обязательной отчетности. Все формы регламентированной и обязательной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ладельцу нужно «видеть» весь бизнес, но нет необходимости все в нем контролировать. Достаточно выделить некие «несущие конструкции», каркас бизнеса, и контролировать именно их. 1С:Управление производственным предприятием ранжирует информацию по уровням принятия решений и предлагает пользователю следующие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Задание и отслеживание контрольных показателей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еспечение прозрачности деятельности через контроль информационных пото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втоматизация работы менеджеров с использованием мотивационных механизмов по объективным оценкам достиг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тический баланс и анализ ликвидности и платежеспособ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доходности и рентабельности финансово-хозяйственной деятельности (ФХ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усмотрена настройка вариантов отчета по видам деятельности, по участкам ответственности, под потребности конкретного заинтересованного лица (такого как собственник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50C9-701D-472B-A537-EB1BB25DE331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jpeg"/><Relationship Id="rId20" Type="http://schemas.openxmlformats.org/officeDocument/2006/relationships/image" Target="../media/image51.jpeg"/><Relationship Id="rId21" Type="http://schemas.openxmlformats.org/officeDocument/2006/relationships/image" Target="../media/image52.png"/><Relationship Id="rId22" Type="http://schemas.openxmlformats.org/officeDocument/2006/relationships/image" Target="../media/image53.jpeg"/><Relationship Id="rId23" Type="http://schemas.openxmlformats.org/officeDocument/2006/relationships/image" Target="../media/image54.jpe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jpeg"/><Relationship Id="rId27" Type="http://schemas.openxmlformats.org/officeDocument/2006/relationships/image" Target="../media/image58.png"/><Relationship Id="rId28" Type="http://schemas.openxmlformats.org/officeDocument/2006/relationships/image" Target="../media/image59.jpeg"/><Relationship Id="rId29" Type="http://schemas.openxmlformats.org/officeDocument/2006/relationships/image" Target="../media/image60.png"/><Relationship Id="rId30" Type="http://schemas.openxmlformats.org/officeDocument/2006/relationships/image" Target="../media/image61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Собственника, Акционе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949560"/>
            <a:ext cx="2952720" cy="258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сторожность разумного человек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0" y="1020600"/>
            <a:ext cx="89312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изнес должен быть построен так, чтобы наемные сотрудники не могли увести бизнес собственника, украсть его деньги и имущество. Внедрение информационной системы направлено на повышение исполнительской дисциплины сотрудников через инструменты взаимосвязанного контроля последовательно исполняемых действий и широкую сеть аналитических отче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2852640"/>
          <a:ext cx="74487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7448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78375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нутренний контрол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24000" y="1052640"/>
            <a:ext cx="6408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учение прибыли, рациональная организация денежных потоков и действенная административная структура являются критически важными элементами экономической состоятельности предприятия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ет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4000" y="2478240"/>
            <a:ext cx="73929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блюдение законодательных треб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анные в информационной системе характеризуются надежностью и доступностью для провер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ются условия для внутреннего контроля, формируется прозрачная финансовая сре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тет уровень внутрикорпоративного довер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нижается уровень риск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24000" y="5218200"/>
            <a:ext cx="8597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шение создает добавленную стоимость в стратегическом управлении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284720" y="1982880"/>
            <a:ext cx="4460760" cy="3284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Информация – капитал компани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4000" y="1052640"/>
            <a:ext cx="6480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Информац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 это набор формализованных (структурированных, разложенных по полочкам и имеющих средства для поиска и представления)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знаний бизнеса о самом себе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24000" y="2106720"/>
            <a:ext cx="388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данные являются собственностью компании и хранятся в единой информационной базе в справочниках и документ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3141720"/>
            <a:ext cx="3743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ьзователю предлагаются развитые средства визуального представления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24000" y="3978360"/>
            <a:ext cx="3743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еализована многоуровневая система разграничения прав доступа к информ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4807080"/>
            <a:ext cx="38876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охранность данных обеспечена современной технологической платформой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1С:Предприятие 8.2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использованием известных баз данных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S SQL Server, Oracle Database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286160" y="2612880"/>
            <a:ext cx="4461120" cy="2922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89400" y="2963880"/>
            <a:ext cx="4457880" cy="338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реемственность персонал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24000" y="1087560"/>
            <a:ext cx="6480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риентация на достижение поставленных целей бизнеса, исключение «человеческого» фактора в качестве принимаемых решений, снижение зависимости от ключевых сотрудников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324000" y="2048040"/>
            <a:ext cx="839628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централизация инструментов принятия решений в рамках информационной систем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ламенты, положенные в основу функционирования информационной системы, являются механизмами передачи зн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сутствуют сотрудники — носители уникальных знаний о бизнес-процессах внутри предприятия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ъективность системы мотивации сотрудников через измеряемые параметры результа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личие специалистов требуемой квалификации на рынке по «разумным ценам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методологическая поддержка учетных действий и комплексная система обучения и совершенствования пользователей, предлагаемая вендером —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Фирмой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урс на развитие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24000" y="1071720"/>
            <a:ext cx="65530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Единственный по-настоящем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евосполнимый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есур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для предпринимателя —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это время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. Управление одним бизнесом ограничивает возможности собственника как предпринимателя. Современная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система не должна ставить границ на пути роста. Интеграционные возможност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— это инвестиции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в будущее Вашего предприятия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68320" y="299736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320" y="299736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Специализированные решен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правление холдингом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324000" y="1062000"/>
            <a:ext cx="650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0760" y="6165720"/>
            <a:ext cx="49435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15920" y="2149560"/>
          <a:ext cx="7012080" cy="39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920" y="2149560"/>
                    <a:ext cx="70120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Инвестиционная привлекательность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324000" y="1019160"/>
            <a:ext cx="655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Летит время, Ваши деньги работают, и уже актуальным становится вопрос о выходе на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IPO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— необходима отчетность по международным стандартам. Отчетность по МСФО обеспечивает предприятию следующие конкурентные преимуществ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324000" y="4500720"/>
            <a:ext cx="8424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— это шаг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24000" y="2502000"/>
            <a:ext cx="84247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вестиционную привлекательность на рынке капитала (более выгодные условия привлечения кредитных средств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ход на российские и международные фондовые рын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чение зарубежных инвестиц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-19080"/>
            <a:ext cx="5732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информационную систему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онное обеспечение бизнес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000" y="1305000"/>
            <a:ext cx="8238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человека, вкладывающего собственные средства в любую предпринимательскую деятельность, всегда актуальны следующие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опросы по организации бизнеса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4514760"/>
            <a:ext cx="83534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успешной реализации каждой из этих задач предназначены программные продукты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лагманским решением линейки является конфигурац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знакомимся с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38360" y="249228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249228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36720" y="2679840"/>
          <a:ext cx="168912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267984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22680" y="268128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268128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8640" y="2671920"/>
          <a:ext cx="1689120" cy="114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267192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294600" y="2671920"/>
          <a:ext cx="168876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2671920"/>
                    <a:ext cx="1688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-27360"/>
            <a:ext cx="59770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ост конкурентных преимуществ предприятия</a:t>
            </a:r>
            <a:br>
              <a:rPr sz="2000"/>
            </a:b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Данны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– систем и статистике проектов 1С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792440"/>
          <a:ext cx="8496000" cy="4633920"/>
        </p:xfrm>
        <a:graphic>
          <a:graphicData uri="http://schemas.openxmlformats.org/drawingml/2006/table">
            <a:tbl>
              <a:tblPr/>
              <a:tblGrid>
                <a:gridCol w="6944400"/>
                <a:gridCol w="1551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25360" y="-28440"/>
            <a:ext cx="5808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Факторы, обеспечивающие инвестиционную привлекательность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17520" y="1196640"/>
            <a:ext cx="67658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тратегия компании, бизнес-планы, понятные для инвесторов 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 креди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ая структура корпоративного управления, использующая достоверную и своевременную управленческую информацию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логовая политика и юридическая структура, не создающие повышенные рис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чественная финансовая отчетность, в том числе по международным станд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ытный топ-менеджмен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6107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18960" y="1344600"/>
            <a:ext cx="67741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01680" y="2530440"/>
            <a:ext cx="5994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7048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32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251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257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260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24000" y="932040"/>
            <a:ext cx="655308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357120" y="4462560"/>
            <a:ext cx="37609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356000" y="4451400"/>
            <a:ext cx="4330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…главное — то, что положительные изменения в управлении «ТМС Групп» ощутили на себе наши клиенты. Так, мы установили полный контроль над процессами расчета стоимости услуг и сумели на 60% увеличить скорость обработки документов и формирования документов для предъявления клиентам холдинга.»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324000" y="4005360"/>
            <a:ext cx="3551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Тамара Сергеевна Шушпанова, генеральный директор ЗАО ЦПТ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4376880" y="4005360"/>
            <a:ext cx="442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Виталий Гатауллин, зам. директора по организационному развитию «ТМС Групп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7040" cy="1931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2617560" cy="1928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7164360" y="1844640"/>
            <a:ext cx="1440000" cy="573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3059280" y="1916280"/>
            <a:ext cx="10378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297000" y="1260360"/>
            <a:ext cx="786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го 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2025720"/>
            <a:ext cx="736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85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288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Формирование основных бизнес–процессов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24000" y="1052640"/>
            <a:ext cx="6514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строение бизнеса — это инвестиционный проект, который изначально должен получить гарантии своей исполнимости и способности достижения заданных параметров. Построение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–системы на основе решения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закладывает надежную основу управляемости бизнеса в дальнейшем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2755800"/>
          <a:ext cx="76485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755800"/>
                    <a:ext cx="76485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ЗДАТЬ БИЗНЕС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хема взаимодейств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рганизация системы управления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4000" y="2139840"/>
            <a:ext cx="309564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6160" indent="-1461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иксация управленческих решений документами информационной баз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24000" y="2941560"/>
            <a:ext cx="27352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рганизация взаимосвязанного документооборота управленческого и регламентированн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24000" y="4440240"/>
            <a:ext cx="2840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занесение нормативно-справочной информации по объектам учета и взаимодейств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24000" y="5522760"/>
            <a:ext cx="3087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широкие возможности задания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24000" y="1039680"/>
            <a:ext cx="6480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снову системы управления составляют устойчивые коммуникации между ключевыми менеджерами, обеспечивающие решение разноплановых задач. Инструменты обмена управленческой информацией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5" name="Рисунок 13" descr="Заказ поставщику.PNG"/>
          <p:cNvPicPr/>
          <p:nvPr/>
        </p:nvPicPr>
        <p:blipFill>
          <a:blip r:embed="rId2"/>
          <a:stretch/>
        </p:blipFill>
        <p:spPr>
          <a:xfrm>
            <a:off x="3236760" y="2209680"/>
            <a:ext cx="5510520" cy="35863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26" name="Picture 13" descr="Заказ поставщику_поступление_1"/>
          <p:cNvPicPr/>
          <p:nvPr/>
        </p:nvPicPr>
        <p:blipFill>
          <a:blip r:embed="rId3"/>
          <a:stretch/>
        </p:blipFill>
        <p:spPr>
          <a:xfrm>
            <a:off x="3236760" y="2639880"/>
            <a:ext cx="5504040" cy="34718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35320" y="3092400"/>
            <a:ext cx="5505480" cy="3413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03640" y="3645000"/>
            <a:ext cx="5513400" cy="2609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588000" y="2492280"/>
            <a:ext cx="2160720" cy="1873440"/>
          </a:xfrm>
          <a:prstGeom prst="wedgeRectCallout">
            <a:avLst>
              <a:gd name="adj1" fmla="val -93643"/>
              <a:gd name="adj2" fmla="val -5889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пример, договоренност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 поставщиком фиксируются документом «Заказ поставщику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3141720"/>
            <a:ext cx="2160720" cy="1873080"/>
          </a:xfrm>
          <a:prstGeom prst="wedgeRectCallout">
            <a:avLst>
              <a:gd name="adj1" fmla="val -91439"/>
              <a:gd name="adj2" fmla="val -6957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 оприходовании товаров на склад на его основании создается документ «Поступление товаров и услуг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789360"/>
            <a:ext cx="2160720" cy="1871640"/>
          </a:xfrm>
          <a:prstGeom prst="wedgeRectCallout">
            <a:avLst>
              <a:gd name="adj1" fmla="val -91365"/>
              <a:gd name="adj2" fmla="val -8011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 создании документов используются данные справочников «Контрагенты»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«Номенклатура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437000"/>
            <a:ext cx="2160720" cy="1871640"/>
          </a:xfrm>
          <a:prstGeom prst="wedgeRectCallout">
            <a:avLst>
              <a:gd name="adj1" fmla="val -89601"/>
              <a:gd name="adj2" fmla="val -8325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правочник «Контрагенты» содержит полные контактные данные о клиентах компа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</a:t>
            </a: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7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остановка регламентированного учет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14280" y="4221000"/>
            <a:ext cx="29116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0320" indent="-1303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ный спектр регламентированной и обязательной отчет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14280" y="2492280"/>
            <a:ext cx="283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«зашитых» методик организации учетных действ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14280" y="3573360"/>
            <a:ext cx="3233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становленные формы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4000" y="1039680"/>
            <a:ext cx="6696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рядок ведения учетных действий регламентируется законодательными документами: НК РФ, ПБУ и др. Выполнение их требований способствует укреплению экономической безопасности предприятия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предоставляет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8" name="Рисунок 11" descr="Учетная политика_виды учета.PNG"/>
          <p:cNvPicPr/>
          <p:nvPr/>
        </p:nvPicPr>
        <p:blipFill>
          <a:blip r:embed="rId2"/>
          <a:stretch/>
        </p:blipFill>
        <p:spPr>
          <a:xfrm>
            <a:off x="3492360" y="2395440"/>
            <a:ext cx="5278680" cy="34797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39" name="Рисунок 13" descr="Реализация_форма_1.PNG"/>
          <p:cNvPicPr/>
          <p:nvPr/>
        </p:nvPicPr>
        <p:blipFill>
          <a:blip r:embed="rId3"/>
          <a:stretch/>
        </p:blipFill>
        <p:spPr>
          <a:xfrm>
            <a:off x="3635280" y="2708280"/>
            <a:ext cx="5113440" cy="364320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08720" y="2421000"/>
            <a:ext cx="3238560" cy="3960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732720" y="2781360"/>
            <a:ext cx="2081160" cy="1455840"/>
          </a:xfrm>
          <a:prstGeom prst="wedgeRectCallout">
            <a:avLst>
              <a:gd name="adj1" fmla="val -127115"/>
              <a:gd name="adj2" fmla="val -7148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оступны все системы налогообложения и расчеты отдельных видов налог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4941720"/>
            <a:ext cx="1731960" cy="1455840"/>
          </a:xfrm>
          <a:prstGeom prst="wedgeRectCallout">
            <a:avLst>
              <a:gd name="adj1" fmla="val 86754"/>
              <a:gd name="adj2" fmla="val -7061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081160" cy="1455840"/>
          </a:xfrm>
          <a:prstGeom prst="wedgeRectCallout">
            <a:avLst>
              <a:gd name="adj1" fmla="val -45500"/>
              <a:gd name="adj2" fmla="val -10888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ачественная документация залог спокойствия при налоговой проверк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сновные требован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24000" y="1069920"/>
            <a:ext cx="65530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ладельцу нужно «видеть» весь бизнес, но нет необходимости все в нем контролировать. Достаточно выделить некие «несущие конструкции», каркас бизнеса, и контролировать именно их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нжирует информацию по уровням принятия решений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70828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70828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06560"/>
            <a:ext cx="80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онтрольные показатели бизнес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24000" y="1090440"/>
            <a:ext cx="6540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25440" y="2205000"/>
            <a:ext cx="30322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тический балан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ликвидности и платежеспособ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59240" y="1998720"/>
            <a:ext cx="5379840" cy="2720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457440" y="261792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454560" y="3206880"/>
            <a:ext cx="5384520" cy="221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457440" y="354960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456000" y="399564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5815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розрачность деятель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4000" y="1052640"/>
            <a:ext cx="66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произведенных затрат. Специализированный инструмен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24000" y="2492280"/>
            <a:ext cx="37731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48280" y="2100240"/>
            <a:ext cx="4570200" cy="43261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148280" y="2428920"/>
            <a:ext cx="457020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6659640" y="3068640"/>
            <a:ext cx="2160360" cy="1871640"/>
          </a:xfrm>
          <a:prstGeom prst="wedgeRectCallout">
            <a:avLst>
              <a:gd name="adj1" fmla="val -79902"/>
              <a:gd name="adj2" fmla="val -50509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усмотрена настройка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11:36:12Z</dcterms:modified>
  <cp:revision>909</cp:revision>
  <dc:subject/>
  <dc:title>Слайд 1</dc:title>
</cp:coreProperties>
</file>