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media/image28.png" ContentType="image/png"/>
  <Override PartName="/ppt/media/image27.png" ContentType="image/png"/>
  <Override PartName="/ppt/media/image20.wmf" ContentType="image/x-wmf"/>
  <Override PartName="/ppt/media/image5.jpeg" ContentType="image/jpe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17.wmf" ContentType="image/x-wmf"/>
  <Override PartName="/ppt/media/image30.jpeg" ContentType="image/jpeg"/>
  <Override PartName="/ppt/media/image15.png" ContentType="image/png"/>
  <Override PartName="/ppt/media/image31.jpeg" ContentType="image/jpeg"/>
  <Override PartName="/ppt/media/image25.png" ContentType="image/png"/>
  <Override PartName="/ppt/media/image3.png" ContentType="image/png"/>
  <Override PartName="/ppt/media/image26.png" ContentType="image/png"/>
  <Override PartName="/ppt/media/image18.wmf" ContentType="image/x-wmf"/>
  <Override PartName="/ppt/media/image2.jpeg" ContentType="image/jpeg"/>
  <Override PartName="/ppt/media/image1.jpeg" ContentType="image/jpeg"/>
  <Override PartName="/ppt/media/image10.png" ContentType="image/png"/>
  <Override PartName="/ppt/media/image4.wmf" ContentType="image/x-wmf"/>
  <Override PartName="/ppt/media/image14.png" ContentType="image/png"/>
  <Override PartName="/ppt/media/image16.png" ContentType="image/pn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media/image2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800850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00400" cy="993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2"/>
          </p:nvPr>
        </p:nvSpPr>
        <p:spPr>
          <a:xfrm>
            <a:off x="385452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5480" cy="3724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06120" y="4717800"/>
            <a:ext cx="498780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3"/>
          </p:nvPr>
        </p:nvSpPr>
        <p:spPr>
          <a:xfrm>
            <a:off x="0" y="943452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4"/>
          </p:nvPr>
        </p:nvSpPr>
        <p:spPr>
          <a:xfrm>
            <a:off x="3854520" y="943452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E2B8C-D9DD-4079-BD3D-737FB70556A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06120" y="4717800"/>
            <a:ext cx="498780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ERP-решения Фирмы «1С»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для Коммерческого директор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06120" y="4717800"/>
            <a:ext cx="498780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ля сравнительного анализа запланированных и фактически совершенных продаж служит отчет «План-фактный анализ». Отчет позволяет анализировать данные за любой период в любых комбинациях, например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 за один и тот же период: план с одной периодичностью с планами с другой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 за один и тот же период: план с фактическими продажам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. за различные периоды: план с планам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. за различные периоды: план с фактическими продажам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5. за различные периоды: фактические продажи с фактическими продажам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06120" y="4717800"/>
            <a:ext cx="498780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С:Управление производственным предприятием содержит набор аналитических отчетов, позволяющих коммерческому директору обоснованно принимать управленческие решения и планировать деятельность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 Анализ продаж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 Анализ валовой прибыл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. Анализ заказов покупателей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. Анализ причин закрытия заказов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C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YZ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C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анализ продаж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6. Анализ потребностей в номенклатур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06120" y="4717800"/>
            <a:ext cx="498780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асть отчетов и документов подсистемы управления продажами работает в режиме управляемого приложения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 для удаленного склада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 для менеджеров по продажам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. для топ-менеджеро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бота через Интернет из любой точки мира позволяет выполнять операции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 продаж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 складские операци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. контроль отчето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06120" y="4717800"/>
            <a:ext cx="498780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Важная часть работы коммерческого директора – построение эффективной системы мотивации менеджеров по продажам. Инструменты 1C:Управление производственным предприятием позволяют оценить и сопоставить работу менеджеров, отвечающих за продажи и работу с клиентами, по целому ряду показателей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выполнению плана продаж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по полноте заполнения базы данных контактной информацией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количеству контактов с покупателям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коэффициенту удержания покупателей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количеству выполненных заказов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объемам продаж и принесенной прибыл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Эти оценки могут использоваться для построения объективной системы мотивации персонала, отражающей специфику задач, решаемых различными категориями менеджеро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06120" y="4717800"/>
            <a:ext cx="498780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Эффективная работа с клиентами — один из ключевых факторов повышения рентабельности и надежности бизнеса в условиях высокой конкуренц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С:Управление производственным предприятием включает комплекс средств, позволяющих поставить заботу о клиентах на индустриальную основу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отслеживать каждое обращение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эффективно использовать каждый контакт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строить систему взаимоотношений, оптимально организовывая работу с различными категориями клиенто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Система позволяет оперативно реагировать на запросы клиентов, планировать взаимодействие, оценивать результаты различных маркетинговых и рекламных акций по привлечению клиенто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06120" y="4717800"/>
            <a:ext cx="498780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спользуя подсистему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, удается устранить зависимость от «записей в блокнотах» менеджеров по продажам. Отношения с клиентами становятся достоянием компании, а не конкретных сотрудников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 в любой момент можно получить контактную информацию клиентов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 видеть всю историю взаимоотношений с клиентом, планируемые и фактические сделки, встречи, письма, звонк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. не пропустить важных встреч с клиентами, дней рождения и других знаменательных дат важных клиентов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. получить обратную связь от Ваших клиентов, используя подсистемы анкетирования и почтовых рассылок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5. контролировать работу менеджеро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06120" y="4717800"/>
            <a:ext cx="498780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дсистема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классифицирует покупателей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 по степени важности 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C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классификация клиентов. В основе принципа лежит правило Паретто. Категория А – клиенты, дающие основной доход. По правилу Парето: 20% клиентов дадут 80% объема продаж. Категория В – это те, кто дает 15% и С – 5%. Распределение клиентов по процентам дохода настраивается индивидуально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 по стабильности 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YZ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анализ. Клиенты распределяются по стабильности. Категория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делает закупки ежемесячно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ежегодно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– совершили разовую закупку. Периодичность также настраивается индивидуально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лассификация регулярно обновляется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неджеры по продажам получают сведения о том, с каким типом клиента они общаются и могут оперативно планировать свои трудозатраты на работу с ни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06120" y="4717800"/>
            <a:ext cx="498780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Управление отношениями с покупателями направлено на поддержку организационных мероприятий трансформации потенциальных покупателей  в постоянных клиентов. Работа с клиентом начинается с момента первого контакта (обращения клиента). Разовая покупка должна обеспечивать такой уровень контактов, чтобы сформировать у клиента желание долгосрочного сотрудничества. Инструменты информационной системы, построенной на 1С:Управление производственным предприятием, позволяют отслеживать и объективно оценивать все стадии взаимодействия с клиентом, а в случае неудачного результата – проанализировать причины потери покупателя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06120" y="4717800"/>
            <a:ext cx="498780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Используя удобный эргономичный интерфейс для работы, менеджер продаж имеет возможность быстрее обслуживать клиента, оперативно используя всю информацию, необходимую для определения скидки и выгодной продажи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информация о клиенте, его заказах, товаре, зарезервированном для клиента на складе и в ожидаемых поставках, информация о взаиморасчетах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информация о товаре, его запасах и ожидаемых поставках, фактической и плановой себестоимости и т.п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06120" y="4717800"/>
            <a:ext cx="498780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С:Управление производственным предприятием» позволяет эффективно управлять ценовой политикой предприятия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назначать оптимальные отпускные цены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устанавливать гибкие скидки и наценк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хранить, анализировать и использовать для планирования цены поставщиков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хранить и анализировать цены конкурентов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автоматически формировать прайс-листы с отпускными ценам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06120" y="4717800"/>
            <a:ext cx="498780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Презентация рассказывает об основных инструментах 1С:Управления производственным предприятием, повышающих эффективность работы коммерческого директор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В большинстве организаций в сферу ответственности коммерческого директора попадают такие направления деятельности как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сбыт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маркетинг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снабжени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В каждом направлении есть задачи, в решении которых существенную помощь оказывают системы управления предприятие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06120" y="4717800"/>
            <a:ext cx="498780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Оптимальная цена формируется из анализа цен поставщиков, себестоимости фактической и плановой, цен конкурентов. Все виды цен должны быть предварительно внесены в систему (фактическая себестоимость рассчитывается при регистрации хозяйственных операций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Работая в условиях ограничений с одной стороны закупочными ценами и себестоимостью, а с другой стороны ценами конкурентов, коммерческому директору нужно сформировать оптимальные отпускные цены для разных категорий покупателей, определить систему скидок и надбавок таким образом, что бы работать рентабельно и быть привлекательным поставщиком. Функционал 1С:Управление производственным предприятием помогает в решении этой задач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06120" y="4717800"/>
            <a:ext cx="498780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хема иллюстрирует основные принципы работы с ценами поставщиков и конкуренто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се виды цен фиксируются в разрезе номенклатурных позици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ля поставщиков есть возможность указать тип цены в договоре, после чего в документы товародвижения будет подставляться именно этот тип цен. Он же будет использоваться при планировании поставок от этого поставщик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пособы фиксации цен поставщиков и конкурентов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 цены можно зафиксировать договором, если тот определяет такие условия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 цены можно зафиксировать вводом специального документа – установка цен номенклатуры контрагентов, данный способ используется для регистрации цен конкурентов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. цены можно обновлять пакетно – из поступающих прайс-листов поставщиков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. цены можно обновлять актуальными ценами закупки при поступлении товаро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06120" y="4717800"/>
            <a:ext cx="498780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Для сравнительного анализа отпускных цен предприятия, цен поставщиков и конкурентов предназначается отчет «Анализ цен». Это кросс-таблица с номенклатурными позициями, типами цен и контрагентами, показывающая абсолютные значения и процентными отклонения от цен предприят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Отчет показывает в едином пространстве собранные в системе цены (себестоимость фактическую  и плановую, различные категории цен поставщиков, различные категории отпускных цен компании) и процент отклонений от отпускных цен компан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Анализируя собранную отчетом информацию, служба коммерческого директора может сформировать оптимальные цены – рентабельные и конкурентоспособны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06120" y="4717800"/>
            <a:ext cx="498780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Процесс формирования отпускных цен предприятия строится следующим образом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цены привязываются к единицам номенклатуры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количество типов отпускных цен не ограничиваетс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Например, тип «розничная» назначается для единицы номенклатуры «штука»; тип «мелкооптовая» - на «пачку», а тип «оптовая» - на «ящик»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Типы цен фиксируются в договорах с покупателями, и при оформлении документов продажи нужные цены будут подставляться автоматическ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Типы цен в 1С:Управление производственным предприятием делятся на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базовые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расчетные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динамически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Базовые цены вводятся как абсолютные значения непосредственно в карточки товаров. Динамические цены рассчитываются специальным документом «Установка цен номенклатуры» на основании базовых цен и заданных правил формирования. После расчета они так же хранятся в карточках товаров. Динамические цены рассчитываются подобно расчетным с той разницей, что это происходит непосредственно в момент оформления продаж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Отпускные цены участвуют в анализе цен, на их основании формируются прайс-листы в разрезе товарных или ценовых групп, формируются этикетки и ценники товар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06120" y="4717800"/>
            <a:ext cx="498780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Подсистема управления скидками позволяет реализовать практически любую дисконтную схему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ручные скидк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автоматические скидки по условиям продаж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1. по времен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2. по виду оплаты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3. по сумме документа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4. по количеству товар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автоматические скидки по дисконтным картам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1. фиксированные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2. накопительны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бонусные скидк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06120" y="4717800"/>
            <a:ext cx="498780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Управление процессами закупки в информационной системе, построенной на основе 1С:Управление производственным предприятием, позволит коммерческому директору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обеспечить своевременные поставки ТМЦ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обеспечить производство материалами и сырьем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оптимизировать закупки по ценам и условиям поставк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Подсистема управления закупками обеспечивает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предоставление менеджерам, отвечающим за снабжение, информации, необходимой для своевременного принятия решений о пополнении запасов ТМЦ,  для снижения затрат на закупки и четкой организации взаимодействия с поставщикам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оперативное планирование закупок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оформление заказов поставщикам и контроль их исполнения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поддержку различных схем приема товаров от поставщиков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06120" y="4717800"/>
            <a:ext cx="498780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Наибольшей эффективности управления закупками можно добиться, применяя методику объемно-календарного планирования. 1С:Управление производственным предприятием поддерживает и другие методики, такие как «по точке заказа», «по оплаченным заказам»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Эффективность методики объемно-календарного планирования зависит от полноты и точности данных, внесенных с систему. Данных должно быть больше, чем при других методах планирования, но трудоемкость ввода этих данных окупится повышением эффективности всего процесса закупок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При планировании закупок можно делать поправку на прогнозируемый уровень складских запасов, использовать данные фактических закупок, заказов поставщикам, данные других планов закупок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06120" y="4717800"/>
            <a:ext cx="498780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Процесс объемно-календарного планирования начинается с выбора для расчета источников потребности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Планы продаж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Планы закупок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Заказы покупателей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Внутренние заказы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План производств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В расчет берутся цены и условия доставки товаров поставщиками. Формируется потребности – количество в разрезе номенклатуры. Задача формирования заказов поставщикам решается с помощью календарного плана закупок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Для эффективной работы календарного плана необходимо, что бы каждой номенклатурной позиции был определен менеджер, отвечающий за ее закупку, и каждому контрагенту указан тип цен, надежность поставщика и срок выполнения заказ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06120" y="4717800"/>
            <a:ext cx="498780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неджеры по закупкам распределяют потребности по поставщикам, используя информацию о ценах и условиях поставки, внесенных в систему, и формируют заказ поставщику - предварительную договоренность о приобретении у него товаро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нформация о сформированных заказах используется для планирования закупок и автоматизированного оформления поступлени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едусмотрена интеграция с системами электронного документооборота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I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ля повышения эффективности работы менеджеров по закупкам имеется функция автозаполнения заказа, на основании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 данных о текущих запасах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 заказов покупателей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. внутренних заказов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. сформированных ранее потребностях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06120" y="4717800"/>
            <a:ext cx="498780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ля сравнительного анализа запланированных и фактически произведенных закупок служит отчет «План-фактный анализ». Отчет позволяет анализировать данные за любой период в любых комбинациях, например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 за один и тот же период: план с одной периодичностью с планами с другой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 за один и тот же период: план с фактическими продажам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. за различные периоды: план с планам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. за различные периоды: план с фактическими продажам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5. за различные периоды: фактические продажи с фактическими продажам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06120" y="4717800"/>
            <a:ext cx="498780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С:Управление производственным предприятием – современная инновационная система отечественного производства. Учитывает специфику и особенности основных рынков России, Украины и Казахстана. Максимально адаптирована под требования российских (украинских, казахстанских) предприяти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Применение на предприятии 1С:Управление производственным предприятием повышает эффективность работы службы коммерческого директора за счет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создания единого информационного пространства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автоматизации бизнес-процессов предприятия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оперативного получения данных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обеспечения возможности их регулярного анализ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Позволяет организовать эффективное взаимодействие всех подразделений предприятия. Предоставляет руководителю точную и актуальную информацию о состоянии дел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906120" y="4717800"/>
            <a:ext cx="498780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Часть функций подсистемы управления закупками (как и управления продажами) поддерживает работу через Интернет. Это позволяет в режиме реального времени работать с информационной системой удаленному складу, менеджерам по закупкам и коммерческому директору, находящимся вне офиса. Например, доступны инструменты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Отчет о закупках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Отчет о состоянии складов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Поступление товаров и услуг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Счета на оплату от поставщико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06120" y="4717800"/>
            <a:ext cx="498780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С:Управление производственным предприятием содержит набор аналитических отчетов, позволяющих коммерческому директору обоснованно принимать управленческие решения и планировать деятельность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Анализ заказов поставщикам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Ведомость по заказам поставщикам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Анализ закупок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Анализ кредиторской задолженност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Взаиморасчеты с комитентам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Сверх стандартных отчетов системы есть универсальный конструктор отчетов, используя который, можно получить практически любые данные в любых разрезах без помощи программисто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06120" y="4717800"/>
            <a:ext cx="498780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Специализированный инструмент 1С:Управление производственным предприятием «Монитор эффективности» ориентирован на оперативную оценку ключевых показателей эффективности  работы коммерческим директором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своевременно выявить отклонения от плана, негативную динамику, точки роста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уточнить предоставляемую информацию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использовать комплект показателей эффективности, поставляемый в составе демонстрационной базы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быстро разрабатывать новые показатели эффективности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настроить несколько вариантов отчета по видам деятельности или по участкам ответственност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06120" y="4717800"/>
            <a:ext cx="498780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92929"/>
                </a:solidFill>
                <a:latin typeface="Times New Roman"/>
              </a:rPr>
              <a:t>Локализация под национальные законодательст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Для использования функционала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С:Управление производственным предприятием</a:t>
            </a: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 с учетом законодательства различных стран предназначены локализованные версии для Украины, Казахстана и Беларус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Для англоязычных сотрудников разработана версия с интерфейсом на английском язык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33"/>
                </a:solidFill>
                <a:latin typeface="Times New Roman"/>
              </a:rPr>
              <a:t>Специализированные программные продукт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Функциональные возможности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С:Управление производственным предприятием</a:t>
            </a: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    могут быть расширены за счет интеграции с другими программными продуктами а единой платформе «1С:Предприятие 8»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33"/>
                </a:solidFill>
                <a:latin typeface="Times New Roman"/>
              </a:rPr>
              <a:t>1С:Консолидац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33"/>
                </a:solidFill>
                <a:latin typeface="Times New Roman"/>
              </a:rPr>
              <a:t>1С:Документооборо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33"/>
                </a:solidFill>
                <a:latin typeface="Times New Roman"/>
              </a:rPr>
              <a:t>1С:Управление корпоративными финанс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33"/>
                </a:solidFill>
                <a:latin typeface="Times New Roman"/>
              </a:rPr>
              <a:t>1С:PDM Управление инженерными данны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33"/>
                </a:solidFill>
                <a:latin typeface="Times New Roman"/>
              </a:rPr>
              <a:t>1С:</a:t>
            </a: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MDM</a:t>
            </a:r>
            <a:r>
              <a:rPr b="0" lang="ru-RU" sz="1200" spc="-1" strike="noStrike">
                <a:solidFill>
                  <a:srgbClr val="333333"/>
                </a:solidFill>
                <a:latin typeface="Times New Roman"/>
              </a:rPr>
              <a:t> Управление нормативно-справочной информацие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33"/>
                </a:solidFill>
                <a:latin typeface="Times New Roman"/>
              </a:rPr>
              <a:t>1С:ТОИР Управление ремонтами и обслуживанием оборудования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33"/>
                </a:solidFill>
                <a:latin typeface="Times New Roman"/>
              </a:rPr>
              <a:t>1С:МТО Материально-техническое обеспече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33"/>
                </a:solidFill>
                <a:latin typeface="Times New Roman"/>
              </a:rPr>
              <a:t>1С:Управление проектным офисо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33"/>
                </a:solidFill>
                <a:latin typeface="Times New Roman"/>
              </a:rPr>
              <a:t>1С:Инвентаризация и управление имущество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33"/>
                </a:solidFill>
                <a:latin typeface="Times New Roman"/>
              </a:rPr>
              <a:t>1С:Аренда и управление недвижимостью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33"/>
                </a:solidFill>
                <a:latin typeface="Times New Roman"/>
              </a:rPr>
              <a:t>1С:CRM ПРОФ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33"/>
                </a:solidFill>
                <a:latin typeface="Times New Roman"/>
              </a:rPr>
              <a:t>1С-Логистика:Управление складом (</a:t>
            </a: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WM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33"/>
                </a:solidFill>
                <a:latin typeface="Times New Roman"/>
              </a:rPr>
              <a:t>1С-Логистика:Управление перевозками</a:t>
            </a: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 (TM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33"/>
                </a:solidFill>
                <a:latin typeface="Times New Roman"/>
              </a:rPr>
              <a:t>1С:Управление Автотранспорто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33"/>
                </a:solidFill>
                <a:latin typeface="Times New Roman"/>
              </a:rPr>
              <a:t>1С:Центр спутникового мониторинга ГЛОНАСС/</a:t>
            </a: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G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1</a:t>
            </a:r>
            <a:r>
              <a:rPr b="0" lang="ru-RU" sz="1200" spc="-1" strike="noStrike">
                <a:solidFill>
                  <a:srgbClr val="333333"/>
                </a:solidFill>
                <a:latin typeface="Times New Roman"/>
              </a:rPr>
              <a:t>С:</a:t>
            </a: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ITIL </a:t>
            </a:r>
            <a:r>
              <a:rPr b="0" lang="ru-RU" sz="1200" spc="-1" strike="noStrike">
                <a:solidFill>
                  <a:srgbClr val="333333"/>
                </a:solidFill>
                <a:latin typeface="Times New Roman"/>
              </a:rPr>
              <a:t>Управление информационными технологиями предприят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06120" y="4717800"/>
            <a:ext cx="498780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Существенное сокращение сроков внедрения и снижение совокупной стоимости владения возможно при использовании отраслевых решений, созданных на базе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С:Управление производственным предприятием</a:t>
            </a: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33"/>
                </a:solidFill>
                <a:latin typeface="Times New Roman"/>
              </a:rPr>
              <a:t>1С:Машиностроение программно–методический комплекс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33"/>
                </a:solidFill>
                <a:latin typeface="Times New Roman"/>
              </a:rPr>
              <a:t>1С:Управление проектной организацией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33"/>
                </a:solidFill>
                <a:latin typeface="Times New Roman"/>
              </a:rPr>
              <a:t>1С:Управление строительной организацией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33"/>
                </a:solidFill>
                <a:latin typeface="Times New Roman"/>
              </a:rPr>
              <a:t>1С:Управление ремонтным предприятие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333333"/>
                </a:solidFill>
                <a:latin typeface="Times New Roman"/>
              </a:rPr>
              <a:t>1С:Управление транспортным предприятие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33"/>
                </a:solidFill>
                <a:latin typeface="Times New Roman"/>
              </a:rPr>
              <a:t>1С:Процессное производство. Химия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1С:Горно-добывающая промышленнос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33"/>
                </a:solidFill>
                <a:latin typeface="Times New Roman"/>
              </a:rPr>
              <a:t>1С:Фармпроизводств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33"/>
                </a:solidFill>
                <a:latin typeface="Times New Roman"/>
              </a:rPr>
              <a:t>1С:Управление сельскохозяйственным предприятием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33"/>
                </a:solidFill>
                <a:latin typeface="Times New Roman"/>
              </a:rPr>
              <a:t>1С:Управление птицефабрикой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33"/>
                </a:solidFill>
                <a:latin typeface="Times New Roman"/>
              </a:rPr>
              <a:t>1С:Спиртовое производств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33"/>
                </a:solidFill>
                <a:latin typeface="Times New Roman"/>
              </a:rPr>
              <a:t>1С:Ликероводочный и винный завод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33"/>
                </a:solidFill>
                <a:latin typeface="Times New Roman"/>
              </a:rPr>
              <a:t>1С:Пиво-безалкогольный комбина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1С:Рыбопереработ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33"/>
                </a:solidFill>
                <a:latin typeface="Times New Roman"/>
              </a:rPr>
              <a:t>1С:Лесозаво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33"/>
                </a:solidFill>
                <a:latin typeface="Times New Roman"/>
              </a:rPr>
              <a:t>1С:Молокозавод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33"/>
                </a:solidFill>
                <a:latin typeface="Times New Roman"/>
              </a:rPr>
              <a:t>1С:Мясокомбина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33"/>
                </a:solidFill>
                <a:latin typeface="Times New Roman"/>
              </a:rPr>
              <a:t>1С:Управление мукомольно-крупяным предприятие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33"/>
                </a:solidFill>
                <a:latin typeface="Times New Roman"/>
              </a:rPr>
              <a:t>1С:Хлебобулочное и кондитерское производств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33"/>
                </a:solidFill>
                <a:latin typeface="Times New Roman"/>
              </a:rPr>
              <a:t>1С:Полиграф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33"/>
                </a:solidFill>
                <a:latin typeface="Times New Roman"/>
              </a:rPr>
              <a:t>1С:Девелопмент и управление недвижимостью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33"/>
                </a:solidFill>
                <a:latin typeface="Times New Roman"/>
              </a:rPr>
              <a:t>1С:Риэлтор. Управление продажами недвижим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33"/>
                </a:solidFill>
                <a:latin typeface="Times New Roman"/>
              </a:rPr>
              <a:t>1С:Энергетика. Управление распределительной сетевой компание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33"/>
                </a:solidFill>
                <a:latin typeface="Times New Roman"/>
              </a:rPr>
              <a:t>1С:Управление теплосетью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33"/>
                </a:solidFill>
                <a:latin typeface="Times New Roman"/>
              </a:rPr>
              <a:t>1С:Управление водоканало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33"/>
                </a:solidFill>
                <a:latin typeface="Times New Roman"/>
              </a:rPr>
              <a:t>1С:Управление предприятием ЖК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33"/>
                </a:solidFill>
                <a:latin typeface="Times New Roman"/>
              </a:rPr>
              <a:t>1С:Управление переработкой отходов и вторсырь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33"/>
                </a:solidFill>
                <a:latin typeface="Times New Roman"/>
              </a:rPr>
              <a:t>1С:Комбинат ЖБ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06120" y="4717800"/>
            <a:ext cx="498780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ля предприятий, расширяющих рынки и каналы сбыта, увеличивающих и обновляющих ассортимент продукции, внедрение эффективной системы управления продажами становится рано или поздно необходимым организационным изменение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дсистема управления продажами обеспечивает сквозную автоматизацию процесса продаж продукции и товаров на производственном предприятии, в оптовой и розничной торговле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дсистема включает средства планирования и контроля продаж, позволяет решать задачи управления заказами покупателей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едставлены функциональные модули управления сбытом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 Управление оптовыми продажам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 Управление отношениями с покупателями  (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. Управление комиссионной торговлей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. Управление розничной торговлей (включая подключение торгового оборудования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06120" y="4717800"/>
            <a:ext cx="498780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дсистема планирования продаж реализует два основных принципа планирования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 «снизу-вверх»м - от детальных планов, создаваемых отдельными менеджерами по «своим» номенклатурным позициям, к агрегированным планам. Созданные планы объединяются по подразделениям, укрупняются по номенклатурным группам и образуют укрупненные планы продаж по номенклатурным группа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 «сверху-вниз» - способ планирования, основанный на детализации предварительно созданных укрупненных планов до номенклатурных позиций, используется многими производственными и торговыми компаниям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ланирование производится в разрезе сценариев, например, сценарий «оптимистичный», или «при заключении госконтракта» и т.п. Такое деление на сценарии позволяет создать несколько планов продаж, проводить их сравнительный анализ и выбрать основной рабочий план продаж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ля выбранного сценария создается укрупненный план продаж, в котором фигурируют номенклатурные группы и суммы продаж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зданный план, например, на квартал «спускается» на менеджеров отделов продаж, которые формируют уточненные планы продаж на каждый месяц в разрезе номенклатуры и количества. При необходимости в укрупненный план продаж вносятся корректив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товый план принимается к исполнению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06120" y="4717800"/>
            <a:ext cx="498780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Для автоматизированного формирования на основании укрупненного плана продаж детальных планов служит «Помощник планирования»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Он помогает детализировать показатели укрупненного плана на номенклатурные позиции и количество с учетом сезонности продаж, значимости товара в номенклатурной группе, позволяет задавать различные стратегии расчета количества номенклатуры и сумм продаж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06120" y="4717800"/>
            <a:ext cx="498780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Как правило (если речь не идет о розничных компаниях или компаниях, работающих на рынке услуг) большую часть оборота составляют оптовые продажи. Есть все, что необходимо для эффективного выполнения плана продаж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удобный интуитивно понятный интерфейс пользователя позволяет быстро оформить продажу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гибкий механизм настройки контроля предоплаты позволяет реализовать любую схему взаимоотношений с покупателями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продажи за наличный и безналичный расчет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товарный кредит и кредитные линии контрагентов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заказы покупателей для  гарантии поставок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резервирование складских остатков и ожидаемых поступлений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 своевременное оформление заказов поставщикам и на производство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06120" y="4717800"/>
            <a:ext cx="498780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С:Управление производственным предприятием содержит функциональные модули для автоматизации процессов комиссионной торговли и взаимоотношений предприятия с комитентами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автоматическое заполнение отчетов комитентам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расчет комиссионного вознаграждения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инвентаризация и переоценка комиссионных товаро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06120" y="4717800"/>
            <a:ext cx="498780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С:Управление производственным предприятием позволяет автоматизировать работу подразделений, занимающихся розничной торговлей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торговые залы в офисах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розничные магазин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Подсистема позволяет вести учет как торговых точек, ведущих количественный товарный учет, так и удаленных точек, ведущих только суммовой учет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Поддержка широкого спектра электронного торгового оборудования. Для интенсивной розничной торговли с особыми требованиями к эргономике рабочего места кассира — интеграция со специализированной системой автоматизации розничной торговли «1С:Розница 8»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5301720"/>
            <a:ext cx="814392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5301720"/>
            <a:ext cx="814392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5301720"/>
            <a:ext cx="814392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5301720"/>
            <a:ext cx="814392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01720"/>
            <a:ext cx="814392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5301720"/>
            <a:ext cx="814392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5301720"/>
            <a:ext cx="814392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5301720"/>
            <a:ext cx="8143920" cy="40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01720"/>
            <a:ext cx="814392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01720"/>
            <a:ext cx="814392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301720"/>
            <a:ext cx="814392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5301720"/>
            <a:ext cx="814392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5301720"/>
            <a:ext cx="814392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5301720"/>
            <a:ext cx="814392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5301720"/>
            <a:ext cx="814392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01720"/>
            <a:ext cx="814392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5301720"/>
            <a:ext cx="814392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01720"/>
            <a:ext cx="814392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5301720"/>
            <a:ext cx="8143920" cy="40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5301720"/>
            <a:ext cx="814392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5301720"/>
            <a:ext cx="814392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5301720"/>
            <a:ext cx="814392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8120" y="0"/>
            <a:ext cx="5808600" cy="90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23640" y="1196640"/>
            <a:ext cx="655308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lvl="1" marL="136440" indent="-135000"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lvl="2" marL="264960" indent="-126720"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8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lvl="3" marL="568440"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Font typeface="Times New Roman"/>
              <a:buChar char="▪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lvl="4" marL="747720"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Font typeface="Arial"/>
              <a:buChar char="∙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lvl="5" marL="747720">
              <a:spcBef>
                <a:spcPts val="400"/>
              </a:spcBef>
              <a:spcAft>
                <a:spcPts val="1001"/>
              </a:spcAft>
              <a:buClr>
                <a:srgbClr val="5f0000"/>
              </a:buClr>
              <a:buFont typeface="Arial"/>
              <a:buChar char="∙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lvl="6" marL="747720">
              <a:spcBef>
                <a:spcPts val="400"/>
              </a:spcBef>
              <a:spcAft>
                <a:spcPts val="1001"/>
              </a:spcAft>
              <a:buClr>
                <a:srgbClr val="5f0000"/>
              </a:buClr>
              <a:buFont typeface="Arial"/>
              <a:buChar char="∙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1068480" y="-1440"/>
            <a:ext cx="9360" cy="763560"/>
            <a:chOff x="1068480" y="-1440"/>
            <a:chExt cx="9360" cy="763560"/>
          </a:xfrm>
        </p:grpSpPr>
        <p:sp>
          <p:nvSpPr>
            <p:cNvPr id="3" name=""/>
            <p:cNvSpPr/>
            <p:nvPr/>
          </p:nvSpPr>
          <p:spPr>
            <a:xfrm>
              <a:off x="1068480" y="-1440"/>
              <a:ext cx="0" cy="763560"/>
            </a:xfrm>
            <a:prstGeom prst="line">
              <a:avLst/>
            </a:prstGeom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f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1077840" y="-1440"/>
              <a:ext cx="0" cy="7635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f0000"/>
                </a:solidFill>
                <a:latin typeface="Times New Roman"/>
              </a:endParaRPr>
            </a:p>
          </p:txBody>
        </p:sp>
      </p:grpSp>
      <p:sp>
        <p:nvSpPr>
          <p:cNvPr id="5" name=""/>
          <p:cNvSpPr/>
          <p:nvPr/>
        </p:nvSpPr>
        <p:spPr>
          <a:xfrm>
            <a:off x="8256600" y="6499080"/>
            <a:ext cx="750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DF4AA-7A7A-4C01-B6BA-19D6C25E2118}" type="slidenum">
              <a:rPr b="1" lang="ru-RU" sz="2000" spc="-1" strike="noStrike">
                <a:solidFill>
                  <a:srgbClr val="cc3300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-360" y="6622920"/>
            <a:ext cx="8172360" cy="2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8823240" y="5303880"/>
            <a:ext cx="7920" cy="1553760"/>
            <a:chOff x="8823240" y="5303880"/>
            <a:chExt cx="7920" cy="1553760"/>
          </a:xfrm>
        </p:grpSpPr>
        <p:sp>
          <p:nvSpPr>
            <p:cNvPr id="44" name=""/>
            <p:cNvSpPr/>
            <p:nvPr/>
          </p:nvSpPr>
          <p:spPr>
            <a:xfrm>
              <a:off x="8823240" y="5303880"/>
              <a:ext cx="0" cy="1553760"/>
            </a:xfrm>
            <a:prstGeom prst="line">
              <a:avLst/>
            </a:prstGeom>
            <a:ln w="648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f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8831160" y="5303880"/>
              <a:ext cx="0" cy="155376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f0000"/>
                </a:solidFill>
                <a:latin typeface="Times New Roman"/>
              </a:endParaRPr>
            </a:p>
          </p:txBody>
        </p:sp>
      </p:grp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5301720"/>
            <a:ext cx="814392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lvl="1" marL="1440" indent="0" algn="ctr"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lvl="2" marL="138240" algn="ctr">
              <a:spcBef>
                <a:spcPts val="400"/>
              </a:spcBef>
              <a:spcAft>
                <a:spcPts val="400"/>
              </a:spcAft>
              <a:buClr>
                <a:srgbClr val="cc0000"/>
              </a:buClr>
              <a:buSzPct val="8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lvl="3" marL="568440" algn="ctr">
              <a:spcBef>
                <a:spcPts val="400"/>
              </a:spcBef>
              <a:spcAft>
                <a:spcPts val="400"/>
              </a:spcAft>
              <a:buClr>
                <a:srgbClr val="cc0000"/>
              </a:buClr>
              <a:buFont typeface="Times New Roman"/>
              <a:buChar char="▪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b0917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5b0917"/>
              </a:solidFill>
              <a:latin typeface="Arial"/>
            </a:endParaRPr>
          </a:p>
          <a:p>
            <a:pPr lvl="4" marL="747720" algn="ctr">
              <a:spcBef>
                <a:spcPts val="349"/>
              </a:spcBef>
              <a:buClr>
                <a:srgbClr val="cc0000"/>
              </a:buClr>
              <a:buFont typeface="Arial"/>
              <a:buChar char="∙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0917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5b0917"/>
              </a:solidFill>
              <a:latin typeface="Arial"/>
            </a:endParaRPr>
          </a:p>
          <a:p>
            <a:pPr lvl="5" marL="747720">
              <a:spcBef>
                <a:spcPts val="349"/>
              </a:spcBef>
              <a:buClr>
                <a:srgbClr val="5f0000"/>
              </a:buClr>
              <a:buFont typeface="Arial"/>
              <a:buChar char="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0917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5b0917"/>
              </a:solidFill>
              <a:latin typeface="Arial"/>
            </a:endParaRPr>
          </a:p>
          <a:p>
            <a:pPr lvl="6" marL="747720">
              <a:spcBef>
                <a:spcPts val="349"/>
              </a:spcBef>
              <a:buClr>
                <a:srgbClr val="5f0000"/>
              </a:buClr>
              <a:buFont typeface="Arial"/>
              <a:buChar char="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0917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5b091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5.png"/><Relationship Id="rId11" Type="http://schemas.openxmlformats.org/officeDocument/2006/relationships/image" Target="../media/image15.png"/><Relationship Id="rId12" Type="http://schemas.openxmlformats.org/officeDocument/2006/relationships/slideLayout" Target="../slideLayouts/slideLayout3.xml"/><Relationship Id="rId1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4.wm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5301720"/>
            <a:ext cx="814392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0000"/>
                </a:solidFill>
                <a:latin typeface="Arial"/>
              </a:rPr>
              <a:t>ERP-решения Фирмы «1С»</a:t>
            </a:r>
            <a:br>
              <a:rPr sz="2400"/>
            </a:br>
            <a:r>
              <a:rPr b="1" lang="en-US" sz="2400" spc="-1" strike="noStrike">
                <a:solidFill>
                  <a:srgbClr val="5f0000"/>
                </a:solidFill>
                <a:latin typeface="Arial"/>
              </a:rPr>
              <a:t>для Коммерческого директора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0" y="3860640"/>
            <a:ext cx="3670200" cy="272124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5821200" y="6381720"/>
            <a:ext cx="3024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0000"/>
                </a:solidFill>
                <a:latin typeface="Arial"/>
              </a:rPr>
              <a:t>Редакция 1.3</a:t>
            </a:r>
            <a:endParaRPr b="0" lang="en-US" sz="2000" spc="-1" strike="noStrike">
              <a:solidFill>
                <a:srgbClr val="5f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8120" y="0"/>
            <a:ext cx="5808600" cy="90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План-фактный анализ продаж</a:t>
            </a: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324000" y="1268280"/>
            <a:ext cx="648144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8120" y="0"/>
            <a:ext cx="5808600" cy="90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Анализ продаж</a:t>
            </a: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23640" y="1196640"/>
            <a:ext cx="655308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1С:Управление производственным предприятием содержит набор аналитических отчетов, позволяющих коммерческому директору обоснованно принимать управленческие решения и планировать деятельность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lvl="1" marL="136440" indent="-135000">
              <a:spcBef>
                <a:spcPts val="400"/>
              </a:spcBef>
              <a:spcAft>
                <a:spcPts val="601"/>
              </a:spcAft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Анализ продаж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lvl="1" marL="136440" indent="-135000">
              <a:spcBef>
                <a:spcPts val="400"/>
              </a:spcBef>
              <a:spcAft>
                <a:spcPts val="601"/>
              </a:spcAft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Анализ валовой прибыли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lvl="1" marL="136440" indent="-135000">
              <a:spcBef>
                <a:spcPts val="400"/>
              </a:spcBef>
              <a:spcAft>
                <a:spcPts val="601"/>
              </a:spcAft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Анализ заказов покупателей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lvl="1" marL="136440" indent="-135000">
              <a:spcBef>
                <a:spcPts val="400"/>
              </a:spcBef>
              <a:spcAft>
                <a:spcPts val="601"/>
              </a:spcAft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Анализ причин закрытия заказов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lvl="1" marL="136440" indent="-135000">
              <a:spcBef>
                <a:spcPts val="400"/>
              </a:spcBef>
              <a:spcAft>
                <a:spcPts val="601"/>
              </a:spcAft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ABC </a:t>
            </a: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и </a:t>
            </a: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XYZ/ABC </a:t>
            </a: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анализ продаж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lvl="1" marL="136440" indent="-135000">
              <a:spcBef>
                <a:spcPts val="400"/>
              </a:spcBef>
              <a:spcAft>
                <a:spcPts val="601"/>
              </a:spcAft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Анализ потребностей в </a:t>
            </a:r>
            <a:br>
              <a:rPr sz="1600"/>
            </a:b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номенклатуре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lvl="1" marL="136440" indent="0">
              <a:spcBef>
                <a:spcPts val="4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4427640" y="2492280"/>
            <a:ext cx="4284720" cy="385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8120" y="0"/>
            <a:ext cx="5808600" cy="90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WEB-</a:t>
            </a: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доступ</a:t>
            </a: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23640" y="1196640"/>
            <a:ext cx="655308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Часть отчетов и документов подсистемы управления продажами работает в режиме управляемого приложения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lvl="1" marL="136440" indent="-135000">
              <a:spcBef>
                <a:spcPts val="400"/>
              </a:spcBef>
              <a:spcAft>
                <a:spcPts val="601"/>
              </a:spcAft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Для удаленного склада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lvl="1" marL="136440" indent="-135000">
              <a:spcBef>
                <a:spcPts val="400"/>
              </a:spcBef>
              <a:spcAft>
                <a:spcPts val="601"/>
              </a:spcAft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Для менеджеров по </a:t>
            </a:r>
            <a:br>
              <a:rPr sz="1600"/>
            </a:b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продажам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lvl="1" marL="136440" indent="-135000">
              <a:spcBef>
                <a:spcPts val="400"/>
              </a:spcBef>
              <a:spcAft>
                <a:spcPts val="601"/>
              </a:spcAft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Для топ-менеджеров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Работа через Интернет</a:t>
            </a:r>
            <a:br>
              <a:rPr sz="1600"/>
            </a:b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из любой точки мира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lvl="1" marL="136440" indent="-135000">
              <a:spcBef>
                <a:spcPts val="400"/>
              </a:spcBef>
              <a:spcAft>
                <a:spcPts val="601"/>
              </a:spcAft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Продажи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lvl="1" marL="136440" indent="-135000">
              <a:spcBef>
                <a:spcPts val="400"/>
              </a:spcBef>
              <a:spcAft>
                <a:spcPts val="601"/>
              </a:spcAft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Складские операции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lvl="1" marL="136440" indent="-135000">
              <a:spcBef>
                <a:spcPts val="400"/>
              </a:spcBef>
              <a:spcAft>
                <a:spcPts val="601"/>
              </a:spcAft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Контроль отчетов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3276720" y="2133720"/>
            <a:ext cx="5445000" cy="42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8120" y="0"/>
            <a:ext cx="5808600" cy="90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Контроль и оценка работы менеджеров</a:t>
            </a: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23640" y="1196640"/>
            <a:ext cx="655308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1C:Управление производственным предприятием </a:t>
            </a:r>
            <a:br>
              <a:rPr sz="1600"/>
            </a:b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позволяет оценить и сопоставить работу менеджеров, </a:t>
            </a:r>
            <a:br>
              <a:rPr sz="1600"/>
            </a:b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отвечающих за продажи и работу с клиентами, </a:t>
            </a:r>
            <a:br>
              <a:rPr sz="1600"/>
            </a:b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по целому ряду показателей: 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lvl="1" marL="136440" indent="-135000">
              <a:lnSpc>
                <a:spcPct val="90000"/>
              </a:lnSpc>
              <a:spcBef>
                <a:spcPts val="400"/>
              </a:spcBef>
              <a:spcAft>
                <a:spcPts val="601"/>
              </a:spcAft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выполнению плана продаж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lvl="1" marL="136440" indent="-135000">
              <a:lnSpc>
                <a:spcPct val="90000"/>
              </a:lnSpc>
              <a:spcBef>
                <a:spcPts val="400"/>
              </a:spcBef>
              <a:spcAft>
                <a:spcPts val="601"/>
              </a:spcAft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по полноте заполнения базы</a:t>
            </a:r>
            <a:br>
              <a:rPr sz="1600"/>
            </a:b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данных</a:t>
            </a: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контактной информацией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lvl="1" marL="136440" indent="-135000">
              <a:lnSpc>
                <a:spcPct val="90000"/>
              </a:lnSpc>
              <a:spcBef>
                <a:spcPts val="400"/>
              </a:spcBef>
              <a:spcAft>
                <a:spcPts val="601"/>
              </a:spcAft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количеству контактов с </a:t>
            </a:r>
            <a:br>
              <a:rPr sz="1600"/>
            </a:b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покупателями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lvl="1" marL="136440" indent="-135000">
              <a:lnSpc>
                <a:spcPct val="90000"/>
              </a:lnSpc>
              <a:spcBef>
                <a:spcPts val="400"/>
              </a:spcBef>
              <a:spcAft>
                <a:spcPts val="601"/>
              </a:spcAft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коэффициенту удержания</a:t>
            </a:r>
            <a:br>
              <a:rPr sz="1600"/>
            </a:b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покупателей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lvl="1" marL="136440" indent="-135000">
              <a:lnSpc>
                <a:spcPct val="90000"/>
              </a:lnSpc>
              <a:spcBef>
                <a:spcPts val="400"/>
              </a:spcBef>
              <a:spcAft>
                <a:spcPts val="601"/>
              </a:spcAft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количеству выполненных заказов, </a:t>
            </a:r>
            <a:br>
              <a:rPr sz="1600"/>
            </a:b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объемам продаж и принесенной прибыли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i="1" lang="ru-RU" sz="1600" spc="-1" strike="noStrike">
                <a:solidFill>
                  <a:srgbClr val="1c1c1c"/>
                </a:solidFill>
                <a:latin typeface="Arial"/>
              </a:rPr>
              <a:t>Эти оценки могут использоваться для построения объективной системы мотивации персонала, отражающей специфику задач, решаемых различными категориями менеджеров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5651640" y="1916280"/>
            <a:ext cx="313200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8120" y="0"/>
            <a:ext cx="5808600" cy="90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Управление отношениями с клиентами (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CRM</a:t>
            </a: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23640" y="1196640"/>
            <a:ext cx="655308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Эффективная работа с клиентами — один из ключевых факторов повышения рентабельности и надежности бизнеса в условиях высокой конкуренции.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1С:Управление производственным предприятием включает комплекс средств, позволяющих поставить заботу о клиентах на индустриальную основу: 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lvl="1" marL="136440" indent="-135000">
              <a:spcBef>
                <a:spcPts val="400"/>
              </a:spcBef>
              <a:spcAft>
                <a:spcPts val="601"/>
              </a:spcAft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отслеживать каждое обращение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lvl="1" marL="136440" indent="-135000">
              <a:spcBef>
                <a:spcPts val="400"/>
              </a:spcBef>
              <a:spcAft>
                <a:spcPts val="601"/>
              </a:spcAft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эффективно использовать каждый контакт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lvl="1" marL="136440" indent="-135000">
              <a:spcBef>
                <a:spcPts val="400"/>
              </a:spcBef>
              <a:spcAft>
                <a:spcPts val="601"/>
              </a:spcAft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строить систему взаимоотношений, оптимально организовывая работу с различными категориями клиентов.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Система позволяет оперативно реагировать на запросы клиентов, четко планировать взаимодействие с ними, оценивать результаты различных маркетинговых и рекламных акций по привлечению клиентов.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8120" y="0"/>
            <a:ext cx="5808600" cy="90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Использование 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CRM</a:t>
            </a: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23640" y="1196640"/>
            <a:ext cx="655308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Используя подсистему </a:t>
            </a: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CRM</a:t>
            </a: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,</a:t>
            </a: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Вы не будете зависеть от «записей в блокнотах» менеджеров по продажам. Отношения с клиентами станут достоянием компании, а не конкретных сотрудников.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Вы сможете: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lvl="1" marL="136440" indent="-135000">
              <a:spcBef>
                <a:spcPts val="400"/>
              </a:spcBef>
              <a:spcAft>
                <a:spcPts val="601"/>
              </a:spcAft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В любой момент получить контактную информацию клиентов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lvl="1" marL="136440" indent="-135000">
              <a:spcBef>
                <a:spcPts val="400"/>
              </a:spcBef>
              <a:spcAft>
                <a:spcPts val="601"/>
              </a:spcAft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Видеть всю историю взаимоотношений с клиентом, планируемые и фактические сделки, встречи, письма, звонки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lvl="1" marL="136440" indent="-135000">
              <a:spcBef>
                <a:spcPts val="400"/>
              </a:spcBef>
              <a:spcAft>
                <a:spcPts val="601"/>
              </a:spcAft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Не пропустите важных встреч с клиентами, дней рождения и других знаменательных дат важных клиентов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lvl="1" marL="136440" indent="-135000">
              <a:spcBef>
                <a:spcPts val="400"/>
              </a:spcBef>
              <a:spcAft>
                <a:spcPts val="601"/>
              </a:spcAft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Получить обратную связь от Ваших клиентов, используя подсистемы анкетирования и почтовых рассылок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lvl="1" marL="136440" indent="-135000">
              <a:spcBef>
                <a:spcPts val="400"/>
              </a:spcBef>
              <a:spcAft>
                <a:spcPts val="601"/>
              </a:spcAft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Контролировать работу менеджеров и построить систему мотивации, основанную на оценке качества работы с клиентами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8120" y="0"/>
            <a:ext cx="5808600" cy="90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Классификация покупателей</a:t>
            </a: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23640" y="1196640"/>
            <a:ext cx="655308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Подсистема </a:t>
            </a: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CRM </a:t>
            </a: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1С:Управления производственным предприятием классифицирует покупателей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lvl="1" marL="136440" indent="-135000">
              <a:spcBef>
                <a:spcPts val="400"/>
              </a:spcBef>
              <a:spcAft>
                <a:spcPts val="601"/>
              </a:spcAft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По степени важности – </a:t>
            </a: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ABC</a:t>
            </a: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-классификация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lvl="1" marL="136440" indent="-135000">
              <a:spcBef>
                <a:spcPts val="400"/>
              </a:spcBef>
              <a:spcAft>
                <a:spcPts val="601"/>
              </a:spcAft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По стабильности – </a:t>
            </a: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XYZ</a:t>
            </a: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-анализ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Классификация регулярно обновляется в соответствии с развитием истории взаимоотношений с клиентом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468360" y="3284640"/>
            <a:ext cx="6143400" cy="300024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3635280" y="3284640"/>
            <a:ext cx="514836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480960" y="1282680"/>
            <a:ext cx="8182080" cy="498492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77480" y="-360"/>
            <a:ext cx="579924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Управление отношениями</a:t>
            </a:r>
            <a:br>
              <a:rPr sz="2000"/>
            </a:b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с клиентами</a:t>
            </a: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1068480" y="-1440"/>
            <a:ext cx="9360" cy="763560"/>
            <a:chOff x="1068480" y="-1440"/>
            <a:chExt cx="9360" cy="763560"/>
          </a:xfrm>
        </p:grpSpPr>
        <p:sp>
          <p:nvSpPr>
            <p:cNvPr id="137" name=""/>
            <p:cNvSpPr/>
            <p:nvPr/>
          </p:nvSpPr>
          <p:spPr>
            <a:xfrm>
              <a:off x="1068480" y="-1440"/>
              <a:ext cx="0" cy="763560"/>
            </a:xfrm>
            <a:prstGeom prst="line">
              <a:avLst/>
            </a:prstGeom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f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077840" y="-1440"/>
              <a:ext cx="0" cy="7635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f0000"/>
                </a:solidFill>
                <a:latin typeface="Times New Roman"/>
              </a:endParaRPr>
            </a:p>
          </p:txBody>
        </p:sp>
      </p:grpSp>
      <p:pic>
        <p:nvPicPr>
          <p:cNvPr id="139" name="" descr=""/>
          <p:cNvPicPr/>
          <p:nvPr/>
        </p:nvPicPr>
        <p:blipFill>
          <a:blip r:embed="rId3"/>
          <a:srcRect l="-346" t="0" r="56579" b="86185"/>
          <a:stretch/>
        </p:blipFill>
        <p:spPr>
          <a:xfrm>
            <a:off x="452520" y="1282680"/>
            <a:ext cx="3581280" cy="68904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4"/>
          <a:srcRect l="17577" t="13761" r="37486" b="77965"/>
          <a:stretch/>
        </p:blipFill>
        <p:spPr>
          <a:xfrm>
            <a:off x="1919160" y="1968480"/>
            <a:ext cx="3676680" cy="41292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5"/>
          <a:srcRect l="37019" t="35796" r="22818" b="55230"/>
          <a:stretch/>
        </p:blipFill>
        <p:spPr>
          <a:xfrm>
            <a:off x="3510000" y="3067200"/>
            <a:ext cx="3286080" cy="44748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6"/>
          <a:srcRect l="48547" t="44523" r="-346" b="4207"/>
          <a:stretch/>
        </p:blipFill>
        <p:spPr>
          <a:xfrm>
            <a:off x="4452840" y="3502080"/>
            <a:ext cx="4238640" cy="255600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7"/>
          <a:srcRect l="-268" t="76504" r="56755" b="9687"/>
          <a:stretch/>
        </p:blipFill>
        <p:spPr>
          <a:xfrm>
            <a:off x="458640" y="5095800"/>
            <a:ext cx="3560760" cy="68904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8"/>
          <a:srcRect l="-1162" t="66117" r="51225" b="23411"/>
          <a:stretch/>
        </p:blipFill>
        <p:spPr>
          <a:xfrm>
            <a:off x="385920" y="4581360"/>
            <a:ext cx="4086000" cy="522360"/>
          </a:xfrm>
          <a:prstGeom prst="rect">
            <a:avLst/>
          </a:prstGeom>
          <a:ln w="0">
            <a:noFill/>
          </a:ln>
        </p:spPr>
      </p:pic>
      <p:grpSp>
        <p:nvGrpSpPr>
          <p:cNvPr id="145" name=""/>
          <p:cNvGrpSpPr/>
          <p:nvPr/>
        </p:nvGrpSpPr>
        <p:grpSpPr>
          <a:xfrm>
            <a:off x="1566720" y="5783400"/>
            <a:ext cx="5029200" cy="574560"/>
            <a:chOff x="1566720" y="5783400"/>
            <a:chExt cx="5029200" cy="574560"/>
          </a:xfrm>
        </p:grpSpPr>
        <p:pic>
          <p:nvPicPr>
            <p:cNvPr id="146" name="" descr=""/>
            <p:cNvPicPr/>
            <p:nvPr/>
          </p:nvPicPr>
          <p:blipFill>
            <a:blip r:embed="rId9"/>
            <a:srcRect l="23439" t="95642" r="25263" b="-181"/>
            <a:stretch/>
          </p:blipFill>
          <p:spPr>
            <a:xfrm>
              <a:off x="2398680" y="6049800"/>
              <a:ext cx="4197240" cy="22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" descr=""/>
            <p:cNvPicPr/>
            <p:nvPr/>
          </p:nvPicPr>
          <p:blipFill>
            <a:blip r:embed="rId10"/>
            <a:srcRect l="13271" t="90289" r="76256" b="-1805"/>
            <a:stretch/>
          </p:blipFill>
          <p:spPr>
            <a:xfrm>
              <a:off x="1566720" y="5783400"/>
              <a:ext cx="857520" cy="5745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48" name="" descr=""/>
          <p:cNvPicPr/>
          <p:nvPr/>
        </p:nvPicPr>
        <p:blipFill>
          <a:blip r:embed="rId11"/>
          <a:srcRect l="17577" t="22005" r="37486" b="64210"/>
          <a:stretch/>
        </p:blipFill>
        <p:spPr>
          <a:xfrm>
            <a:off x="1920960" y="2381400"/>
            <a:ext cx="3676680" cy="68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500"/>
                            </p:stCondLst>
                            <p:childTnLst>
                              <p:par>
                                <p:cTn id="9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68120" y="0"/>
            <a:ext cx="5808600" cy="90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Рабочее место менеджера продаж</a:t>
            </a: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50920" y="1125000"/>
            <a:ext cx="864216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Используя удобный эргономичный интерфейс для работы </a:t>
            </a:r>
            <a:br>
              <a:rPr sz="1600"/>
            </a:b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менеджер продаж сможет быстрее обслуживать клиента, сможет </a:t>
            </a:r>
            <a:br>
              <a:rPr sz="1600"/>
            </a:b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«одним взглядом» охватить всю информацию, необходимую для </a:t>
            </a:r>
            <a:br>
              <a:rPr sz="1600"/>
            </a:b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определения скидки и выгодной продажи: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lvl="1" marL="136440" indent="-135000">
              <a:spcBef>
                <a:spcPts val="400"/>
              </a:spcBef>
              <a:spcAft>
                <a:spcPts val="601"/>
              </a:spcAft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Информация о клиенте, его заказах, товаре зарезервированном для клиента на складе и в ожидаемых поставках, информация о взаиморасчетах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lvl="1" marL="136440" indent="-135000">
              <a:spcBef>
                <a:spcPts val="400"/>
              </a:spcBef>
              <a:spcAft>
                <a:spcPts val="601"/>
              </a:spcAft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Информация о товаре, его запасах и ожидаемых поставках, фактической и плановой себестоимости и т.п.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468360" y="3559320"/>
            <a:ext cx="7848720" cy="279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8120" y="0"/>
            <a:ext cx="5808600" cy="90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Ценообразование</a:t>
            </a: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23640" y="1196640"/>
            <a:ext cx="655308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1С:Управление производственным предприятием позволяет эффективно управлять ценовой политикой предприятия: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lvl="1" marL="136440" indent="-135000">
              <a:spcBef>
                <a:spcPts val="400"/>
              </a:spcBef>
              <a:spcAft>
                <a:spcPts val="601"/>
              </a:spcAft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Назначать оптимальные отпускные цены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lvl="1" marL="136440" indent="-135000">
              <a:spcBef>
                <a:spcPts val="400"/>
              </a:spcBef>
              <a:spcAft>
                <a:spcPts val="601"/>
              </a:spcAft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Устанавливать гибкие скидки и наценки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lvl="1" marL="136440" indent="-135000">
              <a:spcBef>
                <a:spcPts val="400"/>
              </a:spcBef>
              <a:spcAft>
                <a:spcPts val="601"/>
              </a:spcAft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Хранить, анализировать и использовать для планирования цены поставщиков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lvl="1" marL="136440" indent="-135000">
              <a:spcBef>
                <a:spcPts val="400"/>
              </a:spcBef>
              <a:spcAft>
                <a:spcPts val="601"/>
              </a:spcAft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Хранить и анализировать цены конкурентов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lvl="1" marL="136440" indent="-135000">
              <a:spcBef>
                <a:spcPts val="400"/>
              </a:spcBef>
              <a:spcAft>
                <a:spcPts val="601"/>
              </a:spcAft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Автоматически формировать прайс-листы с отпускными ценами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042920" y="44280"/>
            <a:ext cx="583416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Роль коммерческого директора</a:t>
            </a:r>
            <a:endParaRPr b="0" lang="en-US" sz="20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50920" y="1197000"/>
            <a:ext cx="648180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В зависимости от масштаба предприятия и структуры управления можно определить три сферы ответственности коммерческого директора: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lvl="1" marL="136440" indent="-135000">
              <a:lnSpc>
                <a:spcPct val="100000"/>
              </a:lnSpc>
              <a:spcBef>
                <a:spcPts val="451"/>
              </a:spcBef>
              <a:spcAft>
                <a:spcPts val="675"/>
              </a:spcAft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Arial"/>
              </a:rPr>
              <a:t>Сбыт</a:t>
            </a:r>
            <a:endParaRPr b="0" lang="en-US" sz="1800" spc="-1" strike="noStrike">
              <a:solidFill>
                <a:srgbClr val="5f0000"/>
              </a:solidFill>
              <a:latin typeface="Times New Roman"/>
            </a:endParaRPr>
          </a:p>
          <a:p>
            <a:pPr lvl="1" marL="136440" indent="-135000">
              <a:lnSpc>
                <a:spcPct val="100000"/>
              </a:lnSpc>
              <a:spcBef>
                <a:spcPts val="451"/>
              </a:spcBef>
              <a:spcAft>
                <a:spcPts val="675"/>
              </a:spcAft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Arial"/>
              </a:rPr>
              <a:t>Маркетинг</a:t>
            </a:r>
            <a:endParaRPr b="0" lang="en-US" sz="1800" spc="-1" strike="noStrike">
              <a:solidFill>
                <a:srgbClr val="5f0000"/>
              </a:solidFill>
              <a:latin typeface="Times New Roman"/>
            </a:endParaRPr>
          </a:p>
          <a:p>
            <a:pPr lvl="1" marL="136440" indent="-135000">
              <a:lnSpc>
                <a:spcPct val="100000"/>
              </a:lnSpc>
              <a:spcBef>
                <a:spcPts val="451"/>
              </a:spcBef>
              <a:spcAft>
                <a:spcPts val="675"/>
              </a:spcAft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Arial"/>
              </a:rPr>
              <a:t>Снабжение</a:t>
            </a:r>
            <a:endParaRPr b="0" lang="en-US" sz="1800" spc="-1" strike="noStrike">
              <a:solidFill>
                <a:srgbClr val="5f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8120" y="0"/>
            <a:ext cx="5808600" cy="90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Оптимальная цена</a:t>
            </a: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826920" y="1916280"/>
          <a:ext cx="7274160" cy="4362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26920" y="1916280"/>
                    <a:ext cx="7274160" cy="43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68120" y="0"/>
            <a:ext cx="5808600" cy="90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Цены поставщиков и конкурентов</a:t>
            </a: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971640" y="2060640"/>
          <a:ext cx="7345440" cy="4222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71640" y="2060640"/>
                    <a:ext cx="73454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8120" y="0"/>
            <a:ext cx="5808600" cy="90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Анализ цен</a:t>
            </a: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395280" y="1822320"/>
            <a:ext cx="7667640" cy="463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8120" y="0"/>
            <a:ext cx="5808600" cy="90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Формирование отпускных цен</a:t>
            </a: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900000" y="2349360"/>
          <a:ext cx="7296120" cy="3610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00000" y="2349360"/>
                    <a:ext cx="7296120" cy="36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68120" y="0"/>
            <a:ext cx="5808600" cy="90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Скидки и наценки</a:t>
            </a: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23640" y="1196640"/>
            <a:ext cx="655308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В 1С:Управление производственным предприятием предусмотрены скидки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lvl="1" marL="136440" indent="-135000">
              <a:spcBef>
                <a:spcPts val="400"/>
              </a:spcBef>
              <a:spcAft>
                <a:spcPts val="601"/>
              </a:spcAft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Ручные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lvl="1" marL="136440" indent="-135000">
              <a:spcBef>
                <a:spcPts val="400"/>
              </a:spcBef>
              <a:spcAft>
                <a:spcPts val="601"/>
              </a:spcAft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Автоматические по условиям продаж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lvl="2" marL="264960" indent="-126720">
              <a:spcBef>
                <a:spcPts val="400"/>
              </a:spcBef>
              <a:spcAft>
                <a:spcPts val="400"/>
              </a:spcAft>
              <a:buClr>
                <a:srgbClr val="c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По времени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lvl="2" marL="264960" indent="-126720">
              <a:spcBef>
                <a:spcPts val="400"/>
              </a:spcBef>
              <a:spcAft>
                <a:spcPts val="400"/>
              </a:spcAft>
              <a:buClr>
                <a:srgbClr val="c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По виду оплаты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lvl="2" marL="264960" indent="-126720">
              <a:spcBef>
                <a:spcPts val="400"/>
              </a:spcBef>
              <a:spcAft>
                <a:spcPts val="400"/>
              </a:spcAft>
              <a:buClr>
                <a:srgbClr val="c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По сумме документа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lvl="2" marL="264960" indent="-126720">
              <a:spcBef>
                <a:spcPts val="400"/>
              </a:spcBef>
              <a:spcAft>
                <a:spcPts val="400"/>
              </a:spcAft>
              <a:buClr>
                <a:srgbClr val="c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По количеству товара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lvl="1" marL="136440" indent="-135000">
              <a:spcBef>
                <a:spcPts val="400"/>
              </a:spcBef>
              <a:spcAft>
                <a:spcPts val="601"/>
              </a:spcAft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Автоматические по дисконтным картам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lvl="2" marL="264960" indent="-126720">
              <a:spcBef>
                <a:spcPts val="400"/>
              </a:spcBef>
              <a:spcAft>
                <a:spcPts val="400"/>
              </a:spcAft>
              <a:buClr>
                <a:srgbClr val="c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Фиксированные 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lvl="2" marL="264960" indent="-126720">
              <a:spcBef>
                <a:spcPts val="400"/>
              </a:spcBef>
              <a:spcAft>
                <a:spcPts val="400"/>
              </a:spcAft>
              <a:buClr>
                <a:srgbClr val="c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Накопительные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lvl="1" marL="136440" indent="-135000">
              <a:spcBef>
                <a:spcPts val="400"/>
              </a:spcBef>
              <a:spcAft>
                <a:spcPts val="601"/>
              </a:spcAft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Бонусные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5267160" y="1851120"/>
            <a:ext cx="3434040" cy="263844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3"/>
          <a:stretch/>
        </p:blipFill>
        <p:spPr>
          <a:xfrm>
            <a:off x="3708360" y="4581360"/>
            <a:ext cx="500400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500"/>
                            </p:stCondLst>
                            <p:childTnLst>
                              <p:par>
                                <p:cTn id="1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68120" y="0"/>
            <a:ext cx="5808600" cy="90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Управление закупками</a:t>
            </a: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23640" y="1196640"/>
            <a:ext cx="655308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1С:Управление производственным предприятием позволит коммерческому директору: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lvl="1" marL="136440" indent="-135000">
              <a:spcBef>
                <a:spcPts val="400"/>
              </a:spcBef>
              <a:spcAft>
                <a:spcPts val="601"/>
              </a:spcAft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Обеспечить своевременные поставки ТМЦ, материалами, сырьем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lvl="1" marL="136440" indent="-135000">
              <a:spcBef>
                <a:spcPts val="400"/>
              </a:spcBef>
              <a:spcAft>
                <a:spcPts val="601"/>
              </a:spcAft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Оптимизировать закупки по ценам и условиям поставки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Подсистема управления закупками: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lvl="1" marL="136440" indent="-135000">
              <a:spcBef>
                <a:spcPts val="400"/>
              </a:spcBef>
              <a:spcAft>
                <a:spcPts val="601"/>
              </a:spcAft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Предоставляет менеджерам, отвечающим за снабжение, информацию, необходимую для своевременного принятия решений о пополнении запасов ТМЦ,  для снижения затрат на закупки и четкой организации взаимодействия с поставщиками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lvl="1" marL="136440" indent="-135000">
              <a:spcBef>
                <a:spcPts val="400"/>
              </a:spcBef>
              <a:spcAft>
                <a:spcPts val="601"/>
              </a:spcAft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Оперативно планирует закупки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lvl="1" marL="136440" indent="-135000">
              <a:spcBef>
                <a:spcPts val="400"/>
              </a:spcBef>
              <a:spcAft>
                <a:spcPts val="601"/>
              </a:spcAft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Оформляет заказы поставщикам и контролирует их исполнение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lvl="1" marL="136440" indent="-135000">
              <a:spcBef>
                <a:spcPts val="400"/>
              </a:spcBef>
              <a:spcAft>
                <a:spcPts val="601"/>
              </a:spcAft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Поддерживает различные схемы приема товаров от поставщиков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68120" y="0"/>
            <a:ext cx="5808600" cy="90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Планирование закупок</a:t>
            </a: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23640" y="1196640"/>
            <a:ext cx="655308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1С:Управление производственным предприятием поддерживает три основных схемы планирования закупок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lvl="1" marL="136440" indent="-135000">
              <a:spcBef>
                <a:spcPts val="400"/>
              </a:spcBef>
              <a:spcAft>
                <a:spcPts val="601"/>
              </a:spcAft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Регулярные поставки </a:t>
            </a:r>
            <a:br>
              <a:rPr sz="1600"/>
            </a:b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(по точке заказа)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lvl="1" marL="136440" indent="-135000">
              <a:spcBef>
                <a:spcPts val="400"/>
              </a:spcBef>
              <a:spcAft>
                <a:spcPts val="601"/>
              </a:spcAft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По оплаченным </a:t>
            </a:r>
            <a:br>
              <a:rPr sz="1600"/>
            </a:b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заказам покупателей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lvl="1" marL="136440" indent="-135000">
              <a:spcBef>
                <a:spcPts val="400"/>
              </a:spcBef>
              <a:spcAft>
                <a:spcPts val="601"/>
              </a:spcAft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Объемно-календарное </a:t>
            </a:r>
            <a:br>
              <a:rPr sz="1600"/>
            </a:b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планирование закупок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При планировании закупок можно делать поправку на прогнозируемый уровень складских запасов, использовать данные фактических закупок, заказов поставщикам, данные других планов закупок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3894120" y="1916280"/>
            <a:ext cx="4854600" cy="29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8120" y="0"/>
            <a:ext cx="5808600" cy="90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Объемно-календарное планирование</a:t>
            </a: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1044720" y="1927080"/>
          <a:ext cx="7056360" cy="4238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1927080"/>
                    <a:ext cx="7056360" cy="423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68120" y="0"/>
            <a:ext cx="5808600" cy="90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Заказы поставщикам</a:t>
            </a: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24000" y="1197000"/>
            <a:ext cx="655308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4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Заказ поставщику фиксирует предварительную договоренность о приобретении товаров у поставщика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>
              <a:spcBef>
                <a:spcPts val="4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Информация о сформированных заказах используется для планирования закупок и автоматизированного оформления поступлений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>
              <a:spcBef>
                <a:spcPts val="4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Заказ имеет функцию автозаполнения на основании: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lvl="1" marL="136440" indent="-135000">
              <a:spcBef>
                <a:spcPts val="400"/>
              </a:spcBef>
              <a:spcAft>
                <a:spcPts val="601"/>
              </a:spcAft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Данных о текущих запасах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lvl="1" marL="136440" indent="-135000">
              <a:spcBef>
                <a:spcPts val="400"/>
              </a:spcBef>
              <a:spcAft>
                <a:spcPts val="601"/>
              </a:spcAft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Заказов покупателей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lvl="1" marL="136440" indent="-135000">
              <a:spcBef>
                <a:spcPts val="400"/>
              </a:spcBef>
              <a:spcAft>
                <a:spcPts val="601"/>
              </a:spcAft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Внутренних заказов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lvl="1" marL="136440" indent="-135000">
              <a:spcBef>
                <a:spcPts val="400"/>
              </a:spcBef>
              <a:spcAft>
                <a:spcPts val="601"/>
              </a:spcAft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Сформированных ранее </a:t>
            </a:r>
            <a:br>
              <a:rPr sz="1600"/>
            </a:b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потребностях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3851280" y="3573360"/>
            <a:ext cx="4859280" cy="27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068120" y="0"/>
            <a:ext cx="5808600" cy="90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План-фактный анализ закупок</a:t>
            </a: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322200" y="1789200"/>
            <a:ext cx="6697800" cy="46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042920" y="44280"/>
            <a:ext cx="57438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Инструменты коммерческого директора</a:t>
            </a:r>
            <a:endParaRPr b="0" lang="en-US" sz="20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50920" y="1268280"/>
            <a:ext cx="662616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1С:Управление производственным предприятием, как современная система управления ресурсами предприятия (</a:t>
            </a: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ERP) </a:t>
            </a: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повышает эффективность работы службы коммерческого директора за счет: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lvl="1" marL="136440" indent="-13500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Единого информационного пространства для предприятия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lvl="1" marL="136440" indent="-13500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Автоматизации бизнес-процессов предприятия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lvl="1" marL="136440" indent="-13500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Получения данных и их постоянного анализа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Позволяет эффективно взаимодействовать со всеми подразделениями предприятия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Предоставляет точную и актуальную информацию о состоянии дел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68120" y="0"/>
            <a:ext cx="5808600" cy="90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WEB-</a:t>
            </a: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доступ</a:t>
            </a: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324000" y="1197000"/>
            <a:ext cx="655308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4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Часть отчетов и документов подсистемы управления закупками работает в режиме управляемого приложения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lvl="1" marL="136440" indent="-135000">
              <a:spcBef>
                <a:spcPts val="400"/>
              </a:spcBef>
              <a:spcAft>
                <a:spcPts val="601"/>
              </a:spcAft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Отчет о закупках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lvl="1" marL="136440" indent="-135000">
              <a:spcBef>
                <a:spcPts val="400"/>
              </a:spcBef>
              <a:spcAft>
                <a:spcPts val="601"/>
              </a:spcAft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Отчет о состоянии </a:t>
            </a:r>
            <a:br>
              <a:rPr sz="1600"/>
            </a:b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складов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lvl="1" marL="136440" indent="-135000">
              <a:spcBef>
                <a:spcPts val="400"/>
              </a:spcBef>
              <a:spcAft>
                <a:spcPts val="601"/>
              </a:spcAft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Поступление товаров</a:t>
            </a:r>
            <a:br>
              <a:rPr sz="1600"/>
            </a:b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и услуг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lvl="1" marL="136440" indent="-135000">
              <a:spcBef>
                <a:spcPts val="400"/>
              </a:spcBef>
              <a:spcAft>
                <a:spcPts val="601"/>
              </a:spcAft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Счета на оплату от</a:t>
            </a:r>
            <a:br>
              <a:rPr sz="1600"/>
            </a:b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поставщиков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>
              <a:spcBef>
                <a:spcPts val="4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Работа через Интернет</a:t>
            </a:r>
            <a:br>
              <a:rPr sz="1600"/>
            </a:b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из любой точки мира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lvl="1" marL="136440" indent="-135000">
              <a:spcBef>
                <a:spcPts val="400"/>
              </a:spcBef>
              <a:spcAft>
                <a:spcPts val="601"/>
              </a:spcAft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3059280" y="1989000"/>
            <a:ext cx="5724360" cy="440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8120" y="0"/>
            <a:ext cx="5808600" cy="90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Анализ закупок</a:t>
            </a: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23640" y="1196640"/>
            <a:ext cx="655308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1С:Управление производственным предприятием</a:t>
            </a: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 содержит набор аналитических отчетов, позволяющих коммерческому директору обоснованно принимать управленческие решения и планировать деятельность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lvl="1" marL="136440" indent="-135000"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Анализ заказов поставщикам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lvl="1" marL="136440" indent="-135000"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Ведомость по заказам поставщикам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lvl="1" marL="136440" indent="-135000"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Анализ закупок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lvl="1" marL="136440" indent="-135000"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Анализ кредиторской задолженности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lvl="1" marL="136440" indent="-135000"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Взаиморасчеты с комитентами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395280" y="3789360"/>
            <a:ext cx="6264360" cy="250020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427640" y="2133720"/>
            <a:ext cx="4356000" cy="27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500"/>
                            </p:stCondLst>
                            <p:childTnLst>
                              <p:par>
                                <p:cTn id="1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8120" y="0"/>
            <a:ext cx="5808600" cy="90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Для топ-менеджера</a:t>
            </a: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23640" y="1196640"/>
            <a:ext cx="655308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lnSpc>
                <a:spcPct val="90000"/>
              </a:lnSpc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Специализированный инструмент </a:t>
            </a:r>
            <a:r>
              <a:rPr b="0" lang="ru-RU" sz="1600" spc="-1" strike="noStrike">
                <a:solidFill>
                  <a:srgbClr val="cc3300"/>
                </a:solidFill>
                <a:latin typeface="Arial"/>
              </a:rPr>
              <a:t>1С:Управление </a:t>
            </a:r>
            <a:br>
              <a:rPr sz="1600"/>
            </a:br>
            <a:r>
              <a:rPr b="0" lang="ru-RU" sz="1600" spc="-1" strike="noStrike">
                <a:solidFill>
                  <a:srgbClr val="cc3300"/>
                </a:solidFill>
                <a:latin typeface="Arial"/>
              </a:rPr>
              <a:t>производственным предприятием</a:t>
            </a: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«Монитор</a:t>
            </a:r>
            <a:br>
              <a:rPr sz="1600"/>
            </a:b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эффективности» ориентирован на оперативную оценку </a:t>
            </a:r>
            <a:br>
              <a:rPr sz="1600"/>
            </a:b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ключевых показателей эффективности  работы коммерческим директором: 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lvl="1" marL="135000" indent="-133560">
              <a:lnSpc>
                <a:spcPct val="90000"/>
              </a:lnSpc>
              <a:spcBef>
                <a:spcPts val="400"/>
              </a:spcBef>
              <a:spcAft>
                <a:spcPts val="601"/>
              </a:spcAft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своевременно выявить </a:t>
            </a:r>
            <a:br>
              <a:rPr sz="1600"/>
            </a:b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отклонения</a:t>
            </a: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от плана, </a:t>
            </a:r>
            <a:br>
              <a:rPr sz="1600"/>
            </a:b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негативную динамику, </a:t>
            </a:r>
            <a:br>
              <a:rPr sz="1600"/>
            </a:b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точки роста 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lvl="1" marL="135000" indent="-133560">
              <a:lnSpc>
                <a:spcPct val="90000"/>
              </a:lnSpc>
              <a:spcBef>
                <a:spcPts val="400"/>
              </a:spcBef>
              <a:spcAft>
                <a:spcPts val="601"/>
              </a:spcAft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уточнить предоставляемую </a:t>
            </a:r>
            <a:br>
              <a:rPr sz="1600"/>
            </a:b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информацию 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lvl="1" marL="135000" indent="-133560">
              <a:lnSpc>
                <a:spcPct val="90000"/>
              </a:lnSpc>
              <a:spcBef>
                <a:spcPts val="400"/>
              </a:spcBef>
              <a:spcAft>
                <a:spcPts val="601"/>
              </a:spcAft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использовать комплект </a:t>
            </a:r>
            <a:br>
              <a:rPr sz="1600"/>
            </a:b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показателей</a:t>
            </a: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эффективности, </a:t>
            </a:r>
            <a:br>
              <a:rPr sz="1600"/>
            </a:b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поставляемый в составе </a:t>
            </a:r>
            <a:br>
              <a:rPr sz="1600"/>
            </a:b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демонстрационной базы 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lvl="1" marL="135000" indent="-133560">
              <a:lnSpc>
                <a:spcPct val="90000"/>
              </a:lnSpc>
              <a:spcBef>
                <a:spcPts val="400"/>
              </a:spcBef>
              <a:spcAft>
                <a:spcPts val="601"/>
              </a:spcAft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быстро разрабатывать новые </a:t>
            </a:r>
            <a:br>
              <a:rPr sz="1600"/>
            </a:b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показатели эффективности 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lvl="1" marL="135000" indent="-133560">
              <a:lnSpc>
                <a:spcPct val="90000"/>
              </a:lnSpc>
              <a:spcBef>
                <a:spcPts val="400"/>
              </a:spcBef>
              <a:spcAft>
                <a:spcPts val="601"/>
              </a:spcAft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настроить несколько вариантов </a:t>
            </a:r>
            <a:br>
              <a:rPr sz="1600"/>
            </a:b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отчета по видам деятельности </a:t>
            </a:r>
            <a:br>
              <a:rPr sz="1600"/>
            </a:b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или по</a:t>
            </a: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участкам ответственности</a:t>
            </a:r>
            <a:br>
              <a:rPr sz="1600"/>
            </a:b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3637080" y="2565360"/>
            <a:ext cx="5111640" cy="34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063800" y="114480"/>
            <a:ext cx="5473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Расширение возможностей  специализированными решениями</a:t>
            </a:r>
            <a:endParaRPr b="0" lang="en-US" sz="20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84320" y="2720880"/>
            <a:ext cx="8529480" cy="8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Функциональные возможности 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1С:Управление производственным предприятием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    могут быть расширены за счет интеграции с другими программными продуктами              на единой платформе «1С:Предприятие 8»: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22120" y="3681360"/>
            <a:ext cx="4577040" cy="26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1120" indent="-141120">
              <a:lnSpc>
                <a:spcPct val="10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333333"/>
                </a:solidFill>
                <a:latin typeface="Arial"/>
              </a:rPr>
              <a:t>1С:Консолидация</a:t>
            </a:r>
            <a:endParaRPr b="0" lang="en-US" sz="1500" spc="-1" strike="noStrike">
              <a:solidFill>
                <a:srgbClr val="5f0000"/>
              </a:solidFill>
              <a:latin typeface="Times New Roman"/>
            </a:endParaRPr>
          </a:p>
          <a:p>
            <a:pPr marL="141120" indent="-141120">
              <a:lnSpc>
                <a:spcPct val="10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333333"/>
                </a:solidFill>
                <a:latin typeface="Arial"/>
              </a:rPr>
              <a:t>1С:Документооборот</a:t>
            </a:r>
            <a:endParaRPr b="0" lang="en-US" sz="1500" spc="-1" strike="noStrike">
              <a:solidFill>
                <a:srgbClr val="5f0000"/>
              </a:solidFill>
              <a:latin typeface="Times New Roman"/>
            </a:endParaRPr>
          </a:p>
          <a:p>
            <a:pPr marL="141120" indent="-141120">
              <a:lnSpc>
                <a:spcPct val="10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333333"/>
                </a:solidFill>
                <a:latin typeface="Arial"/>
              </a:rPr>
              <a:t>1С:Управление корпоративными финансами</a:t>
            </a:r>
            <a:endParaRPr b="0" lang="en-US" sz="1500" spc="-1" strike="noStrike">
              <a:solidFill>
                <a:srgbClr val="5f0000"/>
              </a:solidFill>
              <a:latin typeface="Times New Roman"/>
            </a:endParaRPr>
          </a:p>
          <a:p>
            <a:pPr marL="141120" indent="-141120">
              <a:lnSpc>
                <a:spcPct val="10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333333"/>
                </a:solidFill>
                <a:latin typeface="Arial"/>
              </a:rPr>
              <a:t>1С:PDM Управление инженерными данными</a:t>
            </a:r>
            <a:endParaRPr b="0" lang="en-US" sz="1500" spc="-1" strike="noStrike">
              <a:solidFill>
                <a:srgbClr val="5f0000"/>
              </a:solidFill>
              <a:latin typeface="Times New Roman"/>
            </a:endParaRPr>
          </a:p>
          <a:p>
            <a:pPr marL="141120" indent="-141120">
              <a:lnSpc>
                <a:spcPct val="10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333333"/>
                </a:solidFill>
                <a:latin typeface="Arial"/>
              </a:rPr>
              <a:t>1С:</a:t>
            </a:r>
            <a:r>
              <a:rPr b="0" lang="en-US" sz="1500" spc="-1" strike="noStrike">
                <a:solidFill>
                  <a:srgbClr val="333333"/>
                </a:solidFill>
                <a:latin typeface="Arial"/>
              </a:rPr>
              <a:t>MDM</a:t>
            </a:r>
            <a:r>
              <a:rPr b="0" lang="ru-RU" sz="1500" spc="-1" strike="noStrike">
                <a:solidFill>
                  <a:srgbClr val="333333"/>
                </a:solidFill>
                <a:latin typeface="Arial"/>
              </a:rPr>
              <a:t> Управление нормативно-справочной информацией</a:t>
            </a:r>
            <a:endParaRPr b="0" lang="en-US" sz="1500" spc="-1" strike="noStrike">
              <a:solidFill>
                <a:srgbClr val="5f0000"/>
              </a:solidFill>
              <a:latin typeface="Times New Roman"/>
            </a:endParaRPr>
          </a:p>
          <a:p>
            <a:pPr marL="141120" indent="-141120">
              <a:lnSpc>
                <a:spcPct val="10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333333"/>
                </a:solidFill>
                <a:latin typeface="Arial"/>
              </a:rPr>
              <a:t>1С:ТОИР Управление ремонтами и обслуживанием оборудования </a:t>
            </a:r>
            <a:endParaRPr b="0" lang="en-US" sz="1500" spc="-1" strike="noStrike">
              <a:solidFill>
                <a:srgbClr val="5f0000"/>
              </a:solidFill>
              <a:latin typeface="Times New Roman"/>
            </a:endParaRPr>
          </a:p>
          <a:p>
            <a:pPr marL="141120" indent="-141120">
              <a:lnSpc>
                <a:spcPct val="10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333333"/>
                </a:solidFill>
                <a:latin typeface="Arial"/>
              </a:rPr>
              <a:t>1С:МТО Материально-техническое обеспечение</a:t>
            </a:r>
            <a:endParaRPr b="0" lang="en-US" sz="1500" spc="-1" strike="noStrike">
              <a:solidFill>
                <a:srgbClr val="5f0000"/>
              </a:solidFill>
              <a:latin typeface="Times New Roman"/>
            </a:endParaRPr>
          </a:p>
          <a:p>
            <a:pPr marL="141120" indent="-141120">
              <a:lnSpc>
                <a:spcPct val="10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333333"/>
                </a:solidFill>
                <a:latin typeface="Arial"/>
              </a:rPr>
              <a:t>1С:Управление проектным офисом</a:t>
            </a:r>
            <a:endParaRPr b="0" lang="en-US" sz="15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92240" y="2370240"/>
            <a:ext cx="52480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33"/>
                </a:solidFill>
                <a:latin typeface="Arial"/>
              </a:rPr>
              <a:t>Специализированные программные продукты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65600" y="6573960"/>
            <a:ext cx="519480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3300"/>
                </a:solidFill>
                <a:latin typeface="Arial"/>
              </a:rPr>
              <a:t>Выпущенные и запланированные к выпуску до конца 2012 г. продукты</a:t>
            </a:r>
            <a:endParaRPr b="0" lang="en-US" sz="12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672080" y="3701880"/>
            <a:ext cx="4260960" cy="283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1120" indent="-141120">
              <a:lnSpc>
                <a:spcPct val="10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333333"/>
                </a:solidFill>
                <a:latin typeface="Arial"/>
              </a:rPr>
              <a:t>1С:Инвентаризация и управление имуществом</a:t>
            </a:r>
            <a:endParaRPr b="0" lang="en-US" sz="1500" spc="-1" strike="noStrike">
              <a:solidFill>
                <a:srgbClr val="5f0000"/>
              </a:solidFill>
              <a:latin typeface="Times New Roman"/>
            </a:endParaRPr>
          </a:p>
          <a:p>
            <a:pPr marL="141120" indent="-141120">
              <a:lnSpc>
                <a:spcPct val="10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333333"/>
                </a:solidFill>
                <a:latin typeface="Arial"/>
              </a:rPr>
              <a:t>1С:Аренда и управление недвижимостью</a:t>
            </a:r>
            <a:endParaRPr b="0" lang="en-US" sz="1500" spc="-1" strike="noStrike">
              <a:solidFill>
                <a:srgbClr val="5f0000"/>
              </a:solidFill>
              <a:latin typeface="Times New Roman"/>
            </a:endParaRPr>
          </a:p>
          <a:p>
            <a:pPr marL="141120" indent="-141120">
              <a:lnSpc>
                <a:spcPct val="10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333333"/>
                </a:solidFill>
                <a:latin typeface="Arial"/>
              </a:rPr>
              <a:t>1С:CRM ПРОФ</a:t>
            </a:r>
            <a:endParaRPr b="0" lang="en-US" sz="1500" spc="-1" strike="noStrike">
              <a:solidFill>
                <a:srgbClr val="5f0000"/>
              </a:solidFill>
              <a:latin typeface="Times New Roman"/>
            </a:endParaRPr>
          </a:p>
          <a:p>
            <a:pPr marL="141120" indent="-141120">
              <a:lnSpc>
                <a:spcPct val="10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333333"/>
                </a:solidFill>
                <a:latin typeface="Arial"/>
              </a:rPr>
              <a:t>1С-Логистика:Управление складом (</a:t>
            </a:r>
            <a:r>
              <a:rPr b="0" lang="en-US" sz="1500" spc="-1" strike="noStrike">
                <a:solidFill>
                  <a:srgbClr val="333333"/>
                </a:solidFill>
                <a:latin typeface="Arial"/>
              </a:rPr>
              <a:t>WMS)</a:t>
            </a:r>
            <a:endParaRPr b="0" lang="en-US" sz="1500" spc="-1" strike="noStrike">
              <a:solidFill>
                <a:srgbClr val="5f0000"/>
              </a:solidFill>
              <a:latin typeface="Times New Roman"/>
            </a:endParaRPr>
          </a:p>
          <a:p>
            <a:pPr marL="141120" indent="-141120">
              <a:lnSpc>
                <a:spcPct val="10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333333"/>
                </a:solidFill>
                <a:latin typeface="Arial"/>
              </a:rPr>
              <a:t>1С-Логистика:Управление перевозками</a:t>
            </a:r>
            <a:r>
              <a:rPr b="0" lang="en-US" sz="1500" spc="-1" strike="noStrike">
                <a:solidFill>
                  <a:srgbClr val="333333"/>
                </a:solidFill>
                <a:latin typeface="Arial"/>
              </a:rPr>
              <a:t> (TMS)</a:t>
            </a:r>
            <a:endParaRPr b="0" lang="en-US" sz="1500" spc="-1" strike="noStrike">
              <a:solidFill>
                <a:srgbClr val="5f0000"/>
              </a:solidFill>
              <a:latin typeface="Times New Roman"/>
            </a:endParaRPr>
          </a:p>
          <a:p>
            <a:pPr marL="141120" indent="-141120">
              <a:lnSpc>
                <a:spcPct val="10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333333"/>
                </a:solidFill>
                <a:latin typeface="Arial"/>
              </a:rPr>
              <a:t>1С:Управление Автотранспортом</a:t>
            </a:r>
            <a:endParaRPr b="0" lang="en-US" sz="1500" spc="-1" strike="noStrike">
              <a:solidFill>
                <a:srgbClr val="5f0000"/>
              </a:solidFill>
              <a:latin typeface="Times New Roman"/>
            </a:endParaRPr>
          </a:p>
          <a:p>
            <a:pPr marL="141120" indent="-141120">
              <a:lnSpc>
                <a:spcPct val="10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333333"/>
                </a:solidFill>
                <a:latin typeface="Arial"/>
              </a:rPr>
              <a:t>1С:Центр спутникового мониторинга ГЛОНАСС/</a:t>
            </a:r>
            <a:r>
              <a:rPr b="0" lang="en-US" sz="1500" spc="-1" strike="noStrike">
                <a:solidFill>
                  <a:srgbClr val="333333"/>
                </a:solidFill>
                <a:latin typeface="Arial"/>
              </a:rPr>
              <a:t>GPS</a:t>
            </a:r>
            <a:endParaRPr b="0" lang="en-US" sz="1500" spc="-1" strike="noStrike">
              <a:solidFill>
                <a:srgbClr val="5f0000"/>
              </a:solidFill>
              <a:latin typeface="Times New Roman"/>
            </a:endParaRPr>
          </a:p>
          <a:p>
            <a:pPr marL="141120" indent="-141120">
              <a:lnSpc>
                <a:spcPct val="10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33333"/>
                </a:solidFill>
                <a:latin typeface="Arial"/>
              </a:rPr>
              <a:t>1</a:t>
            </a:r>
            <a:r>
              <a:rPr b="0" lang="ru-RU" sz="1500" spc="-1" strike="noStrike">
                <a:solidFill>
                  <a:srgbClr val="333333"/>
                </a:solidFill>
                <a:latin typeface="Arial"/>
              </a:rPr>
              <a:t>С:</a:t>
            </a:r>
            <a:r>
              <a:rPr b="0" lang="en-US" sz="1500" spc="-1" strike="noStrike">
                <a:solidFill>
                  <a:srgbClr val="333333"/>
                </a:solidFill>
                <a:latin typeface="Arial"/>
              </a:rPr>
              <a:t>ITIL </a:t>
            </a:r>
            <a:r>
              <a:rPr b="0" lang="ru-RU" sz="1500" spc="-1" strike="noStrike">
                <a:solidFill>
                  <a:srgbClr val="333333"/>
                </a:solidFill>
                <a:latin typeface="Arial"/>
              </a:rPr>
              <a:t>Управление информационными технологиями предприятия</a:t>
            </a:r>
            <a:endParaRPr b="0" lang="en-US" sz="15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90440" y="1219320"/>
            <a:ext cx="8820360" cy="143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Для использования функционала 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1С:Управление производственным                             предприятием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 с учетом законодательства различных стран предназначены локализованные версии для Украины, Казахстана и Беларуси.                                                                                              Для англоязычных сотрудников разработана версия с интерфейсом на английском языке.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93680" y="930240"/>
            <a:ext cx="556560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92929"/>
                </a:solidFill>
                <a:latin typeface="Arial"/>
              </a:rPr>
              <a:t>Локализация под национальные законодательства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063800" y="114480"/>
            <a:ext cx="5473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Расширение возможностей отраслевыми решениями</a:t>
            </a:r>
            <a:endParaRPr b="0" lang="en-US" sz="20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77920" y="1959120"/>
            <a:ext cx="4363920" cy="44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4320" indent="-184320">
              <a:lnSpc>
                <a:spcPct val="9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1С:Машиностроение                  программно–методический комплекс 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marL="184320" indent="-184320">
              <a:lnSpc>
                <a:spcPct val="9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1С:Управление проектной организацией 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marL="184320" indent="-184320">
              <a:lnSpc>
                <a:spcPct val="9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1С:Управление строительной организацией 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marL="184320" indent="-184320">
              <a:lnSpc>
                <a:spcPct val="9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1С:Управление ремонтным предприятием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marL="184320" indent="-184320">
              <a:lnSpc>
                <a:spcPct val="9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1С:Управление транспортным предприятием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marL="184320" indent="-184320">
              <a:lnSpc>
                <a:spcPct val="9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1С:Процессное производство. Химия  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marL="184320" indent="-184320">
              <a:lnSpc>
                <a:spcPct val="9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1С:Горно-добывающая промышленность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marL="184320" indent="-184320">
              <a:lnSpc>
                <a:spcPct val="9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1С:Фармпроизводство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marL="184320" indent="-184320">
              <a:lnSpc>
                <a:spcPct val="9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1С:Управление сельскохозяйственным предприятием 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marL="184320" indent="-184320">
              <a:lnSpc>
                <a:spcPct val="9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1С:Управление птицефабрикой 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marL="184320" indent="-184320">
              <a:lnSpc>
                <a:spcPct val="9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1С:Спиртовое производство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marL="184320" indent="-184320">
              <a:lnSpc>
                <a:spcPct val="9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1С:Ликероводочный и винный завод 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marL="184320" indent="-184320">
              <a:lnSpc>
                <a:spcPct val="9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1С:Пиво-безалкогольный комбинат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marL="184320" indent="-184320">
              <a:lnSpc>
                <a:spcPct val="9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1С:Рыбопереработка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marL="184320" indent="-184320">
              <a:lnSpc>
                <a:spcPct val="9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1С:Лесозавод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87280" y="1001880"/>
            <a:ext cx="8177400" cy="8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Существенное сокращение сроков внедрения и снижение совокупной           стоимости владения возможно при использовании отраслевых решений, созданных на базе 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1С:Управление производственным предприятием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65600" y="6573960"/>
            <a:ext cx="519480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3300"/>
                </a:solidFill>
                <a:latin typeface="Arial"/>
              </a:rPr>
              <a:t>Выпущенные и запланированные к выпуску до конца 2012 г. продукты</a:t>
            </a:r>
            <a:endParaRPr b="0" lang="en-US" sz="12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835520" y="1957320"/>
            <a:ext cx="3957480" cy="44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4320" indent="-184320">
              <a:lnSpc>
                <a:spcPct val="9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1С:Молокозавод 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marL="184320" indent="-184320">
              <a:lnSpc>
                <a:spcPct val="9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1С:Мясокомбинат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marL="184320" indent="-184320">
              <a:lnSpc>
                <a:spcPct val="9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1С:Управление мукомольно-крупяным предприятием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marL="184320" indent="-184320">
              <a:lnSpc>
                <a:spcPct val="9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1С:Хлебобулочное и кондитерское производство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marL="184320" indent="-184320">
              <a:lnSpc>
                <a:spcPct val="9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1С:Полиграфия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marL="184320" indent="-184320">
              <a:lnSpc>
                <a:spcPct val="9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1С:Девелопмент и управление недвижимостью 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marL="184320" indent="-184320">
              <a:lnSpc>
                <a:spcPct val="9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1С:Риэлтор. Управление продажами недвижимости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marL="184320" indent="-184320">
              <a:lnSpc>
                <a:spcPct val="9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1С:Энергетика. Управление распределительной сетевой компанией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marL="184320" indent="-184320">
              <a:lnSpc>
                <a:spcPct val="9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1С:Управление теплосетью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marL="184320" indent="-184320">
              <a:lnSpc>
                <a:spcPct val="9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1С:Управление водоканалом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marL="184320" indent="-184320">
              <a:lnSpc>
                <a:spcPct val="9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1С:Управление предприятием ЖКХ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marL="184320" indent="-184320">
              <a:lnSpc>
                <a:spcPct val="9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1С:Управление переработкой отходов и вторсырья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marL="184320" indent="-184320">
              <a:lnSpc>
                <a:spcPct val="9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1С:Комбинат ЖБИ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3487680" y="1817640"/>
            <a:ext cx="620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Благодарим за внимание!</a:t>
            </a:r>
            <a:endParaRPr b="0" lang="en-US" sz="3200" spc="-1" strike="noStrike">
              <a:solidFill>
                <a:srgbClr val="5f0000"/>
              </a:solidFill>
              <a:latin typeface="Times New Roman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8823240" y="5303880"/>
            <a:ext cx="7920" cy="1553760"/>
            <a:chOff x="8823240" y="5303880"/>
            <a:chExt cx="7920" cy="1553760"/>
          </a:xfrm>
        </p:grpSpPr>
        <p:sp>
          <p:nvSpPr>
            <p:cNvPr id="207" name=""/>
            <p:cNvSpPr/>
            <p:nvPr/>
          </p:nvSpPr>
          <p:spPr>
            <a:xfrm>
              <a:off x="8823240" y="5303880"/>
              <a:ext cx="0" cy="1553760"/>
            </a:xfrm>
            <a:prstGeom prst="line">
              <a:avLst/>
            </a:prstGeom>
            <a:ln w="648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f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831160" y="5303880"/>
              <a:ext cx="0" cy="155376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f0000"/>
                </a:solidFill>
                <a:latin typeface="Times New Roman"/>
              </a:endParaRPr>
            </a:p>
          </p:txBody>
        </p:sp>
      </p:grpSp>
      <p:grpSp>
        <p:nvGrpSpPr>
          <p:cNvPr id="209" name=""/>
          <p:cNvGrpSpPr/>
          <p:nvPr/>
        </p:nvGrpSpPr>
        <p:grpSpPr>
          <a:xfrm>
            <a:off x="1908000" y="5373720"/>
            <a:ext cx="6964560" cy="749160"/>
            <a:chOff x="1908000" y="5373720"/>
            <a:chExt cx="6964560" cy="749160"/>
          </a:xfrm>
        </p:grpSpPr>
        <p:sp>
          <p:nvSpPr>
            <p:cNvPr id="210" name=""/>
            <p:cNvSpPr/>
            <p:nvPr/>
          </p:nvSpPr>
          <p:spPr>
            <a:xfrm>
              <a:off x="2160360" y="5754600"/>
              <a:ext cx="671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3300"/>
                  </a:solidFill>
                  <a:latin typeface="Arial"/>
                </a:rPr>
                <a:t>Фирма «1С», 2012 г.</a:t>
              </a:r>
              <a:endParaRPr b="0" lang="en-US" sz="2000" spc="-1" strike="noStrike">
                <a:solidFill>
                  <a:srgbClr val="5f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908000" y="5373720"/>
              <a:ext cx="69580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1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f0000"/>
                </a:solidFill>
                <a:latin typeface="Times New Roman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116000" y="44280"/>
            <a:ext cx="57610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Управление продажами</a:t>
            </a:r>
            <a:endParaRPr b="0" lang="en-US" sz="20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24000" y="1125360"/>
            <a:ext cx="655164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90000"/>
              </a:lnSpc>
              <a:spcBef>
                <a:spcPts val="4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Для предприятий, расширяющих рынки и каналы сбыта, увеличивающих и обновляющих ассортимент продукции, внедрение эффективной информационной системы управления продажами становится рано или поздно необходимым организационным изменением.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Подсистема управления продажами обеспечивает сквозную автоматизацию процесса продаж продукции и товаров на производственном предприятии, в оптовой и розничной торговле. 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Подсистема включает средства планирования и контроля продаж, позволяет решать задачи управления заказами покупателей. 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В продукте реализована система управления розничной торговлей с подключением торгового оборудования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1С:Управление производственным предприятием содержит функциональные модули управления сбытом: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lvl="1" marL="135000" indent="-133560">
              <a:lnSpc>
                <a:spcPct val="90000"/>
              </a:lnSpc>
              <a:spcBef>
                <a:spcPts val="400"/>
              </a:spcBef>
              <a:spcAft>
                <a:spcPts val="601"/>
              </a:spcAft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Управление оптовыми продажами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lvl="1" marL="135000" indent="-133560">
              <a:lnSpc>
                <a:spcPct val="90000"/>
              </a:lnSpc>
              <a:spcBef>
                <a:spcPts val="400"/>
              </a:spcBef>
              <a:spcAft>
                <a:spcPts val="601"/>
              </a:spcAft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Управление отношениями с покупателями  (</a:t>
            </a: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CRM)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lvl="1" marL="135000" indent="-133560">
              <a:lnSpc>
                <a:spcPct val="90000"/>
              </a:lnSpc>
              <a:spcBef>
                <a:spcPts val="400"/>
              </a:spcBef>
              <a:spcAft>
                <a:spcPts val="601"/>
              </a:spcAft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Управление комиссионной торговлей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lvl="1" marL="135000" indent="-133560">
              <a:lnSpc>
                <a:spcPct val="90000"/>
              </a:lnSpc>
              <a:spcBef>
                <a:spcPts val="400"/>
              </a:spcBef>
              <a:spcAft>
                <a:spcPts val="601"/>
              </a:spcAft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Управление розничной торговлей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8120" y="0"/>
            <a:ext cx="5808600" cy="90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Планирование продаж</a:t>
            </a: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23640" y="1196640"/>
            <a:ext cx="655308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1С:Управление производственным предприятием поддерживает два основных принципа планирования продаж «снизу – вверх» и «сверху – вниз» 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Планирование «сверху – вниз» строится от укрупненного плана продаж в разрезе номенклатурных групп и подразделений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На основании укрупненного плана каждое подразделение формирует уточненный план с распределением товаров по номенклатурным группам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395280" y="3860640"/>
          <a:ext cx="8207280" cy="244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5280" y="3860640"/>
                    <a:ext cx="8207280" cy="244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8120" y="0"/>
            <a:ext cx="5808600" cy="90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Помощник планирования</a:t>
            </a: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24000" y="1197000"/>
            <a:ext cx="655308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4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При детализации планов помощник планирования позволяет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lvl="1" marL="136440" indent="-135000">
              <a:spcBef>
                <a:spcPts val="400"/>
              </a:spcBef>
              <a:spcAft>
                <a:spcPts val="601"/>
              </a:spcAft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Учитывать сезонность продаж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lvl="1" marL="136440" indent="-135000">
              <a:spcBef>
                <a:spcPts val="400"/>
              </a:spcBef>
              <a:spcAft>
                <a:spcPts val="601"/>
              </a:spcAft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Учитывать значимость товара в номенклатурной группе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lvl="1" marL="136440" indent="-135000">
              <a:spcBef>
                <a:spcPts val="400"/>
              </a:spcBef>
              <a:spcAft>
                <a:spcPts val="601"/>
              </a:spcAft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Задавать стратегии расчета количества и сумм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468360" y="2781360"/>
            <a:ext cx="4932360" cy="34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8120" y="0"/>
            <a:ext cx="5808600" cy="90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Управление оптовой торговлей</a:t>
            </a: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23640" y="1196640"/>
            <a:ext cx="655308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Удобный, интуитивно понятный интерфейс пользователя позволяет быстро оформить продажу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Гибкий механизм настройки контроля предоплаты позволяет реализовать любую схему взаимоотношений с покупателями: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lvl="1" marL="136440" indent="-135000">
              <a:spcBef>
                <a:spcPts val="400"/>
              </a:spcBef>
              <a:spcAft>
                <a:spcPts val="601"/>
              </a:spcAft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Продажи за наличный и безналичный расчет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lvl="1" marL="136440" indent="-135000">
              <a:spcBef>
                <a:spcPts val="400"/>
              </a:spcBef>
              <a:spcAft>
                <a:spcPts val="601"/>
              </a:spcAft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Товарный кредит и кредитные линии контрагентов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Механизм заказов покупателей позволяет гарантировать поставки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lvl="1" marL="136440" indent="-135000">
              <a:spcBef>
                <a:spcPts val="400"/>
              </a:spcBef>
              <a:spcAft>
                <a:spcPts val="601"/>
              </a:spcAft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За счет резервирования складских остатков и ожидаемых поступлений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lvl="1" marL="136440" indent="-135000">
              <a:spcBef>
                <a:spcPts val="400"/>
              </a:spcBef>
              <a:spcAft>
                <a:spcPts val="601"/>
              </a:spcAft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За счет своевременного оформления заказов поставщикам и на производство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8120" y="0"/>
            <a:ext cx="5808600" cy="90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Управление комиссионной торговлей</a:t>
            </a: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23640" y="1196640"/>
            <a:ext cx="655308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1С:Управление производственным предприятием содержит функциональные модули для автоматизации процессов комиссионной торговли и взаимоотношений предприятия с комитентами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lvl="1" marL="136440" indent="-135000">
              <a:spcBef>
                <a:spcPts val="400"/>
              </a:spcBef>
              <a:spcAft>
                <a:spcPts val="601"/>
              </a:spcAft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Автоматическое </a:t>
            </a:r>
            <a:br>
              <a:rPr sz="1600"/>
            </a:b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заполнение отчетов </a:t>
            </a:r>
            <a:br>
              <a:rPr sz="1600"/>
            </a:b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комитентам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lvl="1" marL="136440" indent="-135000">
              <a:spcBef>
                <a:spcPts val="400"/>
              </a:spcBef>
              <a:spcAft>
                <a:spcPts val="601"/>
              </a:spcAft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Расчет комиссионного </a:t>
            </a:r>
            <a:br>
              <a:rPr sz="1600"/>
            </a:b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вознаграждения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lvl="1" marL="136440" indent="-135000">
              <a:spcBef>
                <a:spcPts val="400"/>
              </a:spcBef>
              <a:spcAft>
                <a:spcPts val="601"/>
              </a:spcAft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Инвентаризация и </a:t>
            </a:r>
            <a:br>
              <a:rPr sz="1600"/>
            </a:b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переоценка комиссионных </a:t>
            </a:r>
            <a:br>
              <a:rPr sz="1600"/>
            </a:b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товаров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3564000" y="2421000"/>
            <a:ext cx="4859280" cy="36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8120" y="0"/>
            <a:ext cx="5808600" cy="90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Управление розничной торговлей</a:t>
            </a: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23640" y="1196640"/>
            <a:ext cx="655308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1С:Управление производственным предприятием позволяет автоматизировать работу подразделений, занимающихся розничной торговлей: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lvl="1" marL="136440" indent="-135000">
              <a:lnSpc>
                <a:spcPct val="90000"/>
              </a:lnSpc>
              <a:spcBef>
                <a:spcPts val="400"/>
              </a:spcBef>
              <a:spcAft>
                <a:spcPts val="601"/>
              </a:spcAft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Торговые залы в офисах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lvl="1" marL="136440" indent="-135000">
              <a:lnSpc>
                <a:spcPct val="90000"/>
              </a:lnSpc>
              <a:spcBef>
                <a:spcPts val="400"/>
              </a:spcBef>
              <a:spcAft>
                <a:spcPts val="601"/>
              </a:spcAft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Розничные магазины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i="1" lang="ru-RU" sz="1600" spc="-1" strike="noStrike">
                <a:solidFill>
                  <a:srgbClr val="1c1c1c"/>
                </a:solidFill>
                <a:latin typeface="Arial"/>
              </a:rPr>
              <a:t>Подсистема позволяет</a:t>
            </a:r>
            <a:r>
              <a:rPr b="0" i="1" lang="en-US" sz="16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i="1" lang="ru-RU" sz="1600" spc="-1" strike="noStrike">
                <a:solidFill>
                  <a:srgbClr val="1c1c1c"/>
                </a:solidFill>
                <a:latin typeface="Arial"/>
              </a:rPr>
              <a:t>вести</a:t>
            </a:r>
            <a:br>
              <a:rPr sz="1600"/>
            </a:br>
            <a:r>
              <a:rPr b="0" i="1" lang="ru-RU" sz="1600" spc="-1" strike="noStrike">
                <a:solidFill>
                  <a:srgbClr val="1c1c1c"/>
                </a:solidFill>
                <a:latin typeface="Arial"/>
              </a:rPr>
              <a:t>учет как торговых точек, ведущих </a:t>
            </a:r>
            <a:br>
              <a:rPr sz="1600"/>
            </a:br>
            <a:r>
              <a:rPr b="0" i="1" lang="ru-RU" sz="1600" spc="-1" strike="noStrike">
                <a:solidFill>
                  <a:srgbClr val="1c1c1c"/>
                </a:solidFill>
                <a:latin typeface="Arial"/>
              </a:rPr>
              <a:t>количественный товарный учет, </a:t>
            </a:r>
            <a:br>
              <a:rPr sz="1600"/>
            </a:br>
            <a:r>
              <a:rPr b="0" i="1" lang="ru-RU" sz="1600" spc="-1" strike="noStrike">
                <a:solidFill>
                  <a:srgbClr val="1c1c1c"/>
                </a:solidFill>
                <a:latin typeface="Arial"/>
              </a:rPr>
              <a:t>так и удаленных точек, ведущих </a:t>
            </a:r>
            <a:br>
              <a:rPr sz="1600"/>
            </a:br>
            <a:r>
              <a:rPr b="0" i="1" lang="ru-RU" sz="1600" spc="-1" strike="noStrike">
                <a:solidFill>
                  <a:srgbClr val="1c1c1c"/>
                </a:solidFill>
                <a:latin typeface="Arial"/>
              </a:rPr>
              <a:t>только суммовой учет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Поддержка широкого спектра электронного торгового оборудования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Для интенсивной розничной торговли с особыми требованиями к эргономике рабочего места кассира </a:t>
            </a: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— </a:t>
            </a: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интеграция со специализированной системой автоматизации розничной торговли «1С:Розница 8»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4211640" y="1844640"/>
            <a:ext cx="4537080" cy="286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1T10:55:42Z</dcterms:created>
  <dc:creator>0</dc:creator>
  <dc:description/>
  <dc:language>en-US</dc:language>
  <cp:lastModifiedBy>Yakovlev_AV</cp:lastModifiedBy>
  <dcterms:modified xsi:type="dcterms:W3CDTF">2012-02-06T11:35:34Z</dcterms:modified>
  <cp:revision>898</cp:revision>
  <dc:subject/>
  <dc:title>Слайд 1</dc:title>
</cp:coreProperties>
</file>