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8.jpeg" ContentType="image/jpe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8.png" ContentType="image/png"/>
  <Override PartName="/ppt/media/image46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3.png" ContentType="image/png"/>
  <Override PartName="/ppt/media/image24.wmf" ContentType="image/x-wmf"/>
  <Override PartName="/ppt/media/image63.png" ContentType="image/png"/>
  <Override PartName="/ppt/media/image28.png" ContentType="image/png"/>
  <Override PartName="/ppt/media/image31.wmf" ContentType="image/x-wmf"/>
  <Override PartName="/ppt/media/image62.jpeg" ContentType="image/jpeg"/>
  <Override PartName="/ppt/media/image11.wmf" ContentType="image/x-wmf"/>
  <Override PartName="/ppt/media/image50.png" ContentType="image/png"/>
  <Override PartName="/ppt/media/image61.png" ContentType="image/png"/>
  <Override PartName="/ppt/media/image33.jpeg" ContentType="image/jpe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66.png" ContentType="image/png"/>
  <Override PartName="/ppt/media/image29.png" ContentType="image/png"/>
  <Override PartName="/ppt/media/image14.png" ContentType="image/png"/>
  <Override PartName="/ppt/media/image5.wmf" ContentType="image/x-wmf"/>
  <Override PartName="/ppt/media/image18.wmf" ContentType="image/x-wmf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19.wmf" ContentType="image/x-wmf"/>
  <Override PartName="/ppt/media/image7.wmf" ContentType="image/x-wmf"/>
  <Override PartName="/ppt/media/image54.jpeg" ContentType="image/jpeg"/>
  <Override PartName="/ppt/media/image8.wmf" ContentType="image/x-wmf"/>
  <Override PartName="/ppt/media/image40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7E54-6F22-4E83-8C06-A88E2B7DA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–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финансового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рисками неплатежеспособности компании связано с разработкой и контролем лимитов по различным статьям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едуя принципу «предупрежден - значит вооружен», 1С:Управление производственным предприятием предлагает действенные инструменты управления оборотным капит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атриваемые темы данного раздела презент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обязательст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оцедуры управления денежными средств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контролируемых парамет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1С:Управление производственным предприятием обеспечивает проведение целого ряда мероприятий, повышающих эффективность использ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оротного капитала в целом через планирование и обеспечение прозрач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применением бюдж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вершенствованием управленческ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пасов через сокращение их объема и сокращение затрат на финансирование приобрет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нахождение и сокращение неликвидных запа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совершенствование методики за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ебиторской задолженности путем повышения оборачиваемости и улучшения ликвид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изменение системы мотиваци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редиторской задолженности  через сокращение объема оплат при сохранении качества результа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оценка эффективности работы с поставщ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ь просроченной задолженности и минимизация рисков ее возникновения является одной из ключевых задач финансов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контролировать фактическую (отчет «Ведомость по взаиморасчетам с контрагентами» и основной набор отчетов представленных на слайде) и отложенную задолженность (отчет «Ведомость по расчетам с контрагентами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детальное представление о состоянии взаиморасчетов с контрагентами (по всем видам возникших обязательств) позволяет целая гамма отч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по кли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олженность по контраг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ебиторская задолженность по интервал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Дебиторская задолженность по срокам дол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заиморасчеты с комиссионер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заиморасчеты с комит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Отчет по кредитно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ступность денежных средств определяется через выполнения баланса денежных средств, который можно контролировать отчётом «Анализ доступности денежных средств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от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статки денежных средств на расчетных счетах и в кас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ыписанные, но не оплаченные на момент отчета платежные докумен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резервированные по заявкам денежные сре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жидаемые к поступлению платеж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дефиците денежных средств под поступившие и утвержденные заявки предусмотрена возможность планировать расходы под предстоящие поступления денег на расчетные счета предприятия или в касс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используется двухступенчатая схема оформления денежны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ервая ступен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намерения об изменении состояния денежных средств регистрируются заявками на расходование денежных средств или планированием поступлений денежных средст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решение об оплате фиксируется резервированием средств под заявку в конкретном месте хра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торая ступен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на основании первичных документов отражается факт платежа или поступ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платежи можно выполнить через программу типа «Банк-клиент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зультате данного подхода действия пользователя по расходованию денежных средств являются предопределенными. Снижается вероятность "операторской" ошибки, реализована система контроля испол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ируемые значения могут быть двух ви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целевые – анализируем достижение ими определенных знач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ивающие – например, контроль превышения бюджетных оборотов над установленной нор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ируемые значения используются как при планировании оборотов по статьями, так и при фактическом расходовании средств по заявк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ь выполняется только по суммовым оборотам, количественные обороты не контролиру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достижении контролируемого значения в ходе выполнения бюджетной транзакции выводится предупреждение, проведение блокируется. Для продолжения работы необходимо либо изменить сумму, либо отказаться от пр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два конкретных примера, показывающие, что 1С:Управление производственным предприятием предлагает пользователю не посмертный учет, а живую информацию, на основе которой можно эффективно планировать работу финансов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й пример показывает механизм исполнения бюджета при изменении влияющих факторов, «пошаговая»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оверить соответствие статей БДДС лимитам (БДР, инвестиционные бюдж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ценить целесообразность проводимых расходов и перерасходов (сравнить с производственной программ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ить лимит денежных средств на конец периода (на случай непредвиденных расход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 допустить «кассовых» разры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пример более операционный и показывает контроль расходования денежных сред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онтроль платежей перед осуществлением платежей (заявка на платеж должна соответствовать БДДС) – контроль на «входе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жедневная обработка банковской выписки и занесения факта в БДДС – контроль на «выходе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ценка качества исполнения: все платежи бизнес-единицы должны соответствовать БД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звестные пословицы «Знание–сила» и «Предупрежден, значит вооружен» можно считать эпиграфом к следующему разделу нашей презентации. 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ысвобождает ресурсы, создавая предприятию запас прочности. Анализируя затраты, выделяем следующие важные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пределение системы налогообложения и соблюдение законодательных требований по классификации затрат в целях налогооб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ормирование затрат на основании данных о структуре изготавливаемого изде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расчета и управления себестоимостью выпускаемой продук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щие механизмы, задающие правила управления затра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ребуемые налоговые режимы задаются путем выбора в настройках «Учетной полити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 детальный учет по налогу на добавленную стоимость (НД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ставлено большое количество форм регламентированной (бухгалтерской и налоговой) отчетности и механизмов их автоматического заполнения на основании учет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составляющие успешной деятельности руководителя при исполнении стратегических целей в финансовой политике компании требуют обязательной поддержки инструментами информационных технологий. Рассмотрим следующие раздел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азработка и использование ключевых показ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ение оборотным капита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вышение отдачи от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е продукты Фирмы «1С» предназначены для информационной поддержки успешной реализации каждой из этих задач. 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Представлены инструменты управления составом затрат, включаемых в себестоимость конкретной проду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ормирование прямых материальных затрат выполняется по спецификациям номенклатуры выпускаемых изделий или услуг. Для удобства визуального восприятия данные о структуре изделия можно представить в виде дерева специфика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предусмотрен независимый автоматизированный расчет себестоимости выпуска по управленческому, бухгалтерскому и налоговому учет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ле расчета фактической себестоимости выпуска проводится план-фактный анализ отклон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о момента расчета фактической себестоимости доступно ведение учета по плановым ценам выпус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асчет налогооблагаемой базы по налогу на прибыль выполняется по месячному отчетному пери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еспечена гибкая система настройки способов распределения всех затрат инструментами пользователя без изменения программного к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ючевой результат проекта автоматизации состоит в том, чтобы финансовой службе уйти от трудоемких и ненадежных (с точки зрения достоверности) методов учета, оптимизировать систему мотивации персонала, завязать систему оплаты на ключевы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достигается за счет применения следующих механизм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ования регламентированных в рамках предприятия инструмент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аживания устойчивых и надежных каналов коммуникаций между сотрудн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дания и применения объективных показателей мотиваци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тойчивые и надежные коммуникации при внедре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формация доступна одновременно во всех местах, где она необходи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дновременное использование преимуществ централизации и децентр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принятие решений каждым ответственным сотрудник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сонал может отправлять и получать информацию независимо от своего местонахо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ланы пересматриваются незамедлительно по мере необход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оценить и сопоставить работу менеджеров, отвечающих за продажи и работу с клиентами, по целому ряду объективных показ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эффициенту удержания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личеству выполненных заказов,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изложенного подхода лежит разделение всех затрат на единовременные (собственно работы по запуску информационной системы в промышленную эксплуатацию) и текущие, к которым относятся затраты на эксплуатацию и сопровождение. 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проекта создания информационно-управленческой системы на базе 1С:Управление производственным предприятием повышает инвестиционную привлекательность и капитализацию компании за сче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я качественной системы управления бизнес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я прозрачности для инвес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я сохранности конфиденциаль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ддержки стратегии развития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изкой совокупной стоимости вла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быстрой окупаемости инвести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срок окупаемости проекта от 1 года до 2 л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в диапазоне от 2 до 3,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ысоких финансовых и экономических результа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1. снижение объема привлечения краткосрочных финансовых ресурс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2. увеличение оборачиваемости денежных средств до 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3. сокращение затрат на приобретение и хранение сырья и материал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4. снижение объема незавершенного производства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«1С:Управление производственным предприятием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1С:Управление производственным предприятием подтверждена многочисленными отзывами пользователей данного решения. Тамара Сергеевна Шушпанова, генеральный директор ЗАО ЦП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айлова Яна Анатольевна, финансовый директор «TORPAL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становив систему,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ючевые конкурентные преимущества программного продук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мках одной программы осуществляется планирование показателей и автоматическое их сравнение с фактическими данными управленческой системы. В 1С:Управление производственным предприятием представлены отчеты, разработанные с применением самых популярных показателей финансового менедж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ение возможностей программного продукта проведем по следующим тем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рганизация бюджетного процесса на предприят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струменты финансового анали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ждународная система финансовой отчетности (МСФ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«Бюджетирование» один из основных механизмов построения и ведения управленческого учета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струменты подсисте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именение разнообразных методик построения бюджетов без программных изменений, работа со множеством валю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различных версий бюдж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в разрезе сценариев (пессимистичный, оптимистичный, реалистичны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с детализацией по периодам (месячные, квартальные, годовы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с выбранной аналитикой (расшифровка показателей до конкретных контрагентов, позиций номенклатуры, проектов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занесение и получение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выгрузка данных из других подсистем программы и ручное занес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автоматизированный ввод данных (обработка «Пакетный ввод данных» создает документы со схожими реквизитами за определенный отрезок времен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мощный механизм формирования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й продукт 1C:Управление производственным предприятием позволяет с необходимой детализацией прогнозировать результаты финансово-экономической деятельности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тчете «Агрегированный аналитический баланс» можно рассчитать результаты при различных сценариях развития экономической действитель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казатели фактической деятельности предприятия («взгляд в прошло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эффективности принимаемых решений на основании запланированных данных («оценка будущего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. Данные показатели представлены в отче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доходности и рентабельности ФХ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BDE2-246C-4A7C-974A-08A30AC9AABC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jpeg"/><Relationship Id="rId20" Type="http://schemas.openxmlformats.org/officeDocument/2006/relationships/image" Target="../media/image52.jpeg"/><Relationship Id="rId21" Type="http://schemas.openxmlformats.org/officeDocument/2006/relationships/image" Target="../media/image53.png"/><Relationship Id="rId22" Type="http://schemas.openxmlformats.org/officeDocument/2006/relationships/image" Target="../media/image54.jpeg"/><Relationship Id="rId23" Type="http://schemas.openxmlformats.org/officeDocument/2006/relationships/image" Target="../media/image55.jpe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jpeg"/><Relationship Id="rId27" Type="http://schemas.openxmlformats.org/officeDocument/2006/relationships/image" Target="../media/image59.png"/><Relationship Id="rId28" Type="http://schemas.openxmlformats.org/officeDocument/2006/relationships/image" Target="../media/image60.jpeg"/><Relationship Id="rId29" Type="http://schemas.openxmlformats.org/officeDocument/2006/relationships/image" Target="../media/image61.png"/><Relationship Id="rId30" Type="http://schemas.openxmlformats.org/officeDocument/2006/relationships/image" Target="../media/image62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финансового д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4046400"/>
            <a:ext cx="2735280" cy="2345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077840" y="0"/>
            <a:ext cx="5799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СФО — Интеграция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85840" y="1062000"/>
            <a:ext cx="6538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320760" y="6164280"/>
            <a:ext cx="4943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28800" y="2149560"/>
          <a:ext cx="7126200" cy="40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2149560"/>
                    <a:ext cx="71262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правление рисками неплатежеспособ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24000" y="984240"/>
            <a:ext cx="65530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правление рисками неплатежеспособности компании связано с разработкой и контролем лимитов по различным статьям расходо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ледуя принципу «предупрежден - значит вооружен»,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лагает действенные инструменты управления оборотным капиталом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2852640"/>
          <a:ext cx="74487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52640"/>
                    <a:ext cx="7448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абота на результат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324000" y="1206360"/>
            <a:ext cx="6119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струменты информационной системы обеспечиваю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989000"/>
          <a:ext cx="8470800" cy="4343400"/>
        </p:xfrm>
        <a:graphic>
          <a:graphicData uri="http://schemas.openxmlformats.org/drawingml/2006/table">
            <a:tbl>
              <a:tblPr/>
              <a:tblGrid>
                <a:gridCol w="2423880"/>
                <a:gridCol w="3043440"/>
                <a:gridCol w="3003480"/>
              </a:tblGrid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учаемая выгода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05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й капитал в целом</a:t>
                      </a: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именение бюджетирования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й капитал становится планируемой величиной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вершенствование управленческой отчетности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озрачность оборотного капитала. Ясность причин неблагоприятных отклонений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9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ахождение и сокращение неликвидных запасов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пасов. Высвобождение денежных средств. Сокращение затрат на финансирование.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Методика оценки и регламент закупки сырья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озрачный процесс закупки. Экономия денежных средств на закупку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ебиторская задолженность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зменение системы мотивации менеджеров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оборачиваемости и ликвидности дебиторской задолженности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редиторская задолженность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ценка эффективности работы с поставщиком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объема оплат при том же качественном результате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росроченную задолженность — под контроль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24000" y="1052640"/>
            <a:ext cx="82674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Анализ выполняется по фактической или отложенной </a:t>
            </a:r>
            <a:br>
              <a:rPr sz="1600"/>
            </a:b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задолженности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 «Ведомость по взаиморасчетам с контрагентами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 «Ведомость по расчетам с контрагентами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38040" y="1724040"/>
            <a:ext cx="4508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024520" y="17114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24000" y="241632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олучить детальное представление о состоянии взаиморасчетов с контрагентами позволяет целая гамма отчетов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по кли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долженность по контраг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ебиторская задолженность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интервал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ебиторская задолженность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срокам долг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расчеты с комиссионер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расчеты с комитент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по кредитной ли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3914640" cy="3332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оротный капитал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нализ доступ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17440" y="1773360"/>
            <a:ext cx="850428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статки денежных средств на расчетных счетах и в кассах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писанные, но не оплаченные на момент отчета платежные докумен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резервированные по заявкам денежные сред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жидаемые к поступлению платежи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84240" y="3541680"/>
            <a:ext cx="7459560" cy="2968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5" name="Rectangle 7"/>
          <p:cNvSpPr/>
          <p:nvPr/>
        </p:nvSpPr>
        <p:spPr>
          <a:xfrm>
            <a:off x="324000" y="1079640"/>
            <a:ext cx="739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ё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нализ доступности денежных средств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оказывает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аланс денежных средств: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3213000"/>
            <a:ext cx="2160720" cy="1224000"/>
          </a:xfrm>
          <a:prstGeom prst="wedgeRectCallout">
            <a:avLst>
              <a:gd name="adj1" fmla="val 59773"/>
              <a:gd name="adj2" fmla="val 104476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дефиците планируем расходы под предстоящие поступления денег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3191040"/>
            <a:ext cx="5754600" cy="325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1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формление денежных операций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24000" y="988920"/>
            <a:ext cx="6553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используется двухступенчатая схема оформления денежных операций: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00720" y="1803240"/>
            <a:ext cx="41749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основании первичных документов отражается факт платежа или поступлен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19240" y="1816200"/>
            <a:ext cx="442404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мерения об изменении состояния денежных средств регистрируются заявками на расходование денежных средств или планированием поступлений денежных средств.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675240" y="3187800"/>
            <a:ext cx="4784400" cy="3105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Контролируемые параметры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93760" y="1298520"/>
            <a:ext cx="812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19240" y="1125360"/>
            <a:ext cx="79437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ируемые значения могут быть двух вид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целевые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анализ их достиж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граничивающие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контроль превышения бюджетных оборото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д установленной нормо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ируемые значения используются как при планировании оборото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статьями, так и при фактическом расходовании средств по заявк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выполняется только по суммовым оборотам, количественные обороты не контролируютс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достижении контролируемого значения в ходе выполнения бюджетной транзакции выводится предупреждение, проведение блокируется. Для продолжения работы необходимо либо изменить сумму, либо отказаться от прове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81160" y="3178080"/>
            <a:ext cx="8121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44520" y="3284640"/>
            <a:ext cx="8121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4520" y="5210280"/>
            <a:ext cx="81849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2421000"/>
            <a:ext cx="4032000" cy="3240000"/>
          </a:xfrm>
          <a:prstGeom prst="roundRect">
            <a:avLst>
              <a:gd name="adj" fmla="val 4556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21000"/>
            <a:ext cx="4176720" cy="3240000"/>
          </a:xfrm>
          <a:prstGeom prst="roundRect">
            <a:avLst>
              <a:gd name="adj" fmla="val 4556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римеры организации контрол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716360" y="1847880"/>
            <a:ext cx="4148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Осуществить контроль расходования денежных средст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324000" y="5745240"/>
            <a:ext cx="849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 посмертный учет, а живая информация — на ее основе можно эффективно планировать работу финансовой службы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24000" y="1844640"/>
            <a:ext cx="3873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Исполнить бюджет при изменении влияющих фак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692600" y="2492280"/>
            <a:ext cx="4032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платежей перед осуществлением платежей (заявка на платеж должна соответствовать БДДС) — контроль на «входе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Ежедневная обработка банковской выписки и занесения факта в БДДС — контроль на «выходе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ценка качества исполнения: все платежи бизнес-единицы должны соответствовать БДД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2492280"/>
            <a:ext cx="4044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верить соответствие статей БДДС лимитам (БДР, инвестиционные бюджеты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ценить целесообразность проводимых расходов и перерасходов (сравнить с производственной программо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ть лимит денежных средств на конец периода (на случай непредвиденных расходов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е допустить «кассовых» разры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Знать и управлят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24000" y="1096920"/>
            <a:ext cx="65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систематизацию данных о своем бизнесе, но и настроил механизмы упреждающего реагирования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высвобождает ресурсы, создавая предприятию запас прочности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47800" y="2924280"/>
          <a:ext cx="7448400" cy="29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924280"/>
                    <a:ext cx="74484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ланируем налоговые платеж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3348000" y="1884240"/>
            <a:ext cx="5519880" cy="3632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3" name="Picture 16" descr="Учетная политика_НДС"/>
          <p:cNvPicPr/>
          <p:nvPr/>
        </p:nvPicPr>
        <p:blipFill>
          <a:blip r:embed="rId3"/>
          <a:stretch/>
        </p:blipFill>
        <p:spPr>
          <a:xfrm>
            <a:off x="3346560" y="2697120"/>
            <a:ext cx="5521320" cy="3597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4" name="Rectangle 18"/>
          <p:cNvSpPr/>
          <p:nvPr/>
        </p:nvSpPr>
        <p:spPr>
          <a:xfrm>
            <a:off x="219240" y="1079640"/>
            <a:ext cx="30319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программе поддерживаются различные системы налогообложения: общий режим, УСН и ЕНВ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219240" y="2133720"/>
            <a:ext cx="3031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 детальный учет по налогу на добавленную стоимость (НДС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219240" y="2997360"/>
            <a:ext cx="31208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ставлено большое количество форм налоговой отчетности и механизмов их автоматического заполнения на основании учет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419800" y="2668680"/>
            <a:ext cx="3454200" cy="3782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ое обеспечение бизнес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203480"/>
            <a:ext cx="65721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сновные составляющие успешной деятельности руководителя при исполнении стратегических целей в финансовой политике компании требуют обязательной поддержки инструментами информационных технологий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7280" y="4514760"/>
            <a:ext cx="83901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успешной реализации каждой из этих задач предназначены программные продукты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лагманским решением линейки является конфигурац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знакомимся с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38360" y="249228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249228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36720" y="2679840"/>
          <a:ext cx="168912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267984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22680" y="268128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268128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8640" y="2671920"/>
          <a:ext cx="1689120" cy="114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267192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294600" y="2671920"/>
          <a:ext cx="168876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2671920"/>
                    <a:ext cx="1688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Нормативное управление производств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266760" y="1008000"/>
            <a:ext cx="85532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редоставляет                       широкие возможности ведения нормативно-справочной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и о структуре изделия и позволяет управлять составом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ключаемых в его себестоимость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тра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231840" y="2708280"/>
            <a:ext cx="35402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635280" y="2228760"/>
            <a:ext cx="5180040" cy="3845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2" name="Rectangle 18"/>
          <p:cNvSpPr/>
          <p:nvPr/>
        </p:nvSpPr>
        <p:spPr>
          <a:xfrm>
            <a:off x="219240" y="4059360"/>
            <a:ext cx="3539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231840" y="5083200"/>
            <a:ext cx="35402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5183280" cy="3120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15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37080" y="299736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асчет себестоим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31840" y="1373040"/>
            <a:ext cx="8296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едусмотрен независимый автоматизирован-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ый расчет себестоимости выпуска по управленческому, бухгалтерском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налоговому учет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 расчета фактической себестоимости выпуска проводится план-фактный анализ отклон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налогооблагаемой базы по налогу на прибыль выполняется по месячному отчетному период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 момента расчета фактической себестоимости доступно ведение учета по плановым ценам выпус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гибкая система настройки способов распределения всех затрат инструментами пользователя без изменения программного ко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вышение эффективности персонала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делай больше меньшими средствам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24000" y="1111320"/>
            <a:ext cx="65530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ой результат проекта автоматизации состоит в том, чтобы финансовой службе уйти от трудоемких и ненадежных (с точки зрения достоверности) методов учета,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тимизировать систему мотивации персонала, завязать систему оплаты на ключевые показател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47800" y="278136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78136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дача от персонала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стойчивые и надежные каналы коммуникаций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324000" y="108576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едр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овышает рыночную стоимость компании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994040"/>
          <a:ext cx="8516520" cy="4114800"/>
        </p:xfrm>
        <a:graphic>
          <a:graphicData uri="http://schemas.openxmlformats.org/drawingml/2006/table">
            <a:tbl>
              <a:tblPr/>
              <a:tblGrid>
                <a:gridCol w="4286160"/>
                <a:gridCol w="42303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т чего уходим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Что получаем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нформация доступна только в установленном месте и в одно время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нформация доступна одновременно во всех местах, где она необходима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мпании должны выбирать между централизацией и децентрализацией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дновременное использование преимуществ централизации и децентрализаци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ешения принимаются ответственными менеджерам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инятие решений есть часть работы каждого сотрудника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евой персонал нуждается в офисах для получения, хранения, обработки и передачи информаци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евой персонал может отправлять и получать информацию независимо от своего местонахождения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ланы пересматриваются от случая к случаю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ланы пересматриваются незамедлительно по мере необходимост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дача от персонала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бъективные показатели мотиваци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324000" y="1130400"/>
            <a:ext cx="806436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br>
              <a:rPr sz="20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зволяет оценить и сопоставить работу менеджеров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целому ряду показателей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полноте заполнения базы данных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контактов с покупателя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эффициенту удержания покуп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выполненных заказов, объемам продаж и принесенной прибыл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24000" y="2482920"/>
            <a:ext cx="48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698400" y="5033880"/>
            <a:ext cx="74707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4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237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информационную систему</a:t>
            </a:r>
            <a:br>
              <a:rPr sz="1800"/>
            </a:b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4000" y="1773360"/>
          <a:ext cx="8618400" cy="4633920"/>
        </p:xfrm>
        <a:graphic>
          <a:graphicData uri="http://schemas.openxmlformats.org/drawingml/2006/table">
            <a:tbl>
              <a:tblPr/>
              <a:tblGrid>
                <a:gridCol w="7044480"/>
                <a:gridCol w="1573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042920" y="-106200"/>
            <a:ext cx="610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14200" y="1344600"/>
            <a:ext cx="7196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19240" y="2530440"/>
            <a:ext cx="5972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6572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60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279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285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288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08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зывы пользов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877080" y="1878120"/>
            <a:ext cx="1798560" cy="504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2448000" cy="1917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4211640" y="4005360"/>
            <a:ext cx="388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Измайлова Яна Анатольевна,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183200" y="4462560"/>
            <a:ext cx="43592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Установив систему,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</a:t>
            </a:r>
            <a:br>
              <a:rPr sz="1400"/>
            </a:b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мы раньше и не мечтали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24000" y="932040"/>
            <a:ext cx="655308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357120" y="4462560"/>
            <a:ext cx="37609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61800" y="4005360"/>
            <a:ext cx="3551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Тамара Сергеевна Шушпанова, генеральный директор ЗАО ЦПТ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2597040" cy="1931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059280" y="1916280"/>
            <a:ext cx="10378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97000" y="1260360"/>
            <a:ext cx="786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го 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24000" y="2025720"/>
            <a:ext cx="736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13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16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менеджмент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24000" y="1055520"/>
            <a:ext cx="655308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рамках одной программы осуществляется планирование показателей и автоматическое их сравнение с фактическими данными управленческой системы.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ставлены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ы, разработанные с применением самых популярных показателей финансового менеджмент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2924280"/>
          <a:ext cx="7448400" cy="29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24280"/>
                    <a:ext cx="74484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Бюджетирование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4000" y="1011240"/>
            <a:ext cx="789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струменты подсистемы бюджетирования в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924280"/>
            <a:ext cx="81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5280" y="4460760"/>
            <a:ext cx="81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895320" y="4791240"/>
            <a:ext cx="788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24000" y="6858000"/>
            <a:ext cx="845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24000" y="1916280"/>
            <a:ext cx="8559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именение разнообразных методик построения бюджетов без программных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изменений,</a:t>
            </a:r>
            <a:r>
              <a:rPr b="1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работа со множеством валют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Формирование различных версий бюдже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зрезе сценариев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(пессимистичный, оптимистичный, реалистичный)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детализацией по периодам (месячные, квартальные, годовые и т.д.)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выбранной аналитикой (расшифровка показателей до конкретных контрагентов,  позиций номенклатуры, проектов и т.д.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Оперативное занесение и получение данны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грузка данных из других подсистем программы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учное занес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зированный ввод данных (обработка "Пакетный ввод данных» создает документы со схожими реквизитами за определенный отрезок времени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Мощный механизм формирования отче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анализ — аналитический балан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09520" y="1238400"/>
            <a:ext cx="36003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й продукт позволяет с необходимой детализацией прогнозировать результаты финансово-экономической деятельности предприятия.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грегированный аналитический баланс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можно рассчитать результаты при различных сценариях развития экономической действительност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казатели фактической деятельности предприятия («взгляд в прошлое»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з эффективности принимаемых решений на основании запланированных данных («оценка будущего»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79360" y="3838680"/>
            <a:ext cx="32734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254160" y="5076720"/>
            <a:ext cx="3249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417920" cy="463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анализ — финансовые коэффициенты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4000" y="1052640"/>
            <a:ext cx="655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225360" y="4765680"/>
            <a:ext cx="29656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225360" y="2192400"/>
            <a:ext cx="3051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225360" y="2957400"/>
            <a:ext cx="3013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225360" y="3946680"/>
            <a:ext cx="2965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70320" y="226224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367080" y="2876400"/>
            <a:ext cx="5384880" cy="221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70320" y="321948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368520" y="371160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Финансовый анализ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показатели эффектив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4000" y="1066680"/>
            <a:ext cx="6553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и произведенных затрат.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пециализированный инструмен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нитор эффективност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22120" y="2333520"/>
            <a:ext cx="37832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стройка нескольких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10200" y="2284560"/>
            <a:ext cx="4406760" cy="41925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МСФО — Конкурентные преимуществ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47680" y="1004760"/>
            <a:ext cx="6673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граммн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76120" y="299232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76120" y="4338720"/>
            <a:ext cx="8580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96840" y="2664000"/>
            <a:ext cx="250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2166840" y="26575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05:50:25Z</dcterms:modified>
  <cp:revision>925</cp:revision>
  <dc:subject/>
  <dc:title>Слайд 1</dc:title>
</cp:coreProperties>
</file>